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22CE-7635-4871-B711-687AB3883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D1D8-D294-4A70-A935-5FBD7ACE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ABFC-5B02-47C4-844B-E4E27A266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3D0F-D858-4E88-8A96-77DECCA2F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67FC-3BAD-4736-B2C4-CB0F715D8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0D76-8EF5-4978-A73D-E26CF3F1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2B52-9B16-40A0-AE54-362446BC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76D2-C9FE-4890-BF05-2F253E23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0EFD-52CC-4A51-A61A-08190530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CEDA-2D6D-4568-96A4-C3D6628D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A026-A2B2-4FEA-8387-CF26CFF9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A163-8574-46CB-B2B5-CE5AE890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4A6E-99A0-4387-8C58-1B56E4AF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2076-D771-4422-9B42-17FC6D53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74E7-299D-4A2A-A207-91A18B4C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E149-349D-46D9-ACAC-A42CA65BF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844B-8A82-4526-BB3E-48F125535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FC3A-EDA7-430C-B31E-EEE1127D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838B-A0F9-416D-801A-7823D9DE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79FE-8F3F-42CA-8670-1F1CB5AD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DDF0-98BE-4D63-B174-F1F91A5A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0867-E833-452B-82FA-32574A43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FDE4-E22F-46F0-A02E-1BDE478C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9D1C-54A3-4B15-A049-15D05C95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EBBA-967C-49C1-BAFB-9BBAEDDC5A8B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2060-7B59-4569-A4EC-BC078596ADC2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121C-1A45-4B51-AD5F-FC076068CA8A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9EC8-5311-4D37-BAA0-E2B17310E6FD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Diagram 3" descr=""/>
          <p:cNvPicPr/>
          <p:nvPr/>
        </p:nvPicPr>
        <p:blipFill>
          <a:blip r:embed="rId2"/>
          <a:stretch/>
        </p:blipFill>
        <p:spPr>
          <a:xfrm>
            <a:off x="401760" y="590400"/>
            <a:ext cx="8265960" cy="1714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y Benhardt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ndra Birnley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y Christie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ke Drescher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ise Feldmeyer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ma Malam Mamadou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linn Schantz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Diagram 3" descr=""/>
          <p:cNvPicPr/>
          <p:nvPr/>
        </p:nvPicPr>
        <p:blipFill>
          <a:blip r:embed="rId2"/>
          <a:stretch/>
        </p:blipFill>
        <p:spPr>
          <a:xfrm>
            <a:off x="401760" y="603360"/>
            <a:ext cx="8265960" cy="1689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was your high school like? 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 factors such as: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ricula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dule/Structure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cilities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ent Issues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s 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Diagram 3" descr=""/>
          <p:cNvPicPr/>
          <p:nvPr/>
        </p:nvPicPr>
        <p:blipFill>
          <a:blip r:embed="rId2"/>
          <a:stretch/>
        </p:blipFill>
        <p:spPr>
          <a:xfrm>
            <a:off x="401760" y="590400"/>
            <a:ext cx="8265960" cy="17020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for Social Statu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cognitive ability/Capacity for abstract though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gotiating competing influences: peers, parents, teache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rns about the futur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erform tasks with real-world applica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sible consequence: high-risk behavio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Diagram 3" descr=""/>
          <p:cNvPicPr/>
          <p:nvPr/>
        </p:nvPicPr>
        <p:blipFill>
          <a:blip r:embed="rId2"/>
          <a:stretch/>
        </p:blipFill>
        <p:spPr>
          <a:xfrm>
            <a:off x="438120" y="360360"/>
            <a:ext cx="8267760" cy="14749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sponsible for up to 180 students at a time;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lass sizes often too big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tandards, testing, and other requirements don’t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lways correlate with students’ needs or utilize  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eacher expertis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Limited opportunities for teacher collaboratio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ometimes under-valued and under-appreciated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by students, administration, and community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ll year to prep, but only 180 days to teach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Diagram 3" descr=""/>
          <p:cNvPicPr/>
          <p:nvPr/>
        </p:nvPicPr>
        <p:blipFill>
          <a:blip r:embed="rId2"/>
          <a:stretch/>
        </p:blipFill>
        <p:spPr>
          <a:xfrm>
            <a:off x="438120" y="360360"/>
            <a:ext cx="8267760" cy="14749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ules, discipline, &amp; structure to keep school safe &amp; accessible for students and staff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oo many urban &amp; suburban schools have issues with drugs, violence, gangs, and achievemen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chools required to accommodate large, diverse student populations in a limited space with limited resource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lso have to meet expectations of parents, state, school board, and community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chools often community centers, too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Diagram 3" descr=""/>
          <p:cNvPicPr/>
          <p:nvPr/>
        </p:nvPicPr>
        <p:blipFill>
          <a:blip r:embed="rId2"/>
          <a:stretch/>
        </p:blipFill>
        <p:spPr>
          <a:xfrm>
            <a:off x="438120" y="360360"/>
            <a:ext cx="8267760" cy="1474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cademic Research/Reports filtering into mass media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chools should provide experiences that enhance citizenship and sense of responsibility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areer development through vocational guidance, vocational education or additional academic developmen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Get students to be self-directed, lifelong learner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Encourage the development and practice of critical thinking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Diagram 3" descr=""/>
          <p:cNvPicPr/>
          <p:nvPr/>
        </p:nvPicPr>
        <p:blipFill>
          <a:blip r:embed="rId2"/>
          <a:stretch/>
        </p:blipFill>
        <p:spPr>
          <a:xfrm>
            <a:off x="438120" y="360360"/>
            <a:ext cx="8267760" cy="1474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n your Think, Pair, Share groups, discuss factors of your high school that you would revise and those you would keep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15:19:43Z</dcterms:created>
  <dc:creator>New User</dc:creator>
  <dc:description/>
  <dc:language>en-US</dc:language>
  <cp:lastModifiedBy>Gayle Thieman</cp:lastModifiedBy>
  <dcterms:modified xsi:type="dcterms:W3CDTF">2009-06-09T03:48:23Z</dcterms:modified>
  <cp:revision>12</cp:revision>
  <dc:subject/>
  <dc:title>Slide 1</dc:title>
</cp:coreProperties>
</file>