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BEC-BEBA-4258-A61F-EA8B3F62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49E-F076-4DA7-8DB8-D8AF16AC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D8B-FCBC-4723-AFA7-CA19F67F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5D2-5A90-4E26-99A5-3EE4699B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12DC-0B60-4567-9A86-CEDAA4B4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DE48-0715-449F-8D9C-82670462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06DD-CC54-479D-8E0D-6EA33884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4EFB-963B-400E-8D24-D901D0E2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6E83-0FA0-418B-B235-24F1B627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1D63-7DC4-46F6-82CA-7CEAE2A7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D398-7AD6-41E9-B900-7EF7ACE8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D93-1955-4274-9EDD-64258C7A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4342-C0E9-4627-8CA7-4EFC3ED2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ADD6-BC72-4349-9323-8FB00374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FFF6-C5D3-473D-9EEA-C38DF8E6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B1CB-DD49-4B71-AA01-5EC1AAC6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1CCB-5139-49EB-8034-218EE9A8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4B7-5057-4D04-A063-F0F2391F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475-F0F5-49F4-A092-44B51208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BCD-CDC6-435F-83C4-51E2DD26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34A-77BE-4202-A79E-BAB65E84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0C6-0B62-48B7-BB8C-35B6FC42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F20-91C7-4756-A337-68361102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8D5-642A-4C58-930B-F961097D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28A5-7D66-4B7E-91CF-FDD05946488D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ED48-5DAC-495B-9582-A9652CBEAAE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8654-4815-4DE6-9D3C-0F843642D48E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3A66-7D52-4125-BA26-F53A66630E6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Diagram 3" descr=""/>
          <p:cNvPicPr/>
          <p:nvPr/>
        </p:nvPicPr>
        <p:blipFill>
          <a:blip r:embed="rId2"/>
          <a:stretch/>
        </p:blipFill>
        <p:spPr>
          <a:xfrm>
            <a:off x="401760" y="590400"/>
            <a:ext cx="8265960" cy="1714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y Benhardt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ndra Birnley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y Christie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ke Drescher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ise Feldmeyer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ma Malam Mamadou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linn Schantz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Diagram 3" descr=""/>
          <p:cNvPicPr/>
          <p:nvPr/>
        </p:nvPicPr>
        <p:blipFill>
          <a:blip r:embed="rId2"/>
          <a:stretch/>
        </p:blipFill>
        <p:spPr>
          <a:xfrm>
            <a:off x="401760" y="603360"/>
            <a:ext cx="8265960" cy="1689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was your high school like?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factors such as: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icula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/Structure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ilities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ent Issues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Diagram 3" descr=""/>
          <p:cNvPicPr/>
          <p:nvPr/>
        </p:nvPicPr>
        <p:blipFill>
          <a:blip r:embed="rId2"/>
          <a:stretch/>
        </p:blipFill>
        <p:spPr>
          <a:xfrm>
            <a:off x="401760" y="590400"/>
            <a:ext cx="8265960" cy="1702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for Social Stat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cognitive ability/Capacity for abstract though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otiating competing influences: peers, parents, teach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rns about the fut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erform tasks with real-world applic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ble consequence: high-risk behavio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Diagram 3" descr=""/>
          <p:cNvPicPr/>
          <p:nvPr/>
        </p:nvPicPr>
        <p:blipFill>
          <a:blip r:embed="rId2"/>
          <a:stretch/>
        </p:blipFill>
        <p:spPr>
          <a:xfrm>
            <a:off x="438120" y="360360"/>
            <a:ext cx="8267760" cy="1474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sponsible for up to 180 students at a time;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lass sizes often too big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tandards, testing, and other requirements don’t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lways correlate with students’ needs or utilize  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eacher expertis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imited opportunities for teacher collabora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ometimes under-valued and under-appreciated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y students, administration, and commun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ll year to prep, but only 180 days to teach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iagram 3" descr=""/>
          <p:cNvPicPr/>
          <p:nvPr/>
        </p:nvPicPr>
        <p:blipFill>
          <a:blip r:embed="rId2"/>
          <a:stretch/>
        </p:blipFill>
        <p:spPr>
          <a:xfrm>
            <a:off x="438120" y="360360"/>
            <a:ext cx="8267760" cy="1474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ules, discipline, &amp; structure to keep school safe &amp; accessible for students and staff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oo many urban &amp; suburban schools have issues with drugs, violence, gangs, and achievem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chools required to accommodate large, diverse student populations in a limited space with limited resourc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lso have to meet expectations of parents, state, school board, and commun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chools often community centers, too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Diagram 3" descr=""/>
          <p:cNvPicPr/>
          <p:nvPr/>
        </p:nvPicPr>
        <p:blipFill>
          <a:blip r:embed="rId2"/>
          <a:stretch/>
        </p:blipFill>
        <p:spPr>
          <a:xfrm>
            <a:off x="438120" y="360360"/>
            <a:ext cx="8267760" cy="1474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cademic Research/Reports filtering into mass media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chools should provide experiences that enhance citizenship and sense of responsibil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areer development through vocational guidance, vocational education or additional academic developm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Get students to be self-directed, lifelong learner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ncourage the development and practice of critical thinking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Diagram 3" descr=""/>
          <p:cNvPicPr/>
          <p:nvPr/>
        </p:nvPicPr>
        <p:blipFill>
          <a:blip r:embed="rId2"/>
          <a:stretch/>
        </p:blipFill>
        <p:spPr>
          <a:xfrm>
            <a:off x="438120" y="360360"/>
            <a:ext cx="8267760" cy="1474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your Think, Pair, Share groups, discuss factors of your high school that you would revise and those you would keep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5:19:43Z</dcterms:created>
  <dc:creator>New User</dc:creator>
  <dc:description/>
  <dc:language>en-US</dc:language>
  <cp:lastModifiedBy>Gayle Thieman</cp:lastModifiedBy>
  <dcterms:modified xsi:type="dcterms:W3CDTF">2009-06-09T03:48:23Z</dcterms:modified>
  <cp:revision>12</cp:revision>
  <dc:subject/>
  <dc:title>Slide 1</dc:title>
</cp:coreProperties>
</file>