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84F-73BB-4C0B-BAA6-869A77BC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6DF-5F87-4639-946D-373D870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AC3-E982-4301-8FE3-97FA4397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936-B1B7-4347-94BC-F8BA6FE5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043-3965-493E-9915-8C478634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E1F4-5D84-4799-BC89-FC36ACD6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8F54-B999-425F-872F-C2307DAA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092-A684-4AC3-9761-372A692B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6A47-EE1E-4500-8F6B-EFBD1579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8D75-A1DA-4304-B13D-683F93F6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DF9-7B5F-40F2-B0FE-967F6BD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C38-293C-4C91-BC6D-11481A42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360F-833C-4ED3-85B7-8E5CF01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F4E8-EAF2-460A-9AD4-629BC7C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0942-F348-47D1-978D-EA370C8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56A9-539D-48B0-8EBC-25EB20CA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3F9C-724F-435D-8F3C-D353F138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45F-D493-401B-8D72-ECD30F0A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3A0-6189-4092-AFE6-BA397298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559-D2D0-4A95-8709-933489FA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6D8-4011-44CC-A95A-E4A801EF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ED1-DC70-4F23-A010-8F68226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57F-6CDF-4348-BB2C-E52B66F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F5A-3364-4607-AC47-E940E17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A777-9A4B-4246-AAAB-017E48C29369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5478-7E3C-4C47-84AD-CB2A558A4A4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0A09-25A5-451C-8DD1-5BA534B0D589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08C3-6C8E-4DED-96F1-1A3FAA58DA0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Diagram 3" descr=""/>
          <p:cNvPicPr/>
          <p:nvPr/>
        </p:nvPicPr>
        <p:blipFill>
          <a:blip r:embed="rId2"/>
          <a:stretch/>
        </p:blipFill>
        <p:spPr>
          <a:xfrm>
            <a:off x="401760" y="590400"/>
            <a:ext cx="826596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y Benhard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dra Birnle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y Christi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ke Dresch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se Feldmey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ma Malam Mamadou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linn Schantz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iagram 3" descr=""/>
          <p:cNvPicPr/>
          <p:nvPr/>
        </p:nvPicPr>
        <p:blipFill>
          <a:blip r:embed="rId2"/>
          <a:stretch/>
        </p:blipFill>
        <p:spPr>
          <a:xfrm>
            <a:off x="401760" y="603360"/>
            <a:ext cx="8265960" cy="1689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was your high school like?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factors such as: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a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/Structure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ies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Issues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Diagram 3" descr=""/>
          <p:cNvPicPr/>
          <p:nvPr/>
        </p:nvPicPr>
        <p:blipFill>
          <a:blip r:embed="rId2"/>
          <a:stretch/>
        </p:blipFill>
        <p:spPr>
          <a:xfrm>
            <a:off x="401760" y="590400"/>
            <a:ext cx="8265960" cy="170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for Social Stat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cognitive ability/Capacity for abstract though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ing competing influences: peers, parents, teach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about the fu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erform tasks with real-world app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 consequence: high-risk behavi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sponsible for up to 180 students at a time;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ass sizes often too bi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tandards, testing, and other requirements don’t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ways correlate with students’ needs or utilize 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eacher experti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imited opportunities for teacher collabo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imes under-valued and under-appreciated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y students, administration, and 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l year to prep, but only 180 days to tea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ules, discipline, &amp; structure to keep school safe &amp; accessible for students and staf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o many urban &amp; suburban schools have issues with drugs, violence, gangs, and achieve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required to accommodate large, diverse student populations in a limited space with limited resourc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so have to meet expectations of parents, state, school board, and 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often community centers, too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cademic Research/Reports filtering into mass medi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should provide experiences that enhance citizenship and sense of responsibil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reer development through vocational guidance, vocational education or additional academic develo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et students to be self-directed, lifelong learne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courage the development and practice of critical think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your Think, Pair, Share groups, discuss factors of your high school that you would revise and those you would keep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19:43Z</dcterms:created>
  <dc:creator>New User</dc:creator>
  <dc:description/>
  <dc:language>en-US</dc:language>
  <cp:lastModifiedBy>Gayle Thieman</cp:lastModifiedBy>
  <dcterms:modified xsi:type="dcterms:W3CDTF">2009-06-09T03:48:23Z</dcterms:modified>
  <cp:revision>12</cp:revision>
  <dc:subject/>
  <dc:title>Slide 1</dc:title>
</cp:coreProperties>
</file>