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921-5238-4DFE-9A2B-DBA23F98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1C5-CBB5-40CF-8352-BA65B0A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7EE-41ED-4864-8378-0AC8AC2A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C16-402A-45A3-886F-D015359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0C78-CBC9-40CE-AAF3-785F3E82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2AD-6FFB-4AE7-9C26-6CBF7F4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9F9A-41D1-4EAC-A45D-FED3E50C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C0E4-11D3-4697-8441-5D926CB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BEA6-C8DE-451B-B3B8-83F77438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FE3-FA50-423E-B19B-D1571A0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FE13-ED41-4306-A442-3B07152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B15-B46E-42C6-90E1-22E6C67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7115-88C0-49A5-ADF5-16FC625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A15-BAFD-43E6-8048-BE081D1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9DA-207B-4CE1-BB76-DF7AA7C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D951-C143-4293-803D-1B72ADEE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D01-09B5-4FD6-BC62-4D74E701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6FB-C989-4D89-B495-92ABB4E0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8C9-E487-4D19-9E35-72F8C87E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B54-2C86-4C54-901C-E2E87D6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109-F8D7-4B7F-9105-5F7013B5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0C1-78B5-4D06-9EE3-F521E89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56B-601D-449C-A7CE-C783EDA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428-9DF1-4D8E-9DB3-F98A186A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A00-09FD-4358-8980-91319064660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ACF-4AE2-487D-AD53-83A3C2A9856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D6BF-0F25-4E7B-B587-38595FFEDF4B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8AA-D072-41BD-B1DF-C52E161B033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y Benhard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dra Birnle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y Christi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e Dresch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 Feldmey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ma Malam Mamad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linn Schantz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iagram 3" descr=""/>
          <p:cNvPicPr/>
          <p:nvPr/>
        </p:nvPicPr>
        <p:blipFill>
          <a:blip r:embed="rId2"/>
          <a:stretch/>
        </p:blipFill>
        <p:spPr>
          <a:xfrm>
            <a:off x="401760" y="603360"/>
            <a:ext cx="8265960" cy="1689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as your high school like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factors such as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a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/Structure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i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su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0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Social Sta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gnitive ability/Capacity for abstract thou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ng competing influences: peers, parents, teac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about the fu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erform tasks with real-worl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consequence: high-risk behavi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ponsible for up to 180 students at a time;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ass sizes often too bi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tandards, testing, and other requirements don’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ways correlate with students’ needs or utilize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eacher experti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imited opportunities for teacher collabo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imes under-valued and under-appreciate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y students, administration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l year to prep, but only 180 days to tea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ules, discipline, &amp; structure to keep school safe &amp; accessible for students and sta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o many urban &amp; suburban schools have issues with drugs, violence, gangs, and achiev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required to accommodate large, diverse student populations in a limited space with limited resourc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so have to meet expectations of parents, state, school board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often community centers, to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ademic Research/Reports filtering into mass medi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should provide experiences that enhance citizenship and sense of responsibil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reer development through vocational guidance, vocational education or additional academic develo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 students to be self-directed, lifelong learn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courage the development and practice of critical think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your Think, Pair, Share groups, discuss factors of your high school that you would revise and those you would keep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19:43Z</dcterms:created>
  <dc:creator>New User</dc:creator>
  <dc:description/>
  <dc:language>en-US</dc:language>
  <cp:lastModifiedBy>Gayle Thieman</cp:lastModifiedBy>
  <dcterms:modified xsi:type="dcterms:W3CDTF">2009-06-09T03:48:23Z</dcterms:modified>
  <cp:revision>12</cp:revision>
  <dc:subject/>
  <dc:title>Slide 1</dc:title>
</cp:coreProperties>
</file>