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3.pct" ContentType="image/x-pict"/>
  <Override PartName="/ppt/media/image8.pct" ContentType="image/x-pict"/>
  <Override PartName="/ppt/media/image6.jpeg" ContentType="image/jpeg"/>
  <Override PartName="/ppt/media/image20.pct" ContentType="image/x-pict"/>
  <Override PartName="/ppt/media/image12.jpeg" ContentType="image/jpeg"/>
  <Override PartName="/ppt/media/image19.png" ContentType="image/png"/>
  <Override PartName="/ppt/media/image10.jpeg" ContentType="image/jpeg"/>
  <Override PartName="/ppt/media/image16.pct" ContentType="image/x-pict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011-190C-4D60-B96A-F68A8BC0C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FA8-03FC-4594-BD16-615A4BCB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D38-39F1-45D6-9F9E-9C4FBEDF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5F9-5988-4926-9250-6B81E49F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A8CD-328E-4092-B6BB-52DE8BC5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B30-D4AE-4B2E-98BE-49DE0B543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BD6-F449-47D6-868C-EE502C3F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C18C-8B8B-4A33-9960-33D3B3CE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7EB-EA0B-4726-B519-CF31F08C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FB7-A49D-4C53-B67B-C9F68949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5DD-BEE2-47D1-85D0-A074340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9CA-DA6B-4594-B80A-4BED98D6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502-1567-4942-B481-16C96117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17-29C4-489A-B5D3-51ACF5A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8EB-DBB3-4410-AF79-6DD5613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F62-BB32-45B5-8D14-9CEC666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00E-78CE-499A-A772-1925E3F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AD5-2D99-4041-ABA1-F8CC2B06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E84-7E66-47C9-9DDD-37744C9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AB6-3AE4-4AF9-A61B-3CC6846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18B-44A7-4E6A-AA76-3C6FA38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F28-E695-4604-9C38-D5B05BD9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jpeg"/><Relationship Id="rId3" Type="http://schemas.openxmlformats.org/officeDocument/2006/relationships/image" Target="../media/image7.pct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lobal Field Trip: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 at High School in Japan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16351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8954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15746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11120" y="2362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793480" y="4952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3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venue à la Fr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43280" cy="190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/>
          <p:cNvSpPr/>
          <p:nvPr/>
        </p:nvSpPr>
        <p:spPr>
          <a:xfrm>
            <a:off x="3886200" y="1905120"/>
            <a:ext cx="1905120" cy="2514600"/>
          </a:xfrm>
          <a:prstGeom prst="wedgeRoundRectCallout">
            <a:avLst>
              <a:gd name="adj1" fmla="val -37916"/>
              <a:gd name="adj2" fmla="val 91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191120" y="2286000"/>
            <a:ext cx="13716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la! Ici c’est un lyc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a French High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778960" y="612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200px-Lycee_Rennes_DSC08932"/>
          <p:cNvPicPr/>
          <p:nvPr/>
        </p:nvPicPr>
        <p:blipFill>
          <a:blip r:embed="rId2"/>
          <a:stretch/>
        </p:blipFill>
        <p:spPr>
          <a:xfrm>
            <a:off x="304920" y="838080"/>
            <a:ext cx="6324480" cy="469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257480" cy="1870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4"/>
          <p:cNvSpPr/>
          <p:nvPr/>
        </p:nvSpPr>
        <p:spPr>
          <a:xfrm>
            <a:off x="7162920" y="2438280"/>
            <a:ext cx="1752480" cy="3124440"/>
          </a:xfrm>
          <a:prstGeom prst="wedgeEllipseCallout">
            <a:avLst>
              <a:gd name="adj1" fmla="val -49907"/>
              <a:gd name="adj2" fmla="val -2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w! Fre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ave to spend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f high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rking toward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icult t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at is a b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sponsibility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715000" y="5791320"/>
            <a:ext cx="3429000" cy="1066680"/>
          </a:xfrm>
          <a:prstGeom prst="cloudCallout">
            <a:avLst>
              <a:gd name="adj1" fmla="val -47037"/>
              <a:gd name="adj2" fmla="val -76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Their experience here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is different from our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33720" y="5486400"/>
            <a:ext cx="11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057400" y="556272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ntent.answer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>
            <a:off x="990720" y="2438280"/>
            <a:ext cx="4190760" cy="2133720"/>
          </a:xfrm>
          <a:prstGeom prst="wedgeRectCallout">
            <a:avLst>
              <a:gd name="adj1" fmla="val -27009"/>
              <a:gd name="adj2" fmla="val 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onjour! Ici, c’est un lycée franç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s élèves doivent passer un examen trè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important qui s’appèle le baccalauréa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lo! This is a French High School. Here,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st pass a very important test call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ccalauré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"/>
          <p:cNvPicPr/>
          <p:nvPr/>
        </p:nvPicPr>
        <p:blipFill>
          <a:blip r:embed="rId4"/>
          <a:stretch/>
        </p:blipFill>
        <p:spPr>
          <a:xfrm>
            <a:off x="3809880" y="495288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654200" cy="184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6"/>
          <a:stretch/>
        </p:blipFill>
        <p:spPr>
          <a:xfrm>
            <a:off x="6781680" y="914400"/>
            <a:ext cx="1816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étudiants font une manifesta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ench students pro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rotest_france_cp_9700572"/>
          <p:cNvPicPr/>
          <p:nvPr/>
        </p:nvPicPr>
        <p:blipFill>
          <a:blip r:embed="rId1"/>
          <a:stretch/>
        </p:blipFill>
        <p:spPr>
          <a:xfrm>
            <a:off x="2286000" y="838080"/>
            <a:ext cx="480060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73280" y="62485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bc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0" y="4038480"/>
            <a:ext cx="174132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8414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162920" y="533520"/>
            <a:ext cx="1654200" cy="1841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1752480" y="3200400"/>
            <a:ext cx="2514600" cy="1523880"/>
          </a:xfrm>
          <a:prstGeom prst="wedgeRectCallout">
            <a:avLst>
              <a:gd name="adj1" fmla="val -54606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a France a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très longue histo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e la rév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nce has a 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story of rev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209680" y="990720"/>
            <a:ext cx="1905120" cy="1218960"/>
          </a:xfrm>
          <a:prstGeom prst="wedgeRectCallout">
            <a:avLst>
              <a:gd name="adj1" fmla="val -90999"/>
              <a:gd name="adj2" fmla="val 16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Like the re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igh school revo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in P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7315200" y="2895480"/>
            <a:ext cx="1371600" cy="3429000"/>
          </a:xfrm>
          <a:prstGeom prst="wedgeRectCallout">
            <a:avLst>
              <a:gd name="adj1" fmla="val -17013"/>
              <a:gd name="adj2" fmla="val -85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a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n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gh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s"/>
          <p:cNvPicPr/>
          <p:nvPr/>
        </p:nvPicPr>
        <p:blipFill>
          <a:blip r:embed="rId1"/>
          <a:stretch/>
        </p:blipFill>
        <p:spPr>
          <a:xfrm>
            <a:off x="106200" y="347760"/>
            <a:ext cx="8929800" cy="5900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90720" y="632448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aris.org/ca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1257480" cy="187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676520" cy="114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1380960" cy="15368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>
            <a:off x="1981080" y="3809880"/>
            <a:ext cx="2971800" cy="2438640"/>
          </a:xfrm>
          <a:prstGeom prst="wedgeEllipseCallout">
            <a:avLst>
              <a:gd name="adj1" fmla="val -57370"/>
              <a:gd name="adj2" fmla="val 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Oui, les franç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roient que c’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ur droit de pouvo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manif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es, the French bel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t is their right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le to pro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00800" y="457200"/>
            <a:ext cx="2438280" cy="2133720"/>
          </a:xfrm>
          <a:prstGeom prst="wedgeEllipseCallout">
            <a:avLst>
              <a:gd name="adj1" fmla="val -42773"/>
              <a:gd name="adj2" fmla="val 65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w, fre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uden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ight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re differen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1981080" y="228600"/>
            <a:ext cx="3505320" cy="1981080"/>
          </a:xfrm>
          <a:prstGeom prst="cloudCallout">
            <a:avLst>
              <a:gd name="adj1" fmla="val -75273"/>
              <a:gd name="adj2" fmla="val 12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hhh…now I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ow to cor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use the 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pouvoir 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(to be able 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 devoir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 (to have 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4495680"/>
            <a:ext cx="3581280" cy="2133720"/>
          </a:xfrm>
          <a:prstGeom prst="rightArrow">
            <a:avLst>
              <a:gd name="adj1" fmla="val 50000"/>
              <a:gd name="adj2" fmla="val 419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Mary and Jam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to Japan for the 2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of their field tri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tuden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9558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18162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315200" y="380880"/>
            <a:ext cx="1574640" cy="1752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4114800" y="1219320"/>
            <a:ext cx="3048120" cy="1218960"/>
          </a:xfrm>
          <a:prstGeom prst="wedgeRoundRectCallout">
            <a:avLst>
              <a:gd name="adj1" fmla="val 56300"/>
              <a:gd name="adj2" fmla="val -46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w, Japanese 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se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y a lo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841400" cy="1253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0" y="3505320"/>
            <a:ext cx="3886200" cy="1371600"/>
          </a:xfrm>
          <a:prstGeom prst="wedgeRoundRectCallout">
            <a:avLst>
              <a:gd name="adj1" fmla="val -12500"/>
              <a:gd name="adj2" fmla="val 84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They even spend a lot of tim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Japanese cramming schools  wher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study for hours AFTER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regular schoo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24080" y="228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school=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高校（こうこ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456000" y="304920"/>
            <a:ext cx="246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=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勉強（べんきょう）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28800" y="2438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日本の高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Japan, 7english, 1"/>
          <p:cNvPicPr/>
          <p:nvPr/>
        </p:nvPicPr>
        <p:blipFill>
          <a:blip r:embed="rId5"/>
          <a:stretch/>
        </p:blipFill>
        <p:spPr>
          <a:xfrm>
            <a:off x="3962520" y="2503440"/>
            <a:ext cx="50292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6230880" y="598176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tusov.soe.udel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Japan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very se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stud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test"/>
          <p:cNvPicPr/>
          <p:nvPr/>
        </p:nvPicPr>
        <p:blipFill>
          <a:blip r:embed="rId1"/>
          <a:stretch/>
        </p:blipFill>
        <p:spPr>
          <a:xfrm>
            <a:off x="0" y="3124080"/>
            <a:ext cx="298440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udou001"/>
          <p:cNvPicPr/>
          <p:nvPr/>
        </p:nvPicPr>
        <p:blipFill>
          <a:blip r:embed="rId2"/>
          <a:stretch/>
        </p:blipFill>
        <p:spPr>
          <a:xfrm>
            <a:off x="2895480" y="2590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uccess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632640" y="50990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848720" y="441972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97360" y="4132080"/>
            <a:ext cx="1642680" cy="168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se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t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them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do for U.S. stud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402600" y="2819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7247160" y="312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成功（せいこ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4"/>
          <a:stretch/>
        </p:blipFill>
        <p:spPr>
          <a:xfrm>
            <a:off x="4267080" y="4952880"/>
            <a:ext cx="1447920" cy="133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184560" y="23241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.waseda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238880" y="2666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zed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71040" y="285768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yuki.myjap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to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ch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ay for us to take it easy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apanese flag"/>
          <p:cNvPicPr/>
          <p:nvPr/>
        </p:nvPicPr>
        <p:blipFill>
          <a:blip r:embed="rId2"/>
          <a:stretch/>
        </p:blipFill>
        <p:spPr>
          <a:xfrm>
            <a:off x="5181480" y="1523880"/>
            <a:ext cx="3048120" cy="19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uperpoly-flag"/>
          <p:cNvPicPr/>
          <p:nvPr/>
        </p:nvPicPr>
        <p:blipFill>
          <a:blip r:embed="rId3"/>
          <a:stretch/>
        </p:blipFill>
        <p:spPr>
          <a:xfrm>
            <a:off x="152280" y="4724280"/>
            <a:ext cx="3429000" cy="1797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10880" y="5410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ay to think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考えるための長い道の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6600" y="0"/>
            <a:ext cx="80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Japan, HS stude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ud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ly from student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3720" y="129528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me up with some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 of my ow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Home / Le Retour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619776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4336920" cy="917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228600" y="2666880"/>
            <a:ext cx="2133720" cy="3581640"/>
          </a:xfrm>
          <a:prstGeom prst="wedgeRoundRectCallout">
            <a:avLst>
              <a:gd name="adj1" fmla="val 117486"/>
              <a:gd name="adj2" fmla="val -60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After vis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alized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the worl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bet my life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o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 or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105520" y="2666880"/>
            <a:ext cx="2590560" cy="1752840"/>
          </a:xfrm>
          <a:prstGeom prst="wedgeRoundRectCallout">
            <a:avLst>
              <a:gd name="adj1" fmla="val -58638"/>
              <a:gd name="adj2" fmla="val -80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t’s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anguag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orl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311480" cy="14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1676520" cy="1141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361560" y="6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こ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帰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yle Thieman</cp:lastModifiedBy>
  <dcterms:modified xsi:type="dcterms:W3CDTF">2009-08-11T21:06:02Z</dcterms:modified>
  <cp:revision>27</cp:revision>
  <dc:subject/>
  <dc:title>A Global Field Trip: A Closer Look at High School in Japan and France</dc:title>
</cp:coreProperties>
</file>