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jpeg" ContentType="image/jpeg"/>
  <Override PartName="/ppt/media/image3.pct" ContentType="image/x-pict"/>
  <Override PartName="/ppt/media/image8.pct" ContentType="image/x-pict"/>
  <Override PartName="/ppt/media/image6.jpeg" ContentType="image/jpeg"/>
  <Override PartName="/ppt/media/image20.pct" ContentType="image/x-pict"/>
  <Override PartName="/ppt/media/image12.jpeg" ContentType="image/jpeg"/>
  <Override PartName="/ppt/media/image19.png" ContentType="image/png"/>
  <Override PartName="/ppt/media/image10.jpeg" ContentType="image/jpeg"/>
  <Override PartName="/ppt/media/image16.pct" ContentType="image/x-pict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BBFA-247F-4D07-A8A8-B7EF617F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A36F-11CC-4DAF-BF1D-3FD05ED4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241A-48DF-4565-9BB6-71466FFC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396-EBDA-42A7-B8BF-50CA256F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9EB6-7B53-4E03-9B96-F90155DC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B0CC-C9A2-488C-AA13-E68B0FD1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E3B9-5AD7-43B3-9E4E-B1C0065B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11FF-FAF5-4C0E-8AB0-98877899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83A7-7F3D-4A3B-86F8-464DA0841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420-252E-4F13-973A-181F291D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F4F-85DA-456C-B3FE-06DB0B8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973-E84B-4E53-9A7C-D4D10E39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20E-5FF9-448D-85BB-C1A68FFF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CB5-D249-473C-9247-F1C00D7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822-F66C-45A4-A930-F729DD2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220-2628-419C-A4B7-69F948E9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95C-6AC5-437B-9AB6-3F0E9170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F28-0A2C-4FEE-9C07-3DFA64A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AC0-25ED-49AD-95BA-1BF49D9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3D6-540B-4F34-B778-C7F92117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5B3-CBC0-430B-A7AA-E713954A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3B23-0A53-44A6-9454-F0DDFE47E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jpeg"/><Relationship Id="rId3" Type="http://schemas.openxmlformats.org/officeDocument/2006/relationships/image" Target="../media/image7.pct"/><Relationship Id="rId4" Type="http://schemas.openxmlformats.org/officeDocument/2006/relationships/image" Target="../media/image3.pct"/><Relationship Id="rId5" Type="http://schemas.openxmlformats.org/officeDocument/2006/relationships/image" Target="../media/image4.pct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lobal Field Trip: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 at High School in Japan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16351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289548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4114800" y="4114800"/>
            <a:ext cx="15746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211120" y="23623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793480" y="4952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33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envenue à la Fr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43280" cy="190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/>
          <p:cNvSpPr/>
          <p:nvPr/>
        </p:nvSpPr>
        <p:spPr>
          <a:xfrm>
            <a:off x="3886200" y="1905120"/>
            <a:ext cx="1905120" cy="2514600"/>
          </a:xfrm>
          <a:prstGeom prst="wedgeRoundRectCallout">
            <a:avLst>
              <a:gd name="adj1" fmla="val -37916"/>
              <a:gd name="adj2" fmla="val 911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191120" y="2286000"/>
            <a:ext cx="13716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la! Ici c’est un lyc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s is a French High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8778960" y="612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200px-Lycee_Rennes_DSC08932"/>
          <p:cNvPicPr/>
          <p:nvPr/>
        </p:nvPicPr>
        <p:blipFill>
          <a:blip r:embed="rId2"/>
          <a:stretch/>
        </p:blipFill>
        <p:spPr>
          <a:xfrm>
            <a:off x="304920" y="838080"/>
            <a:ext cx="6324480" cy="469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1257480" cy="1870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4"/>
          <p:cNvSpPr/>
          <p:nvPr/>
        </p:nvSpPr>
        <p:spPr>
          <a:xfrm>
            <a:off x="7162920" y="2438280"/>
            <a:ext cx="1752480" cy="3124440"/>
          </a:xfrm>
          <a:prstGeom prst="wedgeEllipseCallout">
            <a:avLst>
              <a:gd name="adj1" fmla="val -49907"/>
              <a:gd name="adj2" fmla="val -24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w! Fre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ave to spend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f high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rking toward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icult te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at is a b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responsibility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5715000" y="5791320"/>
            <a:ext cx="3429000" cy="1066680"/>
          </a:xfrm>
          <a:prstGeom prst="cloudCallout">
            <a:avLst>
              <a:gd name="adj1" fmla="val -47037"/>
              <a:gd name="adj2" fmla="val -76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Their experience here in F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is different from our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133720" y="5486400"/>
            <a:ext cx="11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057400" y="5562720"/>
            <a:ext cx="17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ntent.answer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7"/>
          <p:cNvSpPr/>
          <p:nvPr/>
        </p:nvSpPr>
        <p:spPr>
          <a:xfrm>
            <a:off x="990720" y="2438280"/>
            <a:ext cx="4190760" cy="2133720"/>
          </a:xfrm>
          <a:prstGeom prst="wedgeRectCallout">
            <a:avLst>
              <a:gd name="adj1" fmla="val -27009"/>
              <a:gd name="adj2" fmla="val 8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onjour! Ici, c’est un lycée franç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s élèves doivent passer un examen trè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important qui s’appèle le baccalauréa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lo! This is a French High School. Here,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st pass a very important test call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ccalauré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9" descr=""/>
          <p:cNvPicPr/>
          <p:nvPr/>
        </p:nvPicPr>
        <p:blipFill>
          <a:blip r:embed="rId4"/>
          <a:stretch/>
        </p:blipFill>
        <p:spPr>
          <a:xfrm>
            <a:off x="3809880" y="4952880"/>
            <a:ext cx="1841760" cy="12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1654200" cy="184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/>
          <p:cNvPicPr/>
          <p:nvPr/>
        </p:nvPicPr>
        <p:blipFill>
          <a:blip r:embed="rId6"/>
          <a:stretch/>
        </p:blipFill>
        <p:spPr>
          <a:xfrm>
            <a:off x="6781680" y="914400"/>
            <a:ext cx="1816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étudiants font une manifesta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ench students pro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rotest_france_cp_9700572"/>
          <p:cNvPicPr/>
          <p:nvPr/>
        </p:nvPicPr>
        <p:blipFill>
          <a:blip r:embed="rId1"/>
          <a:stretch/>
        </p:blipFill>
        <p:spPr>
          <a:xfrm>
            <a:off x="2286000" y="838080"/>
            <a:ext cx="480060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173280" y="62485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bc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0" y="4038480"/>
            <a:ext cx="174132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18414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7162920" y="533520"/>
            <a:ext cx="1654200" cy="18414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1752480" y="3200400"/>
            <a:ext cx="2514600" cy="1523880"/>
          </a:xfrm>
          <a:prstGeom prst="wedgeRectCallout">
            <a:avLst>
              <a:gd name="adj1" fmla="val -54606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a France a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très longue histo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de la rév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nce has a 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story of rev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209680" y="990720"/>
            <a:ext cx="1905120" cy="1218960"/>
          </a:xfrm>
          <a:prstGeom prst="wedgeRectCallout">
            <a:avLst>
              <a:gd name="adj1" fmla="val -90999"/>
              <a:gd name="adj2" fmla="val 16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Like the re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igh school revo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in Pa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7315200" y="2895480"/>
            <a:ext cx="1371600" cy="3429000"/>
          </a:xfrm>
          <a:prstGeom prst="wedgeRectCallout">
            <a:avLst>
              <a:gd name="adj1" fmla="val -17013"/>
              <a:gd name="adj2" fmla="val -85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a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n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is 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gh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es"/>
          <p:cNvPicPr/>
          <p:nvPr/>
        </p:nvPicPr>
        <p:blipFill>
          <a:blip r:embed="rId1"/>
          <a:stretch/>
        </p:blipFill>
        <p:spPr>
          <a:xfrm>
            <a:off x="106200" y="347760"/>
            <a:ext cx="8929800" cy="5900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990720" y="632448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aris.org/caf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1257480" cy="187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676520" cy="114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1380960" cy="15368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>
            <a:off x="1981080" y="3809880"/>
            <a:ext cx="2971800" cy="2438640"/>
          </a:xfrm>
          <a:prstGeom prst="wedgeEllipseCallout">
            <a:avLst>
              <a:gd name="adj1" fmla="val -57370"/>
              <a:gd name="adj2" fmla="val 5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Oui, les franç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croient que c’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ur droit de pouvo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manif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es, the French bel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t is their right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ble to pro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6400800" y="457200"/>
            <a:ext cx="2438280" cy="2133720"/>
          </a:xfrm>
          <a:prstGeom prst="wedgeEllipseCallout">
            <a:avLst>
              <a:gd name="adj1" fmla="val -42773"/>
              <a:gd name="adj2" fmla="val 65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ow, fren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udent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ight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re different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1981080" y="228600"/>
            <a:ext cx="3505320" cy="1981080"/>
          </a:xfrm>
          <a:prstGeom prst="cloudCallout">
            <a:avLst>
              <a:gd name="adj1" fmla="val -75273"/>
              <a:gd name="adj2" fmla="val 12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hhh…now I k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ow to correc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use the 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pouvoir 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(to be able 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nd</a:t>
            </a: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 devoir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 (to have 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257800" y="4495680"/>
            <a:ext cx="3581280" cy="2133720"/>
          </a:xfrm>
          <a:prstGeom prst="rightArrow">
            <a:avLst>
              <a:gd name="adj1" fmla="val 50000"/>
              <a:gd name="adj2" fmla="val 419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Mary and Jam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 to Japan for the 2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of their field tri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student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19558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181620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7315200" y="380880"/>
            <a:ext cx="1574640" cy="17528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4114800" y="1219320"/>
            <a:ext cx="3048120" cy="1218960"/>
          </a:xfrm>
          <a:prstGeom prst="wedgeRoundRectCallout">
            <a:avLst>
              <a:gd name="adj1" fmla="val 56300"/>
              <a:gd name="adj2" fmla="val -46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w, Japanese 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seem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y a lo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841400" cy="12538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0" y="3505320"/>
            <a:ext cx="3886200" cy="1371600"/>
          </a:xfrm>
          <a:prstGeom prst="wedgeRoundRectCallout">
            <a:avLst>
              <a:gd name="adj1" fmla="val -12500"/>
              <a:gd name="adj2" fmla="val 84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They even spend a lot of tim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Japanese cramming schools  wher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study for hours AFTER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regular schoo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124080" y="228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school=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高校（こうこ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456000" y="304920"/>
            <a:ext cx="246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y=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勉強（べんきょう）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28800" y="2438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日本の高校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Japan, 7english, 1"/>
          <p:cNvPicPr/>
          <p:nvPr/>
        </p:nvPicPr>
        <p:blipFill>
          <a:blip r:embed="rId5"/>
          <a:stretch/>
        </p:blipFill>
        <p:spPr>
          <a:xfrm>
            <a:off x="3962520" y="2503440"/>
            <a:ext cx="5029200" cy="3468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6230880" y="598176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tusov.soe.udel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Japane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very se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stud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test"/>
          <p:cNvPicPr/>
          <p:nvPr/>
        </p:nvPicPr>
        <p:blipFill>
          <a:blip r:embed="rId1"/>
          <a:stretch/>
        </p:blipFill>
        <p:spPr>
          <a:xfrm>
            <a:off x="0" y="3124080"/>
            <a:ext cx="298440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koudou001"/>
          <p:cNvPicPr/>
          <p:nvPr/>
        </p:nvPicPr>
        <p:blipFill>
          <a:blip r:embed="rId2"/>
          <a:stretch/>
        </p:blipFill>
        <p:spPr>
          <a:xfrm>
            <a:off x="2895480" y="25909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uccess"/>
          <p:cNvPicPr/>
          <p:nvPr/>
        </p:nvPicPr>
        <p:blipFill>
          <a:blip r:embed="rId3"/>
          <a:stretch/>
        </p:blipFill>
        <p:spPr>
          <a:xfrm>
            <a:off x="5638680" y="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632640" y="50990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848720" y="441972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97360" y="4132080"/>
            <a:ext cx="1642680" cy="168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se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t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them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y do for U.S. studen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402600" y="2819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7247160" y="3124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成功（せいこ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4"/>
          <a:stretch/>
        </p:blipFill>
        <p:spPr>
          <a:xfrm>
            <a:off x="4267080" y="4952880"/>
            <a:ext cx="1447920" cy="133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184560" y="232416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.waseda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238880" y="2666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bized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671040" y="285768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yuki.myjap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to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ch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ay for us to take it easy at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4572000" cy="198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apanese flag"/>
          <p:cNvPicPr/>
          <p:nvPr/>
        </p:nvPicPr>
        <p:blipFill>
          <a:blip r:embed="rId2"/>
          <a:stretch/>
        </p:blipFill>
        <p:spPr>
          <a:xfrm>
            <a:off x="5181480" y="1523880"/>
            <a:ext cx="3048120" cy="193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uperpoly-flag"/>
          <p:cNvPicPr/>
          <p:nvPr/>
        </p:nvPicPr>
        <p:blipFill>
          <a:blip r:embed="rId3"/>
          <a:stretch/>
        </p:blipFill>
        <p:spPr>
          <a:xfrm>
            <a:off x="152280" y="4724280"/>
            <a:ext cx="3429000" cy="1797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4610880" y="5410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way to think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考えるための長い道の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6600" y="0"/>
            <a:ext cx="80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Japan, HS student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ud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ly from students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3720" y="1295280"/>
            <a:ext cx="49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ame up with some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s of my ow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Home / Le Retour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619776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4336920" cy="917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228600" y="2666880"/>
            <a:ext cx="2133720" cy="3581640"/>
          </a:xfrm>
          <a:prstGeom prst="wedgeRoundRectCallout">
            <a:avLst>
              <a:gd name="adj1" fmla="val 117486"/>
              <a:gd name="adj2" fmla="val -60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After vis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realized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pectives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in the worl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bet my life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o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were a 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 or 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105520" y="2666880"/>
            <a:ext cx="2590560" cy="1752840"/>
          </a:xfrm>
          <a:prstGeom prst="wedgeRoundRectCallout">
            <a:avLst>
              <a:gd name="adj1" fmla="val -58638"/>
              <a:gd name="adj2" fmla="val -80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, it’s re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languag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worl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7467480" y="4114800"/>
            <a:ext cx="1311480" cy="14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1676520" cy="1141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6361560" y="698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きこ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帰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yle Thieman</cp:lastModifiedBy>
  <dcterms:modified xsi:type="dcterms:W3CDTF">2009-08-11T21:06:02Z</dcterms:modified>
  <cp:revision>27</cp:revision>
  <dc:subject/>
  <dc:title>A Global Field Trip: A Closer Look at High School in Japan and France</dc:title>
</cp:coreProperties>
</file>