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1129-A7BB-4E5C-BDFB-696A90CCCE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F690-7AF3-4D62-A26A-4A4BD37E5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A639-E1E6-4574-BF6D-D2CBE5E78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5144-61CE-43E7-80C4-82C42EB32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5FE-6ED6-465D-8513-A2E5880F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AC6-E826-4333-8198-BB82F79E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ACD-F025-4D88-B75D-EB0333F5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122-3559-4C2F-9B2A-B6A35544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9DE-EE45-4BAC-B68C-FF467473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7CA-57C7-4BE0-B2FF-65C52DD0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2EF-6251-4715-8BF4-01498654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EC7-7839-46E7-B231-44505F13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2140-FE74-479B-9BAB-7F0DDD03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D53-3393-4087-8990-A7963B09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3BAB-41F0-45A4-855F-C2730C4D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528-AAD2-4469-9BD8-49A75754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89DE-250F-45E6-99BA-DBA0B23A1E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83E8-EE91-4829-865C-6FD7C6D6A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urningtechnologies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for understanding: Formative assessment techniques (Fisher D.&amp; Frey N., 200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apted from a presentation by GREMA MALAM MAMADOU  November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2824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Narrative writing(telling a stor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Informative writing(informing the rea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Persuasive writing(persuading the rea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riting is thinking. Teacher looks at how the form and the content intera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ummary writing: gives teachers insight into how learners condense inform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xample: the précis: a short piece that contains the major ideas and concepts of a top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s and performances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04560" y="22860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sks associated with application, analysis, synthesis and eval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udents transfer their learning to new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y help determine students’ understanding of the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ive techniques using projects and perform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22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aders’ Theatre: a small group of students take a piece of text and turn it into a script to show their understanding of the main id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ltimedia presentation: students develop and present PowerPoint presen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isual displays of information: graphic organizers, in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ublic performance: music, 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lectronic and paper portfo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ests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depend in part on the design and development of good test it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also depend on the analysis of student respo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xampl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multiple choice items provide the teacher with an opportunity to gauge students' understanding in a fairly quick and efficient manner and easy to analyz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s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hort answer test items are considered effective as a measure of students’ ability to accurately recall specific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eachers should choose the appropriate formats: blank line, specificity, hidden clu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loze test: can be used as a diagnostic reading assessment technique, to determine a student’s independent reading level and to check for understanding of content-area tex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ssay: requires that students consolidate their understanding of a topic, organize their thinking and present it. It is a performance test though subject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“mistake “in our teach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Does everyone understand?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lone voice says, "Yes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e accept it as evidence that learning has occur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Much later, we review the results of the latest quiz, test, or essay, and shake our heads in wonder. “I taught all this,” we say, “Didn’t they get it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should we do to avoid being misl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mative assessments to check for understanding: ongoing assessments to</a:t>
            </a: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ather information about what and how students are lea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e the information to make adjustments to instruction, to keep students on track and help them develop into confident, independent learn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of formative and summative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66680" y="1905120"/>
          <a:ext cx="7086600" cy="4136760"/>
        </p:xfrm>
        <a:graphic>
          <a:graphicData uri="http://schemas.openxmlformats.org/drawingml/2006/table">
            <a:tbl>
              <a:tblPr/>
              <a:tblGrid>
                <a:gridCol w="2124360"/>
                <a:gridCol w="2122200"/>
                <a:gridCol w="2840040"/>
              </a:tblGrid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m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mprove instruction and provide student feed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asure student compet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dminis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 throughout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of unit or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students use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elf-monitor under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auge their progress toward course or grade- level goals and benchma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teachers use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heck under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grades, pro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. Using oral language to check for understa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522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trategies: Teach students how to be accountable to one another and to their learn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ccountable talk (Resnick L., 200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tay on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Use accurate and appropriate information for the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ink deeply about what the partner has to s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2. Noticing nonverbal c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Observe students’ facial expression, eye movement that let us know their level of understand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Value line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value lineup(Kagan, 1994): fosters peer discourse based on students 'opinions about an academic topic. Cultivates a broader understanding of the distinctions of understanding on a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tudents evaluate a statement and line up according to their degree of agreement/disagree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pair discuss their reasons for their positions and listen to the perspectives of their partn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I. Using questions to check for understan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 steps of constructing effective questions(Walsh and Sattes, 2005) called QUILT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epare the question: purpose (e.g. recognition, recall or application), focus, wording, synta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esent the question: response format, ask the ques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ompt student response: pause, help nonrespond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ocess student responses: feedback, expand and use correct respons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reflect on questioning practice: analyze questioning techniques, evaluate student response patterns (How often did you scaffold their answers? rephrased a question to clarify understanding? How you handled incorrect responses?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 authentic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Questions enable students to think and teachers to check for understand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sure that the questions engage students in deeper thinking not only to recall information that they have read or been t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e Bloom’s taxonomy to engage students’ creative and critical thinking through authentic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tegies useful in area of questioning and checking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520" y="2361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sponse Cards(Heward et al., 1996): Students hold up the card to indicate their answer to a question or probl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udience Response Systems(ARS): Handheld devices used by learners to respond to a question individually in real tim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e: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turningtechnologies.com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and Jonassen pp.147-15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Quest or Reciprocal Questioning(Manzo, 1969): Students ask and answer questions as they rea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2:48:42Z</dcterms:created>
  <dc:creator>grema</dc:creator>
  <dc:description/>
  <dc:language>en-US</dc:language>
  <cp:lastModifiedBy>Gayle Thieman</cp:lastModifiedBy>
  <dcterms:modified xsi:type="dcterms:W3CDTF">2010-08-04T20:18:26Z</dcterms:modified>
  <cp:revision>103</cp:revision>
  <dc:subject/>
  <dc:title>Formative assessment techniques</dc:title>
</cp:coreProperties>
</file>