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4CAE-14E0-41FA-B2B0-7CB9812B3E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649A-C045-4842-A3D3-B8B62DAC3B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75A0-FA23-45B9-9667-69A03DD4D8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FE9B-768E-4541-B16C-464A98F2EC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E9F2-0121-4F3F-84BB-BD725538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5208-4E19-42C1-B0E3-36DBEEB0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1B9A-DA2B-4CF9-9022-9191406A9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6DFF-5D64-4FBB-A8A3-24CDA56E9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0452-7B1D-4FCF-B56C-FE8A4DBB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A8F2-C392-49CF-AF84-FCC0C6DB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881D-2FEB-4BD0-8D0D-820DAD65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E61B-0332-4BB0-BE45-6ED2C626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F8E7-10F9-47A0-B3EF-B98C8DCC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32C7-699E-4583-A560-7024DFC8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D08D-1E29-42DE-BB2A-D20C4EB8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2D3F-1A76-49AC-A0B5-8E798E40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0254-BC58-4984-A72F-9C229F9E15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2EDA-58D0-4DDB-92E5-0B03F0484C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turningtechnologies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ecking for understanding: Formative assessment techniques (Fisher D.&amp; Frey N., 2007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5341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dapted from a presentation by GREMA MALAM MAMADOU  November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to check for understa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2824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Narrative writing(telling a stor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Informative writing(informing the reade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Persuasive writing(persuading the reade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Writing is thinking. Teacher looks at how the form and the content interac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ummary writing: gives teachers insight into how learners condense inform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Example: the précis: a short piece that contains the major ideas and concepts of a topi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s and performances to check for understa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04560" y="228600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asks associated with application, analysis, synthesis and evalu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tudents transfer their learning to new situ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ey help determine students’ understanding of the cont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ective techniques using projects and performa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52280" y="19807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eaders’ Theatre: a small group of students take a piece of text and turn it into a script to show their understanding of the main ide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ultimedia presentation: students develop and present PowerPoint present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isual displays of information: graphic organizers, inspi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ublic performance: music, 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lectronic and paper portfol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tests to check for understa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hey depend in part on the design and development of good test ite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hey also depend on the analysis of student respons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Example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multiple choice items provide the teacher with an opportunity to gauge students' understanding in a fairly quick and efficient manner and easy to analyz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s(continue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hort answer test items are considered effective as a measure of students’ ability to accurately recall specific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eachers should choose the appropriate formats: blank line, specificity, hidden clu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Cloze test: can be used as a diagnostic reading assessment technique, to determine a student’s independent reading level and to check for understanding of content-area tex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Essay: requires that students consolidate their understanding of a topic, organize their thinking and present it. It is a performance test though subjectiv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1066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 “mistake “in our teaching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”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Does everyone understand?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 lone voice says, "Yes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We accept it as evidence that learning has occurr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Much later, we review the results of the latest quiz, test, or essay, and shake our heads in wonder. “I taught all this,” we say, “Didn’t they get it?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should we do to avoid being misle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ormative assessments to check for understanding: ongoing assessments to</a:t>
            </a:r>
            <a:r>
              <a:rPr b="0" i="1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ather information about what and how students are learn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se the information to make adjustments to instruction, to keep students on track and help them develop into confident, independent learn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ison of formative and summative assess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17521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066680" y="1905120"/>
          <a:ext cx="7086600" cy="4136760"/>
        </p:xfrm>
        <a:graphic>
          <a:graphicData uri="http://schemas.openxmlformats.org/drawingml/2006/table">
            <a:tbl>
              <a:tblPr/>
              <a:tblGrid>
                <a:gridCol w="2124360"/>
                <a:gridCol w="2122200"/>
                <a:gridCol w="2840040"/>
              </a:tblGrid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mativ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mm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rp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mprove instruction and provide student feedb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measure student compet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 adminis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going throughout 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d of unit or cou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students use res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self-monitor understa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gauge their progress toward course or grade- level goals and benchma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6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teachers use res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check understa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grades, promo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. Using oral language to check for understa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52280" y="16761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trategies: Teach students how to be accountable to one another and to their learning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ccountable talk (Resnick L., 2000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tay on top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Use accurate and appropriate information for the top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hink deeply about what the partner has to sa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2. Noticing nonverbal cu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Observe students’ facial expression, eye movement that let us know their level of understand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Value lineu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value lineup(Kagan, 1994): fosters peer discourse based on students 'opinions about an academic topic. Cultivates a broader understanding of the distinctions of understanding on a top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tudents evaluate a statement and line up according to their degree of agreement/disagree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ch pair discuss their reasons for their positions and listen to the perspectives of their partn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I. Using questions to check for understan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5 steps of constructing effective questions(Walsh and Sattes, 2005) called QUILT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prepare the question: purpose (e.g. recognition, recall or application), focus, wording, syntax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present the question: response format, ask the ques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prompt student response: pause, help nonrespond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process student responses: feedback, expand and use correct respons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reflect on questioning practice: analyze questioning techniques, evaluate student response patterns (How often did you scaffold their answers? rephrased a question to clarify understanding? How you handled incorrect responses?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velop authentic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Questions enable students to think and teachers to check for understand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nsure that the questions engage students in deeper thinking not only to recall information that they have read or been to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se Bloom’s taxonomy to engage students’ creative and critical thinking through authentic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ategies useful in area of questioning and checking for understa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80520" y="23619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Response Cards(Heward et al., 1996): Students hold up the card to indicate their answer to a question or proble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udience Response Systems(ARS): Handheld devices used by learners to respond to a question individually in real time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ee: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turningtechnologies.com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and Jonassen pp.147-15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ReQuest or Reciprocal Questioning(Manzo, 1969): Students ask and answer questions as they rea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02:48:42Z</dcterms:created>
  <dc:creator>grema</dc:creator>
  <dc:description/>
  <dc:language>en-US</dc:language>
  <cp:lastModifiedBy>Gayle Thieman</cp:lastModifiedBy>
  <dcterms:modified xsi:type="dcterms:W3CDTF">2010-08-04T20:18:26Z</dcterms:modified>
  <cp:revision>103</cp:revision>
  <dc:subject/>
  <dc:title>Formative assessment techniques</dc:title>
</cp:coreProperties>
</file>