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5D51-CF0F-4575-B3DF-A57735D64A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A66E-6DA2-4B2A-9C7C-A21A34913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EE5C-C9B2-439A-BC08-4EC0AB63A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D9D4-26DF-4453-B3A3-0022E3925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41B-2F3B-488C-A417-85AA73EB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FF9-F846-4EA6-B297-B89996BC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298-50CD-4F40-AB8A-534966CD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3ED-2307-4781-96A6-1B6720AE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4BD-681B-4CDF-9F7A-F9319F8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427-3954-4FE1-BA0D-A1723C2B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616-56D7-4DA0-82A7-49EFFFB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6B6-9DDC-4D22-989A-9E1F926C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DFE-5E9E-4BC5-9315-ACA63F6A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DAC-B9F4-4B35-8EAE-4565269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1BE-772D-4B94-AAA1-C22AE9C9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F7A-7F74-47FB-874A-63F8C916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A8F6-B432-4920-A96E-B24BDF3578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5DB5-045C-4C5C-9541-583B91C35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apted from a presentation by GREMA MALAM MAMADOU  Novem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10-08-04T20:18:26Z</dcterms:modified>
  <cp:revision>103</cp:revision>
  <dc:subject/>
  <dc:title>Formative assessment techniques</dc:title>
</cp:coreProperties>
</file>