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81906-320E-482E-A3BA-915BE510D9C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E7AFF-ACF2-4A72-AD92-9BAC160A1E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6033-7C9C-4F71-9841-5BFA9B5F3C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C349E-F68B-47BD-9215-431C7C948D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F490-C02B-493A-BF8F-BC3461661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D525-BC20-41A5-BB27-13FDB1699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CF0E-475E-4910-936C-5A87E6076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E28A-A280-4834-A0FD-0AEA9443D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B626-7AF9-46EA-AF78-C82A10142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7E34-9C19-47C3-A288-41EF5B8FB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B1D1-CE7E-4FA0-8AD2-426EBC0EB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8322-90CF-421F-980F-27CCBDC65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34A5-D2CE-4AEE-899F-252D0A492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B7A3-3CA5-4EF4-8669-FE4935FD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1DF5-5D32-44C2-9B0B-7CF5815C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E53B-B329-4F49-A86E-081F6D4F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0ECD3-85D4-4E65-B634-EE8CBE041B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E7298-6B41-4FAE-A9FB-39CE4087F7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turningtechnologies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ecking for understanding: Formative assessment techniques (Fisher D.&amp; Frey N., 2007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920" y="2362320"/>
            <a:ext cx="85341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esented by GREMA MALAM MAMAD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riting to check for understan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2824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Narrative writing(telling a story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Informative writing(informing the reader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Persuasive writing(persuading the reader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Writing is thinking. Teacher looks at how the form and the content interac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Summary writing: gives teachers insight into how learners condense inform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Example: the précis: a short piece that contains the major ideas and concepts of a topic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s and performances to check for understan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304560" y="228600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asks associated with application, analysis, synthesis and evalu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tudents transfer their learning to new situ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ey help determine students’ understanding of the cont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ffective techniques using projects and performa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52280" y="19807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Readers’ Theatre: a small group of students take a piece of text and turn it into a script to show their understanding of the main ide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ultimedia presentation: students develop and present PowerPoint present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isual displays of information: graphic organizers, inspi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ublic performance: music, 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lectronic and paper portfoli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tests to check for understan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They depend in part on the design and development of good test item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They also depend on the analysis of student respons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Examples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multiple choice items provide the teacher with an opportunity to gauge students' understanding in a fairly quick and efficient manner and easy to analyz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s(continue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38052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Short answer test items are considered effective as a measure of students’ ability to accurately recall specific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Teachers should choose the appropriate formats: blank line, specificity, hidden clu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Cloze test: can be used as a diagnostic reading assessment technique, to determine a student’s independent reading level and to check for understanding of content-area tex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Essay: requires that students consolidate their understanding of a topic, organize their thinking and present it. It is a performance test though subjectiv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1760" y="10666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A “mistake “in our teaching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”</a:t>
            </a: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Does everyone understand?”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A lone voice says, "Yes”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We accept it as evidence that learning has occurred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Much later, we review the results of the latest quiz, test, or essay, and shake our heads in wonder. “I taught all this,” we say, “Didn’t they get it?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should we do to avoid being misle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920" y="1828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ormative assessments to check for understanding: ongoing assessments to</a:t>
            </a:r>
            <a:r>
              <a:rPr b="0" i="1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gather information about what and how students are learnin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Use the information to make adjustments to instruction, to keep students on track and help them develop into confident, independent learn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arison of formative and summative assess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17521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066680" y="1905120"/>
          <a:ext cx="7086600" cy="4136760"/>
        </p:xfrm>
        <a:graphic>
          <a:graphicData uri="http://schemas.openxmlformats.org/drawingml/2006/table">
            <a:tbl>
              <a:tblPr/>
              <a:tblGrid>
                <a:gridCol w="2124360"/>
                <a:gridCol w="2122200"/>
                <a:gridCol w="2840040"/>
              </a:tblGrid>
              <a:tr h="50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ormativ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mm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rp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improve instruction and provide student feedba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measure student compet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 administe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going throughout un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d of unit or cour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 students use resul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self-monitor understan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gauge their progress toward course or grade- level goals and benchmar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6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 teachers use resul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check understan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 grades, promo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. Using oral language to check for understand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52280" y="167616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Strategies: Teach students how to be accountable to one another and to their learning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Accountable talk (Resnick L., 2000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Stay on top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Use accurate and appropriate information for the top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Think deeply about what the partner has to sa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2. Noticing nonverbal cu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Observe students’ facial expression, eye movement that let us know their level of understanding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. Value lineu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value lineup(Kagan, 1994): fosters peer discourse based on students 'opinions about an academic topic. Cultivates a broader understanding of the distinctions of understanding on a top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students evaluate a statement and line up according to their degree of agreement/disagreeme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ach pair discuss their reasons for their positions and listen to the perspectives of their partn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I. Using questions to check for understand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8088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5 steps of constructing effective questions(Walsh and Sattes, 2005) called QUILT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prepare the question: purpose (e.g. recognition, recall or application), focus, wording, syntax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present the question: response format, ask the ques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prompt student response: pause, help nonresponden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process student responses: feedback, expand and use correct respons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reflect on questioning practice: analyze questioning techniques, evaluate student response patterns (How often did you scaffold their answers? rephrased a question to clarify understanding? How you handled incorrect responses?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velop authentic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Questions enable students to think and teachers to check for understandin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nsure that the questions engage students in deeper thinking not only to recall information that they have read or been tol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Use Bloom’s taxonomy to engage students’ creative and critical thinking through authentic ques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rategies useful in area of questioning and checking for understan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80520" y="23619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Response Cards(Heward et al., 1996): Students hold up the card to indicate their answer to a question or problem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Audience Response Systems(ARS): Handheld devices used by learners to respond to a question individually in real time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See: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turningtechnologies.com</a:t>
            </a: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 and Jonassen pp.147-15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ReQuest or Reciprocal Questioning(Manzo, 1969): Students ask and answer questions as they rea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02:48:42Z</dcterms:created>
  <dc:creator>grema</dc:creator>
  <dc:description/>
  <dc:language>en-US</dc:language>
  <cp:lastModifiedBy>Gayle Thieman</cp:lastModifiedBy>
  <dcterms:modified xsi:type="dcterms:W3CDTF">2009-10-29T04:18:15Z</dcterms:modified>
  <cp:revision>102</cp:revision>
  <dc:subject/>
  <dc:title>Formative assessment techniques</dc:title>
</cp:coreProperties>
</file>