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23A4-478F-4DC8-9DD7-FDAF2619E2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021A-1280-4271-8BCB-FE11ACC0C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E0CA-4089-413F-A0F5-C313F64CD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4982-E36E-48F9-ACCD-9B4358843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A37-26E1-4715-B9CA-84454B18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B2B-346E-4A31-BF13-9B28AA0A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70E-EB0A-4515-88EF-AB01998E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668-3784-485C-88FE-3399BA65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498-C666-4D63-9733-3889E7C8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B2E-8716-4328-9C07-261A349C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13C-E836-4680-9EEE-5749F044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938-FE7F-454A-91CE-12E9FA0F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B1D-1CB7-413A-BD54-5E62EAF4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82F-15CA-4D2B-B1AB-97FA1D63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64F-3ED9-4C45-A919-C10B5193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601-1D4B-4522-93DA-D53F9635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0D22-2A07-46F2-8E6A-06A356A8A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558B-697A-4D15-8416-42A5E8B7F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rningtechnologi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for understanding: Formative assessment techniques (Fisher D.&amp; Frey N., 200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ented by GREMA MALAM MAMAD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Narrative writing(telling a sto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nformative writing(inform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ersuasive writing(persuad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riting is thinking. Teacher looks at how the form and the content inte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ummary writing: gives teachers insight into how learners condense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: the précis: a short piece that contains the major ideas and concepts of a top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and performance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sks associated with application, analysis, synthesis and eval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s transfer their learning to new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lp determine students’ understanding of th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techniques using projects and perform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aders’ Theatre: a small group of students take a piece of text and turn it into a script to show their understanding of the main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media presentation: students develop and present PowerPoint presen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sual displays of information: graphic organizers, i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ublic performance: music,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lectronic and paper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st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depend in part on the design and development of good test i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lso depend on the analysis of student respo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ltiple choice items provide the teacher with an opportunity to gauge students' understanding in a fairly quick and efficient manner and easy to analyz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hort answer test items are considered effective as a measure of students’ ability to accurately recall specif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achers should choose the appropriate formats: blank line, specificity, hidden c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loze test: can be used as a diagnostic reading assessment technique, to determine a student’s independent reading level and to check for understanding of content-area tex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ssay: requires that students consolidate their understanding of a topic, organize their thinking and present it. It is a performance test though subj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“mistake “in our teach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es everyone understand?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lone voice says, "Ye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 accept it as evidence that learning has occur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ch later, we review the results of the latest quiz, test, or essay, and shake our heads in wonder. “I taught all this,” we say, “Didn’t they get i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we do to avoid being misl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mative assessments to check for understanding: ongoing assessments to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ather information about what and how students are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the information to make adjustments to instruction, to keep students on track and help them develop into confident, independent lea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formative and summativ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905120"/>
          <a:ext cx="7086600" cy="4136760"/>
        </p:xfrm>
        <a:graphic>
          <a:graphicData uri="http://schemas.openxmlformats.org/drawingml/2006/table">
            <a:tbl>
              <a:tblPr/>
              <a:tblGrid>
                <a:gridCol w="2124360"/>
                <a:gridCol w="2122200"/>
                <a:gridCol w="284004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instruction and provide student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student compe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dminis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throughout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unit o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student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f-monitor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uge their progress toward course or grade- level goals and bench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eacher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grades,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Using oral language to check for understa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rategies: Teach students how to be accountable to one another and to their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ccountable talk (Resnick L., 20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ay on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se accurate and appropriate information for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ink deeply about what the partner has to s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2. Noticing nonverbal c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serve students’ facial expression, eye movement that let us know their level of understa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Value line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alue lineup(Kagan, 1994): fosters peer discourse based on students 'opinions about an academic topic. Cultivates a broader understanding of the distinctions of understanding on a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s evaluate a statement and line up according to their degree of agreement/dis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ir discuss their reasons for their positions and listen to the perspectives of their partn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. Using questions to check for underst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steps of constructing effective questions(Walsh and Sattes, 2005) called QUIL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pare the question: purpose (e.g. recognition, recall or application), focus, wording,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sent the question: response format, ask the que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mpt student response: pause, help nonrespond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cess student responses: feedback, expand and use correct respon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flect on questioning practice: analyze questioning techniques, evaluate student response patterns (How often did you scaffold their answers? rephrased a question to clarify understanding? How you handled incorrect responses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 authentic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 enable students to think and teachers to check for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sure that the questions engage students in deeper thinking not only to recall information that they have read or been t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Bloom’s taxonomy to engage students’ creative and critical thinking through authentic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useful in area of questioning and 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sponse Cards(Heward et al., 1996): Students hold up the card to indicate their answer to a question or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udience Response Systems(ARS): Handheld devices used by learners to respond to a question individually in real tim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e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urningtechnologies.co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Jonassen pp.147-1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est or Reciprocal Questioning(Manzo, 1969): Students ask and answer questions as they re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2:48:42Z</dcterms:created>
  <dc:creator>grema</dc:creator>
  <dc:description/>
  <dc:language>en-US</dc:language>
  <cp:lastModifiedBy>Gayle Thieman</cp:lastModifiedBy>
  <dcterms:modified xsi:type="dcterms:W3CDTF">2009-10-29T04:18:15Z</dcterms:modified>
  <cp:revision>102</cp:revision>
  <dc:subject/>
  <dc:title>Formative assessment techniques</dc:title>
</cp:coreProperties>
</file>