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44F5-9C44-4273-8AAC-145F9D6852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C5B2-AC1A-4DB6-8996-9ACE875CA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E0E3-60E9-4B33-9258-4EBDFC46B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25AE-4A92-492D-9AF0-1D9768E81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6B4C-D64F-456B-B937-CA3DC71C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2C7-6199-467D-8B14-8CEBAEFA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A88A-2DF7-4D10-9443-259115ED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80CD-32BA-4473-B373-22136813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EF73-E68C-45AC-85F3-D2B797E5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FFA-DD61-462F-8AFD-879D1A2A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D76-BFA3-4A18-B34B-FB792BD0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7F3C-6858-409B-9171-3141D361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7F3C-32BA-4FDD-886E-F53566D7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43C-F17E-437B-A413-A8008E3D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8E1-3AE0-4404-AEE5-4CD4332C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39B-9AB3-4275-8E4A-8DB62CD8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D6D3-5038-4E9F-A984-B1ACFEFB71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05C9-3D22-427D-983A-C6C82785E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urningtechnologies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ing for understanding: Formative assessment techniques (Fisher D.&amp; Frey N., 200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esented by GREMA MALAM MAMAD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2824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Narrative writing(telling a stor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Informative writing(informing the rea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Persuasive writing(persuading the rea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riting is thinking. Teacher looks at how the form and the content intera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ummary writing: gives teachers insight into how learners condense inform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xample: the précis: a short piece that contains the major ideas and concepts of a topi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s and performances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04560" y="22860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sks associated with application, analysis, synthesis and evalu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udents transfer their learning to new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y help determine students’ understanding of the cont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ive techniques using projects and perform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522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aders’ Theatre: a small group of students take a piece of text and turn it into a script to show their understanding of the main id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ltimedia presentation: students develop and present PowerPoint presen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isual displays of information: graphic organizers, in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ublic performance: music, 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lectronic and paper portfol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ests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depend in part on the design and development of good test it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also depend on the analysis of student respo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xample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multiple choice items provide the teacher with an opportunity to gauge students' understanding in a fairly quick and efficient manner and easy to analyz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s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hort answer test items are considered effective as a measure of students’ ability to accurately recall specific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eachers should choose the appropriate formats: blank line, specificity, hidden clu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loze test: can be used as a diagnostic reading assessment technique, to determine a student’s independent reading level and to check for understanding of content-area tex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ssay: requires that students consolidate their understanding of a topic, organize their thinking and present it. It is a performance test though subjecti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“mistake “in our teaching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Does everyone understand?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lone voice says, "Yes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e accept it as evidence that learning has occur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Much later, we review the results of the latest quiz, test, or essay, and shake our heads in wonder. “I taught all this,” we say, “Didn’t they get it?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should we do to avoid being misl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mative assessments to check for understanding: ongoing assessments to</a:t>
            </a: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ather information about what and how students are lear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e the information to make adjustments to instruction, to keep students on track and help them develop into confident, independent learn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 of formative and summative 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66680" y="1905120"/>
          <a:ext cx="7086600" cy="4136760"/>
        </p:xfrm>
        <a:graphic>
          <a:graphicData uri="http://schemas.openxmlformats.org/drawingml/2006/table">
            <a:tbl>
              <a:tblPr/>
              <a:tblGrid>
                <a:gridCol w="2124360"/>
                <a:gridCol w="2122200"/>
                <a:gridCol w="2840040"/>
              </a:tblGrid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m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mprove instruction and provide student feed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asure student compet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dminis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 throughout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of unit or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students use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elf-monitor under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auge their progress toward course or grade- level goals and benchma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teachers use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heck under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grades, promo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. Using oral language to check for understa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522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trategies: Teach students how to be accountable to one another and to their learn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ccountable talk (Resnick L., 200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tay on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Use accurate and appropriate information for the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ink deeply about what the partner has to s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2. Noticing nonverbal c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Observe students’ facial expression, eye movement that let us know their level of understand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Value line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value lineup(Kagan, 1994): fosters peer discourse based on students 'opinions about an academic topic. Cultivates a broader understanding of the distinctions of understanding on a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tudents evaluate a statement and line up according to their degree of agreement/disagree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pair discuss their reasons for their positions and listen to the perspectives of their partn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I. Using questions to check for understan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 steps of constructing effective questions(Walsh and Sattes, 2005) called QUILT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epare the question: purpose (e.g. recognition, recall or application), focus, wording, synta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esent the question: response format, ask the ques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ompt student response: pause, help nonrespond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ocess student responses: feedback, expand and use correct respons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reflect on questioning practice: analyze questioning techniques, evaluate student response patterns (How often did you scaffold their answers? rephrased a question to clarify understanding? How you handled incorrect responses?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 authentic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Questions enable students to think and teachers to check for understand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nsure that the questions engage students in deeper thinking not only to recall information that they have read or been t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e Bloom’s taxonomy to engage students’ creative and critical thinking through authentic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tegies useful in area of questioning and checking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520" y="23619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esponse Cards(Heward et al., 1996): Students hold up the card to indicate their answer to a question or probl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udience Response Systems(ARS): Handheld devices used by learners to respond to a question individually in real time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ee: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turningtechnologies.com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and Jonassen pp.147-15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eQuest or Reciprocal Questioning(Manzo, 1969): Students ask and answer questions as they rea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02:48:42Z</dcterms:created>
  <dc:creator>grema</dc:creator>
  <dc:description/>
  <dc:language>en-US</dc:language>
  <cp:lastModifiedBy>Gayle Thieman</cp:lastModifiedBy>
  <dcterms:modified xsi:type="dcterms:W3CDTF">2009-10-29T04:18:15Z</dcterms:modified>
  <cp:revision>102</cp:revision>
  <dc:subject/>
  <dc:title>Formative assessment techniques</dc:title>
</cp:coreProperties>
</file>