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22A5-6908-406B-A5F2-1B035BB98F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EF9-C920-4F79-B474-95EB5A819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9D5-51B9-43EA-9573-5EE0D7301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4D9-2CD5-4676-9F80-6CE467A39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0C6-6287-40AB-8466-4A22E4DC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2A2-F418-4083-9965-BE9A6328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C94-7756-46E9-855D-E5C72CAD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8FB-4993-4D1B-A029-3BF48FDC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34F-9D1F-40A3-98F4-E91B183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679-26C6-4AB4-86AE-AF18E2B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C41-1D4B-40CA-8C21-5E84B7BE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41C-07D1-4651-BF62-04FFD9A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08D-B894-4D31-AF4D-2A02EBD0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10D-239F-4309-9FD0-A2926E0D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D7B-46B8-4997-AED9-5BDAC51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8BC-8AB0-4845-B2E5-BE482027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B7C-8850-4B9C-91B2-1421FE7A8D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2EA2-3EA3-4B04-8848-7E1BF5212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d by GREMA MALAM MAMAD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09-10-29T04:18:15Z</dcterms:modified>
  <cp:revision>102</cp:revision>
  <dc:subject/>
  <dc:title>Formative assessment techniques</dc:title>
</cp:coreProperties>
</file>