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9300-398A-4C81-B782-4DE6AE5180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E9F2-4428-4ED0-BFBA-505BA7CF7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E48A-3297-4321-A485-523F63E5B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9F2D-1F7F-4D57-A527-B26BDADA5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DA46-0F11-4AAB-AE3B-DB015E41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BDC-7326-400C-8687-A57798DF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88A0-7E96-46C8-863E-F157EE54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2B08-A747-48E7-A1F4-C2ABDC97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EA77-5597-4717-863B-3F3E7AE1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9347-E01D-4341-BFA4-D74A7A2C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348C-4941-434A-8150-4331459D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74CA-3BBA-4864-9110-49F8C823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81B3-8AFD-45D7-B552-0433E68C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0127-4005-4DB6-BD6A-4EFD799E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360D-B971-4B9D-B1E5-C928EC9C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A789-4A98-4508-A037-E2162DD0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FAD6-86E5-4E32-9FAD-549BBB29A2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7684-DE5D-40AA-B662-8E9862A73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urningtechnologies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cking for understanding: Formative assessment techniques (Fisher D.&amp; Frey N., 2007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dapted from a presentation by GREMA MALAM MAMADOU  November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2824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Narrative writing(telling a stor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Informative writing(informing the read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Persuasive writing(persuading the read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Writing is thinking. Teacher looks at how the form and the content interac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ummary writing: gives teachers insight into how learners condense inform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xample: the précis: a short piece that contains the major ideas and concepts of a topi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s and performances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04560" y="22860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asks associated with application, analysis, synthesis and evalu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udents transfer their learning to new sit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y help determine students’ understanding of the cont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ive techniques using projects and perform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522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aders’ Theatre: a small group of students take a piece of text and turn it into a script to show their understanding of the main id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ultimedia presentation: students develop and present PowerPoint presen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isual displays of information: graphic organizers, in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ublic performance: music, 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lectronic and paper portfol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ests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ey depend in part on the design and development of good test it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ey also depend on the analysis of student respon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xample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multiple choice items provide the teacher with an opportunity to gauge students' understanding in a fairly quick and efficient manner and easy to analyz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s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hort answer test items are considered effective as a measure of students’ ability to accurately recall specific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eachers should choose the appropriate formats: blank line, specificity, hidden clu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loze test: can be used as a diagnostic reading assessment technique, to determine a student’s independent reading level and to check for understanding of content-area tex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ssay: requires that students consolidate their understanding of a topic, organize their thinking and present it. It is a performance test though subjectiv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 “mistake “in our teaching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Does everyone understand?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 lone voice says, "Yes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We accept it as evidence that learning has occur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Much later, we review the results of the latest quiz, test, or essay, and shake our heads in wonder. “I taught all this,” we say, “Didn’t they get it?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should we do to avoid being misl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mative assessments to check for understanding: ongoing assessments to</a:t>
            </a: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ather information about what and how students are learn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se the information to make adjustments to instruction, to keep students on track and help them develop into confident, independent learn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son of formative and summative 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66680" y="1905120"/>
          <a:ext cx="7086600" cy="4136760"/>
        </p:xfrm>
        <a:graphic>
          <a:graphicData uri="http://schemas.openxmlformats.org/drawingml/2006/table">
            <a:tbl>
              <a:tblPr/>
              <a:tblGrid>
                <a:gridCol w="2124360"/>
                <a:gridCol w="2122200"/>
                <a:gridCol w="2840040"/>
              </a:tblGrid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m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mprove instruction and provide student feedb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asure student compet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adminis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oing throughout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of unit or 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students use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self-monitor underst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auge their progress toward course or grade- level goals and benchma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teachers use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heck underst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grades, promo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. Using oral language to check for understa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522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trategies: Teach students how to be accountable to one another and to their learn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ccountable talk (Resnick L., 200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tay on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Use accurate and appropriate information for the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ink deeply about what the partner has to s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2. Noticing nonverbal cu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Observe students’ facial expression, eye movement that let us know their level of understand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Value line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value lineup(Kagan, 1994): fosters peer discourse based on students 'opinions about an academic topic. Cultivates a broader understanding of the distinctions of understanding on a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tudents evaluate a statement and line up according to their degree of agreement/disagree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pair discuss their reasons for their positions and listen to the perspectives of their partn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I. Using questions to check for understan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5 steps of constructing effective questions(Walsh and Sattes, 2005) called QUILT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epare the question: purpose (e.g. recognition, recall or application), focus, wording, syntax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esent the question: response format, ask the ques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ompt student response: pause, help nonrespond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ocess student responses: feedback, expand and use correct respons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reflect on questioning practice: analyze questioning techniques, evaluate student response patterns (How often did you scaffold their answers? rephrased a question to clarify understanding? How you handled incorrect responses?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 authentic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Questions enable students to think and teachers to check for understand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nsure that the questions engage students in deeper thinking not only to recall information that they have read or been to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se Bloom’s taxonomy to engage students’ creative and critical thinking through authentic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tegies useful in area of questioning and checking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80520" y="23619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Response Cards(Heward et al., 1996): Students hold up the card to indicate their answer to a question or probl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udience Response Systems(ARS): Handheld devices used by learners to respond to a question individually in real time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ee: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turningtechnologies.com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and Jonassen pp.147-15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ReQuest or Reciprocal Questioning(Manzo, 1969): Students ask and answer questions as they rea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02:48:42Z</dcterms:created>
  <dc:creator>grema</dc:creator>
  <dc:description/>
  <dc:language>en-US</dc:language>
  <cp:lastModifiedBy>Gayle Thieman</cp:lastModifiedBy>
  <dcterms:modified xsi:type="dcterms:W3CDTF">2010-08-04T20:18:26Z</dcterms:modified>
  <cp:revision>103</cp:revision>
  <dc:subject/>
  <dc:title>Formative assessment techniques</dc:title>
</cp:coreProperties>
</file>