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61B0-3EFA-4C66-8718-7863862D08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6469-276E-4CE8-9696-4088F661C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6655-BA2C-4F8D-91DF-E0E4089A0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20DF-7124-4EF7-A931-C128735BF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74F-DE27-479C-94F6-667768FF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1D9-B7EA-460A-8EAC-C9843F73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B84-5927-4574-9C78-5944D0F2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FE0-1607-4F94-8BE3-D80459E0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960-9BFE-427C-B2EF-6D8FD1D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9A6-C125-4E47-9B8F-567E7F88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E55-65C9-47A5-90EB-C1A030F4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8B5-DFC4-4B14-B344-BA415E88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35B-3755-4EC4-A8F4-0A8204A6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869-15FD-4FE6-A902-66D2AB35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13E-7EC9-467C-B945-69054E21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326-703E-4DA4-9D15-D9E0D6C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81D3-F29D-4825-B946-8E152BF27E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032C-2282-4D01-A702-073421C9E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urningtechnologi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for understanding: Formative assessment techniques (Fisher D.&amp; Frey N., 200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apted from a presentation by GREMA MALAM MAMADOU  November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ting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Narrative writing(telling a sto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nformative writing(inform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ersuasive writing(persuading the rea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riting is thinking. Teacher looks at how the form and the content inte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ummary writing: gives teachers insight into how learners condense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: the précis: a short piece that contains the major ideas and concepts of a top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 and performance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560" y="2286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sks associated with application, analysis, synthesis and eval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s transfer their learning to new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lp determine students’ understanding of the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 techniques using projects and perform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22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aders’ Theatre: a small group of students take a piece of text and turn it into a script to show their understanding of the main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media presentation: students develop and present PowerPoint presen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sual displays of information: graphic organizers, in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ublic performance: music, 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lectronic and paper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sts to check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depend in part on the design and development of good test i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lso depend on the analysis of student respo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ltiple choice items provide the teacher with an opportunity to gauge students' understanding in a fairly quick and efficient manner and easy to analyz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s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hort answer test items are considered effective as a measure of students’ ability to accurately recall specif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eachers should choose the appropriate formats: blank line, specificity, hidden c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loze test: can be used as a diagnostic reading assessment technique, to determine a student’s independent reading level and to check for understanding of content-area tex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Essay: requires that students consolidate their understanding of a topic, organize their thinking and present it. It is a performance test though subjec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“mistake “in our teach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oes everyone understand?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 lone voice says, "Yes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e accept it as evidence that learning has occur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Much later, we review the results of the latest quiz, test, or essay, and shake our heads in wonder. “I taught all this,” we say, “Didn’t they get it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hould we do to avoid being misl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mative assessments to check for understanding: ongoing assessments to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ather information about what and how students are lea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the information to make adjustments to instruction, to keep students on track and help them develop into confident, independent lear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son of formative and summative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66680" y="1905120"/>
          <a:ext cx="7086600" cy="4136760"/>
        </p:xfrm>
        <a:graphic>
          <a:graphicData uri="http://schemas.openxmlformats.org/drawingml/2006/table">
            <a:tbl>
              <a:tblPr/>
              <a:tblGrid>
                <a:gridCol w="2124360"/>
                <a:gridCol w="2122200"/>
                <a:gridCol w="2840040"/>
              </a:tblGrid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instruction and provide student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student compe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adminis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 throughout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unit or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student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elf-monitor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auge their progress toward course or grade- level goals and bench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teachers use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under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grades,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. Using oral language to check for understa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22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rategies: Teach students how to be accountable to one another and to their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ccountable talk (Resnick L., 2000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tay on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Use accurate and appropriate information for the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ink deeply about what the partner has to s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2. Noticing nonverbal c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serve students’ facial expression, eye movement that let us know their level of understan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Value line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alue lineup(Kagan, 1994): fosters peer discourse based on students 'opinions about an academic topic. Cultivates a broader understanding of the distinctions of understanding on a top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s evaluate a statement and line up according to their degree of agreement/disagree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ir discuss their reasons for their positions and listen to the perspectives of their partn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I. Using questions to check for underst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 steps of constructing effective questions(Walsh and Sattes, 2005) called QUILT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pare the question: purpose (e.g. recognition, recall or application), focus, wording, synta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esent the question: response format, ask the ques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mpt student response: pause, help nonrespond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process student responses: feedback, expand and use correct respon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reflect on questioning practice: analyze questioning techniques, evaluate student response patterns (How often did you scaffold their answers? rephrased a question to clarify understanding? How you handled incorrect responses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 authentic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stions enable students to think and teachers to check for understand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sure that the questions engage students in deeper thinking not only to recall information that they have read or been t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se Bloom’s taxonomy to engage students’ creative and critical thinking through authentic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useful in area of questioning and 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sponse Cards(Heward et al., 1996): Students hold up the card to indicate their answer to a question or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Audience Response Systems(ARS): Handheld devices used by learners to respond to a question individually in real tim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e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turningtechnologies.co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Jonassen pp.147-1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eQuest or Reciprocal Questioning(Manzo, 1969): Students ask and answer questions as they rea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2:48:42Z</dcterms:created>
  <dc:creator>grema</dc:creator>
  <dc:description/>
  <dc:language>en-US</dc:language>
  <cp:lastModifiedBy>Gayle Thieman</cp:lastModifiedBy>
  <dcterms:modified xsi:type="dcterms:W3CDTF">2010-08-04T20:18:26Z</dcterms:modified>
  <cp:revision>103</cp:revision>
  <dc:subject/>
  <dc:title>Formative assessment techniques</dc:title>
</cp:coreProperties>
</file>