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58B-786B-4806-B351-1C41A2AD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2AE-7F9C-4FEF-B387-1DB1DFCA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649-C716-4718-BEB3-B22504B8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2AC-E29F-45B4-AFD2-A250D47F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DC6A-A2C7-4A5B-870D-A30B0F3F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9805-5EA5-4E25-9C0C-5DB3811B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36D7-1ABA-45D0-9A9B-DBFB9E3D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96C7-0D8B-4245-A53A-1AAA9D5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1DD5-EBA7-4F82-88EA-01BCE69D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9DEA-7C50-4AEC-B072-A8F08513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C8C7-E6F2-4514-B2A9-8240AB9A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FF4-97CC-4284-8EA3-4F0A5E1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247B-D89A-4EEC-A122-C0D90A4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89CA-8D43-493F-9A32-9B1EBB23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EBBF-25E7-42B1-836C-B1B99F2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D55E-BDCF-446A-ADD3-36222F1C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A49C-F1A8-4901-BEA9-949FA2EF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483-E494-41E7-9531-40C55187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020-2DF7-44A9-8442-AEE754F4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150-668C-45DD-A58B-9B9142F8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755-B437-4BD8-B8EF-4923F688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CF7-1671-47F5-B44A-DB863F0C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BBD-A830-473E-9AA8-07B9975B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4D4-BDD2-49AB-BFDA-F28B46E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8A17-C3FF-4D8B-B961-58D535C2AD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041-5710-419C-BFD6-0DAF43EB9520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3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greenridgemarket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venhoe.gov.uk/" TargetMode="External"/><Relationship Id="rId2" Type="http://schemas.openxmlformats.org/officeDocument/2006/relationships/hyperlink" Target="http://www.designedtoat.com/" TargetMode="External"/><Relationship Id="rId3" Type="http://schemas.openxmlformats.org/officeDocument/2006/relationships/hyperlink" Target="http://www.pgbeilen.nl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Down on Grandma Zoppo’s Farm with Malaika, Daryl and the 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Commutative Property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191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Story Based on Actual Ev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anne Zop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at Ciu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rris Gr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47712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2880" y="4876920"/>
            <a:ext cx="142884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619200" cy="110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1920" y="6019920"/>
            <a:ext cx="22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eslkidstuff.com/ images/grandmother.gif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coolarchive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rvest 12 cabbages and put them into two barrel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6 in each barr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93920" y="2962440"/>
            <a:ext cx="2344680" cy="3027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438280" y="28195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429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2514600" y="38098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2362320" y="4724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-6000"/>
          </a:blip>
          <a:stretch/>
        </p:blipFill>
        <p:spPr>
          <a:xfrm>
            <a:off x="3352680" y="28954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>
            <a:lum contrast="-6000"/>
          </a:blip>
          <a:stretch/>
        </p:blipFill>
        <p:spPr>
          <a:xfrm>
            <a:off x="3276720" y="46483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532480" y="2735280"/>
            <a:ext cx="2367000" cy="3058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>
            <a:lum contrast="-6000"/>
          </a:blip>
          <a:stretch/>
        </p:blipFill>
        <p:spPr>
          <a:xfrm>
            <a:off x="6629400" y="44197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>
            <a:lum contrast="-6000"/>
          </a:blip>
          <a:stretch/>
        </p:blipFill>
        <p:spPr>
          <a:xfrm>
            <a:off x="5791320" y="44956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>
            <a:lum contrast="-6000"/>
          </a:blip>
          <a:stretch/>
        </p:blipFill>
        <p:spPr>
          <a:xfrm>
            <a:off x="6705720" y="365760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>
            <a:lum contrast="-6000"/>
          </a:blip>
          <a:stretch/>
        </p:blipFill>
        <p:spPr>
          <a:xfrm>
            <a:off x="5715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>
            <a:lum contrast="-6000"/>
          </a:blip>
          <a:stretch/>
        </p:blipFill>
        <p:spPr>
          <a:xfrm>
            <a:off x="6705720" y="28195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>
            <a:lum contrast="-6000"/>
          </a:blip>
          <a:stretch/>
        </p:blipFill>
        <p:spPr>
          <a:xfrm>
            <a:off x="5791320" y="2895480"/>
            <a:ext cx="904680" cy="812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33720" y="1676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÷2=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ook two cabbages to feed to the 12 bunnies.  They needed to cut the cabbages into 12 pieces.  Each bunny gets 1/6 of a cabb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957920" y="2432160"/>
            <a:ext cx="1711080" cy="1617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29200" y="4097160"/>
            <a:ext cx="1712880" cy="1617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038480" y="29718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5812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4648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5410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18288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3048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3733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124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288612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2886120" cy="1800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5238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nimals.timduru.org/dirlist/bunny_Rabbit/rabbit-bunnies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÷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 = 1/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Multiplic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902960"/>
            <a:ext cx="77724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picking cabbage for the bunnies, Malaika and Daryl have now discovered tha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ultiplication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is also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at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il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division is not 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 mat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19520" y="5452920"/>
            <a:ext cx="106668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5040" y="61326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themeunit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220464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bright sunny spring day Malaika and Daryl went to visit their Grandma Zoppo on her Math Farm and discovered the Commutative Prope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y arrived they got right to work, because that's what you do on a farm. Grandma Zoppo sent them out to pick vegetables and fruit for their lunch, and for the animals’ lun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163000" y="6400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20996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8880" y="601992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246720"/>
            <a:ext cx="2139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geocities.com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greenridgemarket.com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 www.kushiro.ed.jp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05320" y="5562720"/>
            <a:ext cx="116208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aika digs up 2 carrots to put in her basket.  She then picks 3 tomatoes and adds them to the carro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153324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10080" y="3048120"/>
            <a:ext cx="1133640" cy="119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133280" cy="119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8120" y="5257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320" y="55594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400800" y="2133720"/>
            <a:ext cx="2133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yl picks 3 tomatoes for his basket, and then digs up 2 carrots and puts them in,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1533240" cy="157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362320" y="2895480"/>
            <a:ext cx="11332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600200" y="44956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14400" y="3505320"/>
            <a:ext cx="1133640" cy="119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70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52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638680" y="3733920"/>
            <a:ext cx="2286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aika finds a strawberry plant with 5 ripe berries.  She eats 2, leaving 3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 basket f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– 2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176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105264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371600" cy="1052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1371600" cy="105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0" t="0" r="0" b="38888"/>
          <a:stretch/>
        </p:blipFill>
        <p:spPr>
          <a:xfrm>
            <a:off x="5029200" y="236232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38888" b="0"/>
          <a:stretch/>
        </p:blipFill>
        <p:spPr>
          <a:xfrm>
            <a:off x="2666880" y="4800600"/>
            <a:ext cx="135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Daryl’s wants to pick 5 strawberries, too, but his strawberry plant only has 2 ripe berries.</a:t>
            </a:r>
            <a:br>
              <a:rPr sz="2800"/>
            </a:b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He is missing 3 berries.</a:t>
            </a:r>
            <a:endParaRPr b="1" lang="en-US" sz="2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200" y="333216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– 5 = 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3120" y="55198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0719" t="0" r="10719" b="0"/>
          <a:stretch/>
        </p:blipFill>
        <p:spPr>
          <a:xfrm>
            <a:off x="3373560" y="417348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38888"/>
          <a:stretch/>
        </p:blipFill>
        <p:spPr>
          <a:xfrm>
            <a:off x="6400800" y="1828800"/>
            <a:ext cx="1523880" cy="1424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38888" b="0"/>
          <a:stretch/>
        </p:blipFill>
        <p:spPr>
          <a:xfrm>
            <a:off x="5334120" y="2895480"/>
            <a:ext cx="135072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0" t="0" r="38888" b="0"/>
          <a:stretch/>
        </p:blipFill>
        <p:spPr>
          <a:xfrm>
            <a:off x="6781680" y="3200400"/>
            <a:ext cx="1351080" cy="1447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rcRect l="10719" t="0" r="10719" b="0"/>
          <a:stretch/>
        </p:blipFill>
        <p:spPr>
          <a:xfrm>
            <a:off x="4648320" y="46483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Addi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helping Grandma on the Math Farm, Malaika and Daryl have discovered the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 Property for Add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When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add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lso learned that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 when you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, so the commutative propert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rk 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52640" y="5867280"/>
            <a:ext cx="1366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wivenhoe.gov.u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designedtoa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gbeilen.n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buy-clip-ar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free-clipart.n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57600" y="5486400"/>
            <a:ext cx="1035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8089920" y="5181480"/>
            <a:ext cx="824040" cy="106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76920" y="5334120"/>
            <a:ext cx="1143000" cy="119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98108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01000" y="647712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324480" y="5943600"/>
            <a:ext cx="971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aika looks at the cabbage patch and she sees 3 rows with 4 cabbages each for a total of 12 cabb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853920" cy="806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x 4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1801800" y="3581280"/>
            <a:ext cx="2043000" cy="2486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0" y="28954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thechp.syr.edu/KM_50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yl counts 4 rows of 3 cabbages each for a total of 12 cabb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475400" y="5234040"/>
            <a:ext cx="854280" cy="806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x 3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4572000" y="1523880"/>
            <a:ext cx="1320840" cy="1981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51055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afc.org/images/Boy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3:53:40Z</dcterms:created>
  <dc:creator>LCT-Generic</dc:creator>
  <dc:description/>
  <cp:keywords/>
  <dc:language>en-US</dc:language>
  <cp:lastModifiedBy>Jeanne Zoppo</cp:lastModifiedBy>
  <dcterms:modified xsi:type="dcterms:W3CDTF">2006-05-15T18:24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