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853-5D83-4A4D-9F37-8860A012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32B-303E-429A-AC85-8B20FD71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A07-1B97-41AA-8ABD-645F9E0E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A8A-B532-4E9A-9404-9629E5CF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E3AD-FDD3-4344-BB87-B5DE687A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ED83-CCCA-4319-8923-E71FF3CE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09C2-E22F-46D7-9B39-3D8AD31D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02CD-7F73-473D-AF30-FE8B8D0B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FD5B-5EEC-4350-B33A-29035948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2C48-A90D-4506-A2F3-40E9048D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0945-9CF7-4803-B92E-5CE81DAA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F8B-D538-415B-9B7C-84D5C49D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6804-CC6F-45F9-9AD3-DFFE1C03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0857-C909-4C19-A488-2172FE03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6FA8-207D-4E23-A01D-A299CFA9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D3D1-E495-4452-B5DD-FB6EAD7D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2F74-5A66-4783-B77A-53FA65C4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98F-D26C-4CC0-8E0D-3EDE7115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A44-6B4D-45D9-8823-3F51FB72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FB9-5900-4355-AD83-5F6F67D6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0277-84EE-4F44-BE22-3F699AA7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D43-381E-431D-8D08-B721DBAC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87C-55D5-4F41-B3BF-C5879658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796-30DB-4D06-9ADC-D83743FC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6EFF-B673-42E1-8F54-3766AA76C7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E4EE-5D2F-40C0-AB76-749776C810B7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3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greenridgemarket.com/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venhoe.gov.uk/" TargetMode="External"/><Relationship Id="rId2" Type="http://schemas.openxmlformats.org/officeDocument/2006/relationships/hyperlink" Target="http://www.designedtoat.com/" TargetMode="External"/><Relationship Id="rId3" Type="http://schemas.openxmlformats.org/officeDocument/2006/relationships/hyperlink" Target="http://www.pgbeilen.nl/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Down on Grandma Zoppo’s Farm with Malaika, Daryl and the </a:t>
            </a: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Commutative Property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1911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 Story Based on Actual Ev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eanne Zop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at Ciu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rris Gr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477120"/>
            <a:ext cx="9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2880" y="4876920"/>
            <a:ext cx="1428840" cy="16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5105520"/>
            <a:ext cx="619200" cy="1104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1920" y="6019920"/>
            <a:ext cx="223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eslkidstuff.com/ images/grandmother.gif</a:t>
            </a:r>
            <a:br>
              <a:rPr sz="800"/>
            </a:b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coolarchive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rvest 12 cabbages and put them into two barrel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6 in each barr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93920" y="2962440"/>
            <a:ext cx="2344680" cy="3027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438280" y="28195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429000" y="37339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2514600" y="38098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2362320" y="4724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>
            <a:lum contrast="-6000"/>
          </a:blip>
          <a:stretch/>
        </p:blipFill>
        <p:spPr>
          <a:xfrm>
            <a:off x="3352680" y="28954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>
            <a:lum contrast="-6000"/>
          </a:blip>
          <a:stretch/>
        </p:blipFill>
        <p:spPr>
          <a:xfrm>
            <a:off x="3276720" y="46483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5532480" y="2735280"/>
            <a:ext cx="2367000" cy="3058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>
            <a:lum contrast="-6000"/>
          </a:blip>
          <a:stretch/>
        </p:blipFill>
        <p:spPr>
          <a:xfrm>
            <a:off x="6629400" y="44197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>
            <a:lum contrast="-6000"/>
          </a:blip>
          <a:stretch/>
        </p:blipFill>
        <p:spPr>
          <a:xfrm>
            <a:off x="5791320" y="44956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>
            <a:lum contrast="-6000"/>
          </a:blip>
          <a:stretch/>
        </p:blipFill>
        <p:spPr>
          <a:xfrm>
            <a:off x="6705720" y="365760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>
            <a:lum contrast="-6000"/>
          </a:blip>
          <a:stretch/>
        </p:blipFill>
        <p:spPr>
          <a:xfrm>
            <a:off x="5715000" y="37339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">
            <a:lum contrast="-6000"/>
          </a:blip>
          <a:stretch/>
        </p:blipFill>
        <p:spPr>
          <a:xfrm>
            <a:off x="6705720" y="28195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4">
            <a:lum contrast="-6000"/>
          </a:blip>
          <a:stretch/>
        </p:blipFill>
        <p:spPr>
          <a:xfrm>
            <a:off x="5791320" y="2895480"/>
            <a:ext cx="904680" cy="812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33720" y="1676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÷2=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ook two cabbages to feed to the 12 bunnies.  They needed to cut the cabbages into 12 pieces.  Each bunny gets 1/6 of a cabb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957920" y="2432160"/>
            <a:ext cx="1711080" cy="1617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29200" y="4097160"/>
            <a:ext cx="1712880" cy="1617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038480" y="297180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5812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46483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54100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18288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3048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3733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124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2886120" cy="180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38080" y="4419720"/>
            <a:ext cx="2886120" cy="1800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5238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nimals.timduru.org/dirlist/bunny_Rabbit/rabbit-bunnies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÷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 = 1/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cc17"/>
                </a:solidFill>
                <a:uFillTx/>
                <a:latin typeface="Arial"/>
              </a:rPr>
              <a:t>Commutative Property of Multiplica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902960"/>
            <a:ext cx="77724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picking cabbage for the bunnies, Malaika and Daryl have now discovered that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ultiplication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is also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commut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 orde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at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il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division is not commut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 or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 mat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8001000" y="64008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19520" y="5452920"/>
            <a:ext cx="106668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65040" y="613260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themeunits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2204640"/>
            <a:ext cx="77724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bright sunny spring day Malaika and Daryl went to visit their Grandma Zoppo on her Math Farm and discovered the Commutative Prope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y arrived they got right to work, because that's what you do on a farm. Grandma Zoppo sent them out to pick vegetables and fruit for their lunch, and for the animals’ lun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163000" y="64008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209960" cy="119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38880" y="601992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246720"/>
            <a:ext cx="2139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geocities.com</a:t>
            </a:r>
            <a:br>
              <a:rPr sz="800"/>
            </a:b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greenridgemarket.com</a:t>
            </a: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 www.kushiro.ed.jp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05320" y="5562720"/>
            <a:ext cx="1162080" cy="10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aika digs up 2 carrots to put in her basket.  She then picks 3 tomatoes and adds them to the carro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153324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1533600" cy="157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10080" y="3048120"/>
            <a:ext cx="1133640" cy="119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113364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133280" cy="119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8120" y="5257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+ 3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320" y="55594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400800" y="2133720"/>
            <a:ext cx="2133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yl picks 3 tomatoes for his basket, and then digs up 2 carrots and puts them in, t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1533600" cy="1571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1533240" cy="1571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362320" y="2895480"/>
            <a:ext cx="113328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600200" y="4495680"/>
            <a:ext cx="113364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914400" y="3505320"/>
            <a:ext cx="1133640" cy="119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370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+ 2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520" y="5940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638680" y="3733920"/>
            <a:ext cx="22860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aika finds a strawberry plant with 5 ripe berries.  She eats 2, leaving 3 f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 basket for l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– 2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1760" y="5940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105264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371600" cy="1052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1371600" cy="105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0" t="0" r="0" b="38888"/>
          <a:stretch/>
        </p:blipFill>
        <p:spPr>
          <a:xfrm>
            <a:off x="5029200" y="236232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38888" b="0"/>
          <a:stretch/>
        </p:blipFill>
        <p:spPr>
          <a:xfrm>
            <a:off x="2666880" y="4800600"/>
            <a:ext cx="135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c17"/>
                </a:solidFill>
                <a:latin typeface="Arial"/>
              </a:rPr>
              <a:t>Daryl’s wants to pick 5 strawberries, too, but his strawberry plant only has 2 ripe berries.</a:t>
            </a:r>
            <a:br>
              <a:rPr sz="2800"/>
            </a:br>
            <a:r>
              <a:rPr b="1" lang="en-US" sz="2800" spc="-1" strike="noStrike">
                <a:solidFill>
                  <a:srgbClr val="f7cc17"/>
                </a:solidFill>
                <a:latin typeface="Arial"/>
              </a:rPr>
              <a:t>He is missing 3 berries.</a:t>
            </a:r>
            <a:endParaRPr b="1" lang="en-US" sz="2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200" y="3332160"/>
            <a:ext cx="19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– 5 = 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3120" y="55198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0719" t="0" r="10719" b="0"/>
          <a:stretch/>
        </p:blipFill>
        <p:spPr>
          <a:xfrm>
            <a:off x="3373560" y="4173480"/>
            <a:ext cx="1584360" cy="1420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38888"/>
          <a:stretch/>
        </p:blipFill>
        <p:spPr>
          <a:xfrm>
            <a:off x="6400800" y="1828800"/>
            <a:ext cx="1523880" cy="1424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0" r="38888" b="0"/>
          <a:stretch/>
        </p:blipFill>
        <p:spPr>
          <a:xfrm>
            <a:off x="5334120" y="2895480"/>
            <a:ext cx="135072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0" t="0" r="38888" b="0"/>
          <a:stretch/>
        </p:blipFill>
        <p:spPr>
          <a:xfrm>
            <a:off x="6781680" y="3200400"/>
            <a:ext cx="1351080" cy="1447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rcRect l="10719" t="0" r="10719" b="0"/>
          <a:stretch/>
        </p:blipFill>
        <p:spPr>
          <a:xfrm>
            <a:off x="4648320" y="46483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cc17"/>
                </a:solidFill>
                <a:uFillTx/>
                <a:latin typeface="Arial"/>
              </a:rPr>
              <a:t>Commutative Property of Addi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helping Grandma on the Math Farm, Malaika and Daryl have discovered the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Commutative Property for Add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When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add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umbers the orde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doe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also learned that or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ter when you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tra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umbers, so the commutative propert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rk f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tr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52640" y="5867280"/>
            <a:ext cx="1366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wivenhoe.gov.u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www.designedtoat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pgbeilen.n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buy-clip-art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free-clipart.n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657600" y="5486400"/>
            <a:ext cx="1035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8089920" y="5181480"/>
            <a:ext cx="824040" cy="106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76920" y="5334120"/>
            <a:ext cx="1143000" cy="119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98108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01000" y="647712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324480" y="5943600"/>
            <a:ext cx="9716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aika looks at the cabbage patch and she sees 3 rows with 4 cabbages each for a total of 12 cabba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853920" cy="806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905040" cy="81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3886200" y="5410080"/>
            <a:ext cx="895320" cy="801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>
            <a:lum contrast="-6000"/>
          </a:blip>
          <a:stretch/>
        </p:blipFill>
        <p:spPr>
          <a:xfrm>
            <a:off x="3886200" y="365760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4952880" y="35812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6019920" y="3581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7086600" y="35053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4952880" y="44956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5791320" y="1143000"/>
            <a:ext cx="2403360" cy="2236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95280" y="1676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x 4 = 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1801800" y="3581280"/>
            <a:ext cx="2043000" cy="2486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600" y="28954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thechp.syr.edu/KM_50.j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yl counts 4 rows of 3 cabbages each for a total of 12 cabba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475400" y="5234040"/>
            <a:ext cx="854280" cy="806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905040" cy="811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3886200" y="5410080"/>
            <a:ext cx="895320" cy="801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>
            <a:lum contrast="-6000"/>
          </a:blip>
          <a:stretch/>
        </p:blipFill>
        <p:spPr>
          <a:xfrm>
            <a:off x="3886200" y="365760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4952880" y="35812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6019920" y="3581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"/>
          <a:stretch/>
        </p:blipFill>
        <p:spPr>
          <a:xfrm>
            <a:off x="7086600" y="35053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2"/>
          <a:stretch/>
        </p:blipFill>
        <p:spPr>
          <a:xfrm>
            <a:off x="4952880" y="44956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5791320" y="1143000"/>
            <a:ext cx="2403360" cy="2236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95280" y="1676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x 3 = 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4572000" y="1523880"/>
            <a:ext cx="1320840" cy="1981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280" y="51055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afc.org/images/Boy.j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3:53:40Z</dcterms:created>
  <dc:creator>LCT-Generic</dc:creator>
  <dc:description/>
  <cp:keywords/>
  <dc:language>en-US</dc:language>
  <cp:lastModifiedBy>Jeanne Zoppo</cp:lastModifiedBy>
  <dcterms:modified xsi:type="dcterms:W3CDTF">2006-05-15T18:24:3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