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C30-7302-40AE-934B-DA0AE9E4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498-A6FE-4CFA-93AF-9E4E37F4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21A-BD32-4CF4-B986-FAFF5E18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408-AE57-4726-97C5-407D7971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CB6-9AB9-498D-89B2-7C3D75C2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D15-F198-4B5F-8F92-B30E3E03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B85-A137-4008-BE9B-46FCF67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A722-0584-4CE6-B501-A3D3EC9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F123-826E-4029-9632-A66F782D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35B9-DE6F-42A7-BAE2-855DA55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A5E5-43CA-497E-912B-136A5CE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F5C-2F40-4473-9FA2-C4874D8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C0FF-D30D-4EB3-9703-4E3FDE2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D92-F9EF-4DD3-A703-5730D6E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CA10-07B4-484F-AEDB-F66792E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04E9-6CA6-41F6-92C4-85EB5B27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6FDC-E61F-485D-B173-ACE0D16C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4DC-7D66-4EEF-95AE-F079A3D1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552-2745-447A-9D5B-D7F953C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93D-EB42-4FB9-BB4B-7E87455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ABB-C08A-4966-99BA-E30F379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EAC-3581-42F8-9139-B276EFD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034-C1AE-42B8-992B-89946C2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F69-AF98-4A79-9FFB-DA4A963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5330-D152-4E54-9B7E-9AE2E90395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0EB5-1AAC-4E4A-8413-ECCC27B75A21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23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greenridgemarket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venhoe.gov.uk/" TargetMode="External"/><Relationship Id="rId2" Type="http://schemas.openxmlformats.org/officeDocument/2006/relationships/hyperlink" Target="http://www.designedtoat.com/" TargetMode="External"/><Relationship Id="rId3" Type="http://schemas.openxmlformats.org/officeDocument/2006/relationships/hyperlink" Target="http://www.pgbeilen.nl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9.wmf"/><Relationship Id="rId10" Type="http://schemas.openxmlformats.org/officeDocument/2006/relationships/image" Target="../media/image19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Down on Grandma Zoppo’s Farm with Malaika, Daryl and the 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7cc17"/>
                </a:solidFill>
                <a:latin typeface="Arial"/>
              </a:rPr>
              <a:t>Commutative Property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91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Story Based on Actual Ev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anne Zop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at Ciu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rris Gr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77120"/>
            <a:ext cx="9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2880" y="4876920"/>
            <a:ext cx="142884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192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1920" y="6019920"/>
            <a:ext cx="22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eslkidstuff.com/ images/grandmother.gif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coolarchive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rvest 12 cabbages and put them into two barrel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6 in each barr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3920" y="2962440"/>
            <a:ext cx="2344680" cy="3027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438280" y="28195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429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2514600" y="38098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2362320" y="4724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-6000"/>
          </a:blip>
          <a:stretch/>
        </p:blipFill>
        <p:spPr>
          <a:xfrm>
            <a:off x="3352680" y="28954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>
            <a:lum contrast="-6000"/>
          </a:blip>
          <a:stretch/>
        </p:blipFill>
        <p:spPr>
          <a:xfrm>
            <a:off x="3276720" y="46483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5532480" y="2735280"/>
            <a:ext cx="2367000" cy="3058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>
            <a:lum contrast="-6000"/>
          </a:blip>
          <a:stretch/>
        </p:blipFill>
        <p:spPr>
          <a:xfrm>
            <a:off x="6629400" y="44197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>
            <a:lum contrast="-6000"/>
          </a:blip>
          <a:stretch/>
        </p:blipFill>
        <p:spPr>
          <a:xfrm>
            <a:off x="5791320" y="44956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>
            <a:lum contrast="-6000"/>
          </a:blip>
          <a:stretch/>
        </p:blipFill>
        <p:spPr>
          <a:xfrm>
            <a:off x="6705720" y="365760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>
            <a:lum contrast="-6000"/>
          </a:blip>
          <a:stretch/>
        </p:blipFill>
        <p:spPr>
          <a:xfrm>
            <a:off x="5715000" y="37339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>
            <a:lum contrast="-6000"/>
          </a:blip>
          <a:stretch/>
        </p:blipFill>
        <p:spPr>
          <a:xfrm>
            <a:off x="6705720" y="28195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>
            <a:lum contrast="-6000"/>
          </a:blip>
          <a:stretch/>
        </p:blipFill>
        <p:spPr>
          <a:xfrm>
            <a:off x="5791320" y="2895480"/>
            <a:ext cx="904680" cy="81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33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÷2=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two cabbages to feed to the 12 bunnies.  They needed to cut the cabbages into 12 pieces.  Each bunny gets 1/6 of a cabb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957920" y="2432160"/>
            <a:ext cx="1711080" cy="1617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5029200" y="4097160"/>
            <a:ext cx="1712880" cy="1617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038480" y="29718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58128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648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410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18288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048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733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88612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2886120" cy="180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15238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nimals.timduru.org/dirlist/bunny_Rabbit/rabbit-bunnies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÷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 = 1/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Multiplica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02960"/>
            <a:ext cx="77724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picking cabbage for the bunnies, Malaika and Daryl have now discovered tha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ultiplica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is also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att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l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division is not commutativ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ause the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 ma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5452920"/>
            <a:ext cx="106668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5040" y="613260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themeunit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7cc17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220464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bright sunny spring day Malaika and Daryl went to visit their Grandma Zoppo on her Math Farm and discovered the Commutative Prope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rrived they got right to work, because that's what you do on a farm. Grandma Zoppo sent them out to pick vegetables and fruit for their lunch, and for the animals’ lun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163000" y="640080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209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46720"/>
            <a:ext cx="2139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geocities.com</a:t>
            </a:r>
            <a:br>
              <a:rPr sz="800"/>
            </a:b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greenridgemarket.com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 www.kushiro.ed.jp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5562720"/>
            <a:ext cx="116208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aika digs up 2 carrots to put in her basket.  She then picks 3 tomatoes and adds them to the carro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153324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11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133280" cy="119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5257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+ 3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320" y="55594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400800" y="2133720"/>
            <a:ext cx="2133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ryl picks 3 tomatoes for his basket, and then digs up 2 carrots and puts them in,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15336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1533240" cy="157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11332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600200" y="4495680"/>
            <a:ext cx="113364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1133640" cy="119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70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52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aika finds a strawberry plant with 5 ripe berries.  She eats 2, leaving 3 f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 basket for l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– 2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1760" y="59403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0526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71600" cy="1052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1371600" cy="105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0" t="0" r="0" b="38888"/>
          <a:stretch/>
        </p:blipFill>
        <p:spPr>
          <a:xfrm>
            <a:off x="5029200" y="236232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38888" b="0"/>
          <a:stretch/>
        </p:blipFill>
        <p:spPr>
          <a:xfrm>
            <a:off x="2666880" y="4800600"/>
            <a:ext cx="135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Daryl’s wants to pick 5 strawberries, too, but his strawberry plant only has 2 ripe berries.</a:t>
            </a:r>
            <a:br>
              <a:rPr sz="2800"/>
            </a:br>
            <a:r>
              <a:rPr b="1" lang="en-US" sz="2800" spc="-1" strike="noStrike">
                <a:solidFill>
                  <a:srgbClr val="f7cc17"/>
                </a:solidFill>
                <a:latin typeface="Arial"/>
              </a:rPr>
              <a:t>He is missing 3 berries.</a:t>
            </a:r>
            <a:endParaRPr b="1" lang="en-US" sz="2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200" y="3332160"/>
            <a:ext cx="19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– 5 =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3120" y="5519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 Ci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0719" t="0" r="10719" b="0"/>
          <a:stretch/>
        </p:blipFill>
        <p:spPr>
          <a:xfrm>
            <a:off x="3373560" y="4173480"/>
            <a:ext cx="1584360" cy="142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38888"/>
          <a:stretch/>
        </p:blipFill>
        <p:spPr>
          <a:xfrm>
            <a:off x="6400800" y="1828800"/>
            <a:ext cx="1523880" cy="1424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38888" b="0"/>
          <a:stretch/>
        </p:blipFill>
        <p:spPr>
          <a:xfrm>
            <a:off x="5334120" y="2895480"/>
            <a:ext cx="135072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38888" b="0"/>
          <a:stretch/>
        </p:blipFill>
        <p:spPr>
          <a:xfrm>
            <a:off x="678168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10719" t="0" r="10719" b="0"/>
          <a:stretch/>
        </p:blipFill>
        <p:spPr>
          <a:xfrm>
            <a:off x="4648320" y="4648320"/>
            <a:ext cx="16761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7cc17"/>
                </a:solidFill>
                <a:uFillTx/>
                <a:latin typeface="Arial"/>
              </a:rPr>
              <a:t>Commutative Property of Addition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helping Grandma on the Math Farm, Malaika and Daryl have discovered the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Commutative Property for Add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Whe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dd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 the orde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also learned that or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ter when you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umbers, so the commutative proper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es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rk fo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tr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52640" y="5867280"/>
            <a:ext cx="1366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wivenhoe.gov.u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www.designedtoa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gbeilen.n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buy-clip-art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ff"/>
                </a:solidFill>
                <a:uFillTx/>
                <a:latin typeface="Arial"/>
              </a:rPr>
              <a:t>www.free-clipart.n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57600" y="5486400"/>
            <a:ext cx="1035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089920" y="51814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76920" y="5334120"/>
            <a:ext cx="1143000" cy="119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01000" y="647712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ris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324480" y="5943600"/>
            <a:ext cx="97164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ika looks at the cabbage patch and she sees 3 rows with 4 cabbages each for a total of 12 cabb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853920" cy="806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x 4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1801800" y="3581280"/>
            <a:ext cx="2043000" cy="248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0" y="28954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thechp.syr.edu/KM_50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counts 4 rows of 3 cabbages each for a total of 12 cabb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5880" y="53341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475400" y="5234040"/>
            <a:ext cx="854280" cy="806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5410080"/>
            <a:ext cx="905040" cy="811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3886200" y="5410080"/>
            <a:ext cx="89532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19920" y="4419720"/>
            <a:ext cx="904680" cy="812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886200" y="45720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086600" y="4343400"/>
            <a:ext cx="905040" cy="811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>
            <a:lum contrast="-6000"/>
          </a:blip>
          <a:stretch/>
        </p:blipFill>
        <p:spPr>
          <a:xfrm>
            <a:off x="3886200" y="365760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4952880" y="35812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019920" y="3581280"/>
            <a:ext cx="904680" cy="81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7086600" y="3505320"/>
            <a:ext cx="905040" cy="81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4952880" y="4495680"/>
            <a:ext cx="905040" cy="81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791320" y="1143000"/>
            <a:ext cx="2403360" cy="223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95280" y="1676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x 3 = 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4572000" y="1523880"/>
            <a:ext cx="1320840" cy="1981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280" y="5105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afc.org/images/Boy.jp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anne Zopp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3:53:40Z</dcterms:created>
  <dc:creator>LCT-Generic</dc:creator>
  <dc:description/>
  <cp:keywords/>
  <dc:language>en-US</dc:language>
  <cp:lastModifiedBy>Jeanne Zoppo</cp:lastModifiedBy>
  <dcterms:modified xsi:type="dcterms:W3CDTF">2006-05-15T18:24:3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