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0B9-AF23-4F03-9050-10D2A574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4E1-220C-4093-A911-CAFB46A5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AC3-6393-41DA-9350-0F3501C7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F8B-850C-461F-B7A1-814781D8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5C7D-D67E-4ACD-A287-28571CBE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30A-68C8-4291-926F-A7A0E5A1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9ABD-4708-44B7-AA57-7C2B0A49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6F0B-4129-4C30-B981-A67EA87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F45-C6CE-4089-974C-9020C060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D9C2-36D4-4357-BFA1-013D162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054-43C9-4174-A5F2-26564149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7A0-18BE-4426-9FB1-F1C55D1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2277-402A-48B4-963E-242F0F7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F1BC-B294-4B4E-A9CA-080C6EE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8069-6042-49B7-A6BF-1D44613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37E-1842-4D8B-9C89-6DC3AE5B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9A79-C555-4558-BF81-2392F381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07C-3127-47A9-B995-A990D9F4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B67-AD10-4C8D-9EB5-A3A7ADB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18E-41C7-4697-99FA-A2DC5B7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DE9-B230-4868-B078-9C38A5CF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231-3407-482D-9867-A9F248E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39B-C7EC-4D0E-9BE7-242CA2E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7EA-FE29-40C7-8BF6-5A58E40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D781-9C7A-4A1B-A8B5-4971BE6D7F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2FC0-6610-48C5-8045-749B7F7620A4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reenridgemarket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venhoe.gov.uk/" TargetMode="External"/><Relationship Id="rId2" Type="http://schemas.openxmlformats.org/officeDocument/2006/relationships/hyperlink" Target="http://www.designedtoat.com/" TargetMode="External"/><Relationship Id="rId3" Type="http://schemas.openxmlformats.org/officeDocument/2006/relationships/hyperlink" Target="http://www.pgbeilen.nl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Down on Grandma Zoppo’s Farm with Malaika, Daryl and the 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Commutative Property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tory Based on Actual Ev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anne Zo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Ci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rris Gr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77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42884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192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920" y="6019920"/>
            <a:ext cx="22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eslkidstuff.com/ images/grandmother.gif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coolarchive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rvest 12 cabbages and put them into two barrel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6 in each barr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3920" y="2962440"/>
            <a:ext cx="2344680" cy="302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438280" y="28195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29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2514600" y="38098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2362320" y="4724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3352680" y="28954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>
            <a:lum contrast="-6000"/>
          </a:blip>
          <a:stretch/>
        </p:blipFill>
        <p:spPr>
          <a:xfrm>
            <a:off x="3276720" y="46483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532480" y="2735280"/>
            <a:ext cx="236700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>
            <a:lum contrast="-6000"/>
          </a:blip>
          <a:stretch/>
        </p:blipFill>
        <p:spPr>
          <a:xfrm>
            <a:off x="6629400" y="44197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>
            <a:lum contrast="-6000"/>
          </a:blip>
          <a:stretch/>
        </p:blipFill>
        <p:spPr>
          <a:xfrm>
            <a:off x="5791320" y="44956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6705720" y="365760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>
            <a:lum contrast="-6000"/>
          </a:blip>
          <a:stretch/>
        </p:blipFill>
        <p:spPr>
          <a:xfrm>
            <a:off x="5715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>
            <a:lum contrast="-6000"/>
          </a:blip>
          <a:stretch/>
        </p:blipFill>
        <p:spPr>
          <a:xfrm>
            <a:off x="6705720" y="28195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5791320" y="2895480"/>
            <a:ext cx="904680" cy="81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33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÷2=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two cabbages to feed to the 12 bunnies.  They needed to cut the cabbages into 12 pieces.  Each bunny gets 1/6 of a cabb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957920" y="2432160"/>
            <a:ext cx="1711080" cy="1617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29200" y="4097160"/>
            <a:ext cx="1712880" cy="16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38480" y="29718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581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648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410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18288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048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8861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2886120" cy="180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5238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nimals.timduru.org/dirlist/bunny_Rabbit/rabbit-bunnie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÷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 = 1/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Multiplic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02960"/>
            <a:ext cx="77724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picking cabbage for the bunnies, Malaika and Daryl have now discovered tha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ultiplica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is also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at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vision is not 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 ma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545292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61326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themeunit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20464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bright sunny spring day Malaika and Daryl went to visit their Grandma Zoppo on her Math Farm and discovered the Commutative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rrived they got right to work, because that's what you do on a farm. Grandma Zoppo sent them out to pick vegetables and fruit for their lunch, and for the animals’ lun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163000" y="6400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209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46720"/>
            <a:ext cx="2139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geocities.com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greenridgemarket.com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 www.kushiro.ed.j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5562720"/>
            <a:ext cx="1162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aika digs up 2 carrots to put in her basket.  She then picks 3 tomatoes and adds them to the carro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153324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11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133280" cy="119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5257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320" y="55594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400800" y="2133720"/>
            <a:ext cx="2133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yl picks 3 tomatoes for his basket, and then digs up 2 carrots and puts them in,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15332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11332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00200" y="44956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13364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70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52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ika finds a strawberry plant with 5 ripe berries.  She eats 2, leaving 3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basket f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2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76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0526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13716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0" t="0" r="0" b="38888"/>
          <a:stretch/>
        </p:blipFill>
        <p:spPr>
          <a:xfrm>
            <a:off x="5029200" y="236232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38888" b="0"/>
          <a:stretch/>
        </p:blipFill>
        <p:spPr>
          <a:xfrm>
            <a:off x="2666880" y="4800600"/>
            <a:ext cx="135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Daryl’s wants to pick 5 strawberries, too, but his strawberry plant only has 2 ripe berries.</a:t>
            </a:r>
            <a:br>
              <a:rPr sz="2800"/>
            </a:b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He is missing 3 berries.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200" y="3332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– 5 =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120" y="5519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719" t="0" r="10719" b="0"/>
          <a:stretch/>
        </p:blipFill>
        <p:spPr>
          <a:xfrm>
            <a:off x="3373560" y="417348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38888"/>
          <a:stretch/>
        </p:blipFill>
        <p:spPr>
          <a:xfrm>
            <a:off x="6400800" y="182880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38888" b="0"/>
          <a:stretch/>
        </p:blipFill>
        <p:spPr>
          <a:xfrm>
            <a:off x="5334120" y="28954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38888" b="0"/>
          <a:stretch/>
        </p:blipFill>
        <p:spPr>
          <a:xfrm>
            <a:off x="678168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10719" t="0" r="10719" b="0"/>
          <a:stretch/>
        </p:blipFill>
        <p:spPr>
          <a:xfrm>
            <a:off x="4648320" y="46483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Add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helping Grandma on the Math Farm, Malaika and Daryl have discovered the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 Property for Add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Whe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d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lso learned that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 when you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, so the commutative proper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 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640" y="5867280"/>
            <a:ext cx="1366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wivenhoe.gov.u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designedtoa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gbeilen.n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buy-clip-ar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free-clipart.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57600" y="5486400"/>
            <a:ext cx="1035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089920" y="51814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5334120"/>
            <a:ext cx="114300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01000" y="647712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324480" y="5943600"/>
            <a:ext cx="971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ika looks at the cabbage patch and she sees 3 rows with 4 cabbages each for a total of 12 cabb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853920" cy="80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4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1801800" y="3581280"/>
            <a:ext cx="2043000" cy="248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0" y="28954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hechp.syr.edu/KM_50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counts 4 rows of 3 cabbages each for a total of 12 cabb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75400" y="5234040"/>
            <a:ext cx="854280" cy="80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3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572000" y="15238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105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afc.org/images/Boy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3:53:40Z</dcterms:created>
  <dc:creator>LCT-Generic</dc:creator>
  <dc:description/>
  <cp:keywords/>
  <dc:language>en-US</dc:language>
  <cp:lastModifiedBy>Jeanne Zoppo</cp:lastModifiedBy>
  <dcterms:modified xsi:type="dcterms:W3CDTF">2006-05-15T18:24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