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2.png" ContentType="image/png"/>
  <Override PartName="/ppt/media/image7.png" ContentType="image/png"/>
  <Override PartName="/ppt/media/image10.png" ContentType="image/png"/>
  <Override PartName="/ppt/media/image5.png" ContentType="image/png"/>
  <Override PartName="/ppt/media/image13.gif" ContentType="image/gif"/>
  <Override PartName="/ppt/media/image4.jpeg" ContentType="image/jpeg"/>
  <Override PartName="/ppt/media/image25.png" ContentType="image/png"/>
  <Override PartName="/ppt/media/image3.png" ContentType="image/png"/>
  <Override PartName="/ppt/media/image2.jpeg" ContentType="image/jpeg"/>
  <Override PartName="/ppt/media/image26.wmf" ContentType="image/x-wmf"/>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png" ContentType="image/png"/>
  <Override PartName="/ppt/media/image24.jpeg" ContentType="image/jpe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2FDA-3E5F-466F-BDF9-F53F80C48EC8}"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171F-26CB-4ED8-98F4-7A08DA8B18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83AF-AB6C-4A14-8C52-AF83AFA97DF8}"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38A6-3A33-49C0-BD30-EFD46955DE1C}"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A4EB-1E2C-458B-A4BA-762FE0498F47}"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78E6-7645-4301-B653-DF74A1828C94}"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E925-E590-4F69-91B6-428AE5B3ABC3}"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1C3A-FBEF-4948-8307-957A4F8AB187}"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1CDB-24C7-4F0A-974E-75FD117A4CA4}"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F835-5F7B-46A4-BB42-93731B139F24}"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95B1-6C57-4378-847C-7D46005D7E84}"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E730-44BF-4CDF-93FA-05410F4AE208}"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E7BB-D542-44EE-A95E-1029E162E6D0}"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CC37-D74A-48D4-8D8D-1FB82F7F294E}"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F95B-1B7D-4572-B9B2-194D51F08993}" type="slidenum">
              <a:rPr b="0" lang="en-US"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0BEBE-1D6C-4515-9264-65EF4B89C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B9EE-16E1-44EB-BF3F-F28A46D8B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82276-F73C-4EAD-9F4B-077843AC2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CA41D-46C1-4211-AF69-EBC745F73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2D730-6916-4CAC-8C93-B33FC7740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DF501-B87E-4BE6-B69F-189736EB0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B351C-8CE8-4BAE-87C1-9C62F94D6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F1C0D-632A-4C8A-872A-91EA11193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30A59-B21F-4418-99DC-8924D95FD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FCBD7-5DA1-4250-8F63-A98F3D379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9DD76-4F9B-47AD-B626-A4DBB8880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D7FB9-A5F1-4064-A95D-DA365BEC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40603-92D1-41EB-A158-77B55F1C4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4FD68-2835-406C-8919-DE9343B33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FD777-9A8D-46D4-A529-CB5821576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8E269-5CB8-40D8-ACDA-D5787C1CA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9A4DF-629E-4E3F-AD8E-5D51459F2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58C933-C01B-4072-AE50-083B49B3EF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2BC69-E81F-4746-8E8C-960521063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77099-3C7B-45DC-B3A2-278F2A82D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F98EA-FF11-43E9-801E-A833383CE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375DA-A785-475B-ABA6-C84B16EDEF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20CF-D72D-435D-AEAB-91A653650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E9C61-00E0-4010-B5D8-9FA53190D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731AB-96C8-43F2-9411-81C6664D3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A9993-BA2D-430B-973D-DE7558B21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E5D57-958C-48D0-8912-EB4E178E9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10787-48F8-4E7D-B926-368C8E9A22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9B0703-62EA-45D5-9E91-93BC17B33B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612F5C-B1D1-4363-9E7B-7D7DCB14B9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FF3BAD-7B24-4F3D-B523-358E8E9A5B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B6B47-6FA8-497D-8DD3-3D2F4B5841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C1FEB-7958-4193-87D1-539F652F1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89A95-D641-4C7C-9567-82C3B3CA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2D2A1D-97E1-44D9-8817-59A09AFD31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C8885-9BA2-4C0C-AB0D-8882043900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F8263-CB91-48B1-8958-A35E7FD89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55AC8-6370-492F-9F22-EF30A1589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F5BB8-6D66-4DD6-A2EB-E206D6EB4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B5B3E-0D7B-4289-BAB8-A425E4824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BDF46-8739-486F-9D46-ED51898FB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6949DF-CCD6-4426-96B9-0D413A350A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65BFF7-807A-4D86-AE23-7376A97F6B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5C610A-F5F0-4996-A779-1FD13FC0A6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22527-2CE6-4F37-9199-B511F8330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7C196-5B75-46CF-A984-B41240E7B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8DF8BD-271A-4FDB-99BE-E5F7B65A97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6751C-08EF-458B-8837-B6F774CEC7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0C3C1-0265-4848-92CD-A54AAEF068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16B09D-5F3C-41F1-B817-3AFD3A3DF8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CEDA2-298B-4706-97BC-81528C27D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100B0-18A2-4DC6-AD36-A000AA8B01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61BF3-4F2F-4BFF-87AB-F11A42A94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0AA7B4-946E-4A8E-B339-00F554E158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7B5B34-76B4-41CD-BAB0-20030564C5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206C-7C52-4C67-888D-56EA15636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0E0A67-CF25-4525-83BA-58DDA9756C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3267-43E7-42F9-B804-0182896B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80EE1-F153-4E5F-8673-6AFEFC04D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D743-687C-40A5-84CC-D897C0247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D935-0385-47E6-98B9-D0525CD3E81E}"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BE3B-3AB8-4FC9-98B5-E4B6975AB2FC}"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366C-1CD2-45CB-9650-E371BCF356F7}"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81BD-ADEF-48B5-B834-C9FADEDC74D8}"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DA59-4AB9-4599-8968-876A02F8C58A}"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D8E5-CE1D-4541-B6E0-B070CD02154E}"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B679-8A7E-42AF-94FA-9AE690CE6FD8}" type="datetime">
              <a:rPr b="0" lang="en-US" sz="1000" spc="-1" strike="noStrike">
                <a:solidFill>
                  <a:srgbClr val="f4e7ed"/>
                </a:solidFill>
                <a:latin typeface="Times New Roman"/>
              </a:rPr>
              <a:t>07/29/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263C-98B0-4541-A9ED-E51E8AE7C3D8}"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96F1-1B7A-4363-B91B-F589B7C45EED}" type="datetime">
              <a:rPr b="0" lang="en-US" sz="1000" spc="-1" strike="noStrike">
                <a:solidFill>
                  <a:srgbClr val="b13f9a"/>
                </a:solidFill>
                <a:latin typeface="Times New Roman"/>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C641-A863-4386-AA7C-8E9309B35B71}"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Title 1" descr=""/>
          <p:cNvPicPr/>
          <p:nvPr/>
        </p:nvPicPr>
        <p:blipFill>
          <a:blip r:embed="rId2"/>
          <a:stretch/>
        </p:blipFill>
        <p:spPr>
          <a:xfrm>
            <a:off x="3359160" y="530280"/>
            <a:ext cx="5119560" cy="28782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t>
            </a:r>
            <a:r>
              <a:rPr b="1" i="1" lang="en-US" sz="2200" spc="-1" strike="noStrike" u="sng">
                <a:solidFill>
                  <a:srgbClr val="ffffff"/>
                </a:solidFill>
                <a:uFillTx/>
                <a:latin typeface="Trebuchet MS"/>
              </a:rPr>
              <a:t>BRIEF</a:t>
            </a:r>
            <a:r>
              <a:rPr b="0" lang="en-US" sz="2200" spc="-1" strike="noStrike">
                <a:solidFill>
                  <a:srgbClr val="ffffff"/>
                </a:solidFill>
                <a:latin typeface="Trebuchet MS"/>
              </a:rPr>
              <a:t> Overview</a:t>
            </a:r>
            <a:endParaRPr b="0" lang="en-US" sz="2200" spc="-1" strike="noStrike">
              <a:solidFill>
                <a:srgbClr val="000000"/>
              </a:solidFill>
              <a:latin typeface="Trebuchet MS"/>
            </a:endParaRPr>
          </a:p>
        </p:txBody>
      </p:sp>
      <p:pic>
        <p:nvPicPr>
          <p:cNvPr id="229" name="Picture 8" descr="C:\Program Files\Microsoft Office 2003\MEDIA\CAGCAT10\j0300840.wmf"/>
          <p:cNvPicPr/>
          <p:nvPr/>
        </p:nvPicPr>
        <p:blipFill>
          <a:blip r:embed="rId3"/>
          <a:stretch/>
        </p:blipFill>
        <p:spPr>
          <a:xfrm>
            <a:off x="3733920" y="365760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317520"/>
            <a:ext cx="7248600" cy="115740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xamples of possible reasonable accommodation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he physical work environment (ramps, furniture, handicap access bathroom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Job restructuring (work at home, changes to schedules, part-time work, short shift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paid leave for medical purpos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workplace policies (allowing service animals, prohibiting fresh flowers,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assignment of non-essential functions of the job to other position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hanges to training programs or environments</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48600" cy="115740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key thing to remember with accommodation is COMMUNIC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r employer must work together with you to develop an accommodation that works for your situatio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You are not entitled to every accommodation you want, but you are entitled to accommodations that help you perform your duties.</a:t>
            </a:r>
            <a:endParaRPr b="0" lang="en-US" sz="2600" spc="-1" strike="noStrike">
              <a:solidFill>
                <a:srgbClr val="000000"/>
              </a:solidFill>
              <a:latin typeface="Trebuchet MS"/>
            </a:endParaRPr>
          </a:p>
        </p:txBody>
      </p:sp>
      <p:pic>
        <p:nvPicPr>
          <p:cNvPr id="252" name="Picture 3" descr="C:\Documents and Settings\alyssa\Local Settings\Temporary Internet Files\Content.IE5\K9IVC16R\MCj03550210000[1].wmf"/>
          <p:cNvPicPr/>
          <p:nvPr/>
        </p:nvPicPr>
        <p:blipFill>
          <a:blip r:embed="rId2"/>
          <a:stretch/>
        </p:blipFill>
        <p:spPr>
          <a:xfrm>
            <a:off x="6248520" y="1523880"/>
            <a:ext cx="236988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48600" cy="115740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OFLA and FMLA provide up to 12 weeks of unpaid leave (maybe more in some cases) for the following purpose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or your own serious health condition, including pregnancy-related medical conditions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pouse, child, or parent with a serious health condition (FM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domestic partner, parent-in-law, grandparent or grandchild with a serious health condition (OFL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newly born, newly adopted, or newly fostered child (both)</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o care for a sick, but not seriously ill, child (OFL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317520"/>
            <a:ext cx="7248600" cy="115740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o qualify for FMLA/OFLA leave you must:</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n employer with at least 50 employees (FMLA) or an employer with at least 25 employees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at least 180 days continuously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Work for 12 months total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6c6c6c"/>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is required to:</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ost information about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rovide notice about your rights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frain from discriminating or retaliating against you in any way, including firing you, because you ask about or take FMLA/OFLA leave</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turn you to your job (OFLA) or a significantly similar job (FMLA) when you return from leave</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450720" y="317520"/>
            <a:ext cx="7248600" cy="116352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Recent changes to FMLA now also provide that spouses, children, parents, and next of kin can take up to 26 weeks of leave to care for a member of the Armed Forces who is seriously ill or injured.</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 addition, it provides that such individuals can take up to 12 weeks of protected leave for a “qualifying exigency” that is related to their loved one’s active duty service. </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 more information on this, check out http://www.dol.gov/esa/whd/fmla/finalrule/factsheet.pdf.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450720" y="317520"/>
            <a:ext cx="7248600" cy="115740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chools may require teachers to take more leave than necessary when the period of leave will begin within five weeks before the end of the school ter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the teacher would be on leave for more than 20% of the total working days for the applicable period, the school can require the teacher to take shorter chunks of leave or transfer to temporarily transfer to an alternative position.</a:t>
            </a:r>
            <a:endParaRPr b="0" lang="en-US" sz="2600" spc="-1" strike="noStrike">
              <a:solidFill>
                <a:srgbClr val="000000"/>
              </a:solidFill>
              <a:latin typeface="Trebuchet MS"/>
            </a:endParaRPr>
          </a:p>
        </p:txBody>
      </p:sp>
      <p:pic>
        <p:nvPicPr>
          <p:cNvPr id="261" name="Picture 2" descr="C:\Program Files\Microsoft Office 2003\MEDIA\CAGCAT10\j0217698.wmf"/>
          <p:cNvPicPr/>
          <p:nvPr/>
        </p:nvPicPr>
        <p:blipFill>
          <a:blip r:embed="rId2"/>
          <a:stretch/>
        </p:blipFill>
        <p:spPr>
          <a:xfrm>
            <a:off x="7010280" y="4876920"/>
            <a:ext cx="1747800" cy="169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317520"/>
            <a:ext cx="7248600" cy="1170000"/>
          </a:xfrm>
          <a:prstGeom prst="rect">
            <a:avLst/>
          </a:prstGeom>
          <a:ln w="0">
            <a:noFill/>
          </a:ln>
        </p:spPr>
      </p:pic>
      <p:sp>
        <p:nvSpPr>
          <p:cNvPr id="26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st public school districts in Oregon are unionized.  This means that not only are there laws that apply to you, but there is also a collective bargaining agreement (CBA).</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This is an agreement that is usually renegotiated between the school and the union every few years.</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usually covers all manner of employment issues, including wages, promotions, transfers, discipline, etc.  </a:t>
            </a:r>
            <a:endParaRPr b="0" lang="en-US" sz="21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t ALSO includes requirements regarding how complaints or alleged violations of the agreement must be handled.  Usually requires a process: e.g., informal decision at supervisor level, formal decision by administration, arbitration.</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0720" y="317520"/>
            <a:ext cx="7248600" cy="117000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lIns="90000" rIns="90000" tIns="46800" bIns="46800" anchor="t">
            <a:normAutofit/>
          </a:bodyPr>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is </a:t>
            </a:r>
            <a:r>
              <a:rPr b="0" lang="en-US" sz="2300" spc="-1" strike="noStrike" u="sng">
                <a:solidFill>
                  <a:srgbClr val="6c6c6c"/>
                </a:solidFill>
                <a:uFillTx/>
                <a:latin typeface="Trebuchet MS"/>
              </a:rPr>
              <a:t>required</a:t>
            </a:r>
            <a:r>
              <a:rPr b="0" lang="en-US" sz="2300" spc="-1" strike="noStrike">
                <a:solidFill>
                  <a:srgbClr val="6c6c6c"/>
                </a:solidFill>
                <a:latin typeface="Trebuchet MS"/>
              </a:rPr>
              <a:t> </a:t>
            </a:r>
            <a:r>
              <a:rPr b="0" lang="en-US" sz="2300" spc="-1" strike="noStrike" u="sng">
                <a:solidFill>
                  <a:srgbClr val="6c6c6c"/>
                </a:solidFill>
                <a:uFillTx/>
                <a:latin typeface="Trebuchet MS"/>
              </a:rPr>
              <a:t>by law </a:t>
            </a:r>
            <a:r>
              <a:rPr b="0" lang="en-US" sz="2300" spc="-1" strike="noStrike">
                <a:solidFill>
                  <a:srgbClr val="6c6c6c"/>
                </a:solidFill>
                <a:latin typeface="Trebuchet MS"/>
              </a:rPr>
              <a:t>to abide by the agreement.  If you have a complaint or believe the CBA has been violated, you are supposed to report it to your union representative.</a:t>
            </a:r>
            <a:endParaRPr b="0" lang="en-US" sz="2300" spc="-1" strike="noStrike">
              <a:solidFill>
                <a:srgbClr val="6c6c6c"/>
              </a:solidFill>
              <a:latin typeface="Trebuchet MS"/>
            </a:endParaRPr>
          </a:p>
          <a:p>
            <a:pPr lvl="1"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very CBA is different!  And it may change over time as negotiated by the parties.  But it will be enforced by law.</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6" name="Picture 2" descr="C:\Documents and Settings\alyssa\Local Settings\Temporary Internet Files\Content.IE5\W9URS5AJ\MCPE06369_0000[1].wmf"/>
          <p:cNvPicPr/>
          <p:nvPr/>
        </p:nvPicPr>
        <p:blipFill>
          <a:blip r:embed="rId2"/>
          <a:stretch/>
        </p:blipFill>
        <p:spPr>
          <a:xfrm>
            <a:off x="3886200" y="4419720"/>
            <a:ext cx="2424240" cy="182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317520"/>
            <a:ext cx="7248600" cy="115740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ll employment contracts, evaluations, notices, and other employment-related documen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thing related to your wages, particularly any extra duties that do not fall under your contrac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school’s policie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your collective bargaining agreement and know how to enforce your rights under it.</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port any inappropriate behavior you experience (or that you observe) to your supervisor.  If your supervisor is the one you would complain about, then report the behavior to another person on the administrative level.  Document any such reports.</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eep copies of any visual or written harassment.</a:t>
            </a:r>
            <a:endParaRPr b="0" lang="en-US" sz="2200" spc="-1" strike="noStrike">
              <a:solidFill>
                <a:srgbClr val="000000"/>
              </a:solidFill>
              <a:latin typeface="Trebuchet MS"/>
            </a:endParaRPr>
          </a:p>
        </p:txBody>
      </p:sp>
      <p:pic>
        <p:nvPicPr>
          <p:cNvPr id="269" name="Picture 2" descr="C:\Documents and Settings\alyssa\Local Settings\Temporary Internet Files\Content.IE5\NI8G1SFD\MPj04384920000[1].jpg"/>
          <p:cNvPicPr/>
          <p:nvPr/>
        </p:nvPicPr>
        <p:blipFill>
          <a:blip r:embed="rId2"/>
          <a:stretch/>
        </p:blipFill>
        <p:spPr>
          <a:xfrm>
            <a:off x="533520" y="152280"/>
            <a:ext cx="217800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317520"/>
            <a:ext cx="7248600" cy="115740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more information about your employment rights, look at the following websites:</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discrimination and leave laws: Oregon Bureau of Labor and Industries (BOLI): www.boli.state.or.u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Oregon collective bargaining laws: Employment Relations Board: http://www.oregon.gov/ERB/index.shtml</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discrimination laws: Equal Employment Opportunity Commission (EEOC): www.eeoc.gov</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Federal wage and leave laws: Federal Department of Labor (DOL): www.dol.gov</a:t>
            </a:r>
            <a:endParaRPr b="0" lang="en-US" sz="2100" spc="-1" strike="noStrike">
              <a:solidFill>
                <a:srgbClr val="6c6c6c"/>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se sites also contain information about how to file complaints regarding employer actions.</a:t>
            </a:r>
            <a:endParaRPr b="0" lang="en-US" sz="2400" spc="-1" strike="noStrike">
              <a:solidFill>
                <a:srgbClr val="000000"/>
              </a:solidFill>
              <a:latin typeface="Trebuchet MS"/>
            </a:endParaRPr>
          </a:p>
        </p:txBody>
      </p:sp>
      <p:pic>
        <p:nvPicPr>
          <p:cNvPr id="272" name="Picture 2" descr="C:\Documents and Settings\alyssa\Local Settings\Temporary Internet Files\Content.IE5\4163O1E3\MCj02990630000[1].wmf"/>
          <p:cNvPicPr/>
          <p:nvPr/>
        </p:nvPicPr>
        <p:blipFill>
          <a:blip r:embed="rId2"/>
          <a:stretch/>
        </p:blipFill>
        <p:spPr>
          <a:xfrm>
            <a:off x="7010280" y="380880"/>
            <a:ext cx="1600200" cy="178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317520"/>
            <a:ext cx="7248600" cy="115740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ployment rights arise under both state and federal laws.</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metimes those laws are similar.  Sometimes they are not.</a:t>
            </a: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egon is a fairly progressive state, so actually has greater protections in most areas of employment law than are provided under federal law.</a:t>
            </a:r>
            <a:endParaRPr b="0" lang="en-US" sz="2400" spc="-1" strike="noStrike">
              <a:solidFill>
                <a:srgbClr val="000000"/>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Higher minimum wage</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Greater leave protections</a:t>
            </a:r>
            <a:endParaRPr b="0" lang="en-US" sz="2100" spc="-1" strike="noStrike">
              <a:solidFill>
                <a:srgbClr val="6c6c6c"/>
              </a:solidFill>
              <a:latin typeface="Trebuchet MS"/>
            </a:endParaRPr>
          </a:p>
          <a:p>
            <a:pPr lvl="1" marL="499680" indent="-21924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More protected status categories</a:t>
            </a:r>
            <a:endParaRPr b="0" lang="en-US" sz="2100" spc="-1" strike="noStrike">
              <a:solidFill>
                <a:srgbClr val="6c6c6c"/>
              </a:solidFill>
              <a:latin typeface="Trebuchet MS"/>
            </a:endParaRPr>
          </a:p>
        </p:txBody>
      </p:sp>
      <p:pic>
        <p:nvPicPr>
          <p:cNvPr id="232" name="Picture 2" descr="C:\Documents and Settings\alyssa\Local Settings\Temporary Internet Files\Content.IE5\NVDJJLKS\MCj03392540000[1].wmf"/>
          <p:cNvPicPr/>
          <p:nvPr/>
        </p:nvPicPr>
        <p:blipFill>
          <a:blip r:embed="rId2"/>
          <a:stretch/>
        </p:blipFill>
        <p:spPr>
          <a:xfrm>
            <a:off x="6934320" y="380880"/>
            <a:ext cx="197964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0720" y="317520"/>
            <a:ext cx="7248600" cy="117000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hiring/firing, discipline, suspension, promotions/demotions, etc.)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Sex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eligion or creed (Title VII)</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ge if you are over 40(ADE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AD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Veteran status or taking leave for military service (USERR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FMLA leave (FM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NLRA)</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0720" y="317520"/>
            <a:ext cx="7248600" cy="1170000"/>
          </a:xfrm>
          <a:prstGeom prst="rect">
            <a:avLst/>
          </a:prstGeom>
          <a:ln w="0">
            <a:noFill/>
          </a:ln>
        </p:spPr>
      </p:pic>
      <p:sp>
        <p:nvSpPr>
          <p:cNvPr id="23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Your employer may not make employment decisions about you or harass you based on your:</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Race, color, national origin, sex, religion or creed, age </a:t>
            </a:r>
            <a:r>
              <a:rPr b="0" i="1" lang="en-US" sz="2100" spc="-1" strike="noStrike">
                <a:solidFill>
                  <a:srgbClr val="6c6c6c"/>
                </a:solidFill>
                <a:latin typeface="Trebuchet MS"/>
              </a:rPr>
              <a:t>(over 18), sexual orientation, gender identity, marital status, injured workers </a:t>
            </a:r>
            <a:r>
              <a:rPr b="0" lang="en-US" sz="2100" spc="-1" strike="noStrike">
                <a:solidFill>
                  <a:srgbClr val="6c6c6c"/>
                </a:solidFill>
                <a:latin typeface="Trebuchet MS"/>
              </a:rPr>
              <a:t>(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Disability, record of disability, or being regarded as having a disability (ORS Ch. 659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se or planned use of OFLA leave (OFL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articipating in union activities or engaging in protected concerted activities (PECBA)</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Jury duty or witness testimony</a:t>
            </a:r>
            <a:endParaRPr b="0" lang="en-US" sz="21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 </a:t>
            </a:r>
            <a:r>
              <a:rPr b="0" i="1" lang="en-US" sz="2100" spc="-1" strike="noStrike">
                <a:solidFill>
                  <a:srgbClr val="6c6c6c"/>
                </a:solidFill>
                <a:latin typeface="Trebuchet MS"/>
              </a:rPr>
              <a:t>bunch</a:t>
            </a:r>
            <a:r>
              <a:rPr b="0" lang="en-US" sz="2100" spc="-1" strike="noStrike">
                <a:solidFill>
                  <a:srgbClr val="6c6c6c"/>
                </a:solidFill>
                <a:latin typeface="Trebuchet MS"/>
              </a:rPr>
              <a:t> of other miscellaneous categories (see </a:t>
            </a:r>
            <a:r>
              <a:rPr b="0" lang="en-US" sz="2100" spc="-1" strike="noStrike">
                <a:solidFill>
                  <a:srgbClr val="ff0000"/>
                </a:solidFill>
                <a:latin typeface="Trebuchet MS"/>
              </a:rPr>
              <a:t>http://www.boli.state.or.us/BOLI/TA/T_FAQ_Protected_Classes_Chart_2008.pdf  </a:t>
            </a:r>
            <a:r>
              <a:rPr b="0" lang="en-US" sz="2100" spc="-1" strike="noStrike">
                <a:solidFill>
                  <a:srgbClr val="6c6c6c"/>
                </a:solidFill>
                <a:latin typeface="Trebuchet MS"/>
              </a:rPr>
              <a:t>if you want to know more).</a:t>
            </a:r>
            <a:endParaRPr b="0" lang="en-US" sz="21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450720" y="317520"/>
            <a:ext cx="7248600" cy="11574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Harassment is defined under both federal and Oregon law as conduct tha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Based on a status protected by applicable law</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 tangible employment action (hiring/firing, etc.) OR behavior that is sufficiently severe and/or pervasive to interfere with work performance or that creates a hostile work environment.</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hostile work environment is:</a:t>
            </a:r>
            <a:endParaRPr b="0" lang="en-US" sz="26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nvironment in which a pattern of offensive behavior (based on a protected status) is involved.</a:t>
            </a:r>
            <a:endParaRPr b="0" lang="en-US" sz="23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317520"/>
            <a:ext cx="7248600" cy="115740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s of typical harassment:</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Requests or demands for sexual activity in exchange for some tangible employment action (hiring/firing,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nwelcome physical touching of any kind.</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Use of derogatory terms or gestures, based on any protected status, whether in person or online (email, websites,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appropriate or offensive visuals (e.g., calendars, porn websites or screensavers, graffiti, etc.)</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0720" y="317520"/>
            <a:ext cx="7248600" cy="115740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Americans with Disabilities Act of 1990 (with amendments in 2008) provides two basic rights:</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cannot discriminate against or harass you because you have a disability</a:t>
            </a:r>
            <a:endParaRPr b="0" lang="en-US" sz="23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n employer must provide reasonable accommodation to you, unless it would create an undue hardship on the employer</a:t>
            </a:r>
            <a:endParaRPr b="0" lang="en-US" sz="2300" spc="-1" strike="noStrike">
              <a:solidFill>
                <a:srgbClr val="6c6c6c"/>
              </a:solidFill>
              <a:latin typeface="Trebuchet MS"/>
            </a:endParaRPr>
          </a:p>
        </p:txBody>
      </p:sp>
      <p:pic>
        <p:nvPicPr>
          <p:cNvPr id="243" name="Picture 2" descr="C:\Documents and Settings\alyssa\Local Settings\Temporary Internet Files\Content.IE5\A7I7Y12F\MMj02544970000[1].gif"/>
          <p:cNvPicPr/>
          <p:nvPr/>
        </p:nvPicPr>
        <p:blipFill>
          <a:blip r:embed="rId2"/>
          <a:stretch/>
        </p:blipFill>
        <p:spPr>
          <a:xfrm>
            <a:off x="5715000" y="45720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317520"/>
            <a:ext cx="7248600" cy="115740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Under the ADA, a person with a disability is an individual who:</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physical or mental condition that substantially limits one or more major life activities;</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as a record of having such a disability; or</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s regarded as having such a disability (whether the person actually has one or not)</a:t>
            </a:r>
            <a:endParaRPr b="0" lang="en-US" sz="2300" spc="-1" strike="noStrike">
              <a:solidFill>
                <a:srgbClr val="6c6c6c"/>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Major life activities include:</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Walking, talking, speaking, hearing, reading, bending, communicating, etc.</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Functions of the digestive, immune, bladder, bowel, reproductive, circulatory, etc.</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317520"/>
            <a:ext cx="7248600" cy="11574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 “qualified individual with a disability” is someone who can perform the essential functions of the job </a:t>
            </a:r>
            <a:r>
              <a:rPr b="0" lang="en-US" sz="2400" spc="-1" strike="noStrike" u="sng">
                <a:solidFill>
                  <a:srgbClr val="000000"/>
                </a:solidFill>
                <a:uFillTx/>
                <a:latin typeface="Trebuchet MS"/>
              </a:rPr>
              <a:t>with or without </a:t>
            </a:r>
            <a:r>
              <a:rPr b="0" lang="en-US" sz="2400" spc="-1" strike="noStrike">
                <a:solidFill>
                  <a:srgbClr val="000000"/>
                </a:solidFill>
                <a:latin typeface="Trebuchet MS"/>
              </a:rPr>
              <a:t>accommodation.</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 type of accommodation needed depends on the facts in a given situation.  </a:t>
            </a: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here are three main types: </a:t>
            </a:r>
            <a:endParaRPr b="0" lang="en-US" sz="2400" spc="-1" strike="noStrike">
              <a:solidFill>
                <a:srgbClr val="000000"/>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job application process,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the work environment or procedures, and </a:t>
            </a:r>
            <a:endParaRPr b="0" lang="en-US" sz="2100" spc="-1" strike="noStrike">
              <a:solidFill>
                <a:srgbClr val="6c6c6c"/>
              </a:solidFill>
              <a:latin typeface="Trebuchet MS"/>
            </a:endParaRPr>
          </a:p>
          <a:p>
            <a:pPr lvl="1" marL="510120" indent="-22392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hanges to enable the employee to enjoy equal privileges and benefits. </a:t>
            </a:r>
            <a:endParaRPr b="0" lang="en-US" sz="21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02:08:04Z</dcterms:created>
  <dc:creator>Alyssa E Tormala</dc:creator>
  <dc:description/>
  <dc:language>en-US</dc:language>
  <cp:lastModifiedBy>Gayle Thieman</cp:lastModifiedBy>
  <dcterms:modified xsi:type="dcterms:W3CDTF">2009-03-02T02:36:04Z</dcterms:modified>
  <cp:revision>23</cp:revision>
  <dc:subject/>
  <dc:title>Your Rights as an Employee</dc:title>
</cp:coreProperties>
</file>