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C1F5-7547-45C8-A248-A18F37D276A3}"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B065-417F-4615-A712-2C839B536D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259A-1980-4608-9CBE-9F063C29C86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9EB9-9AA2-4E29-A555-D0177057CDD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2EC7-A0DF-403A-BA53-40A8000719A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2C8C-1914-4AA8-9363-4CD43718BFF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30FA-16C4-4256-BF04-D2F4AC1EA22F}"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8886-124E-4D23-8ECD-B2199A6222D9}"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1AEC-7EFD-48A4-BB34-E0E998F2645A}"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8A4B-7644-4816-A6DA-97120FCF8BE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4E57-D84B-4073-9C82-A7D0D3449BC1}"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BB72-772F-4D7A-848E-304382F5F19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5816-E2EA-4423-BF7C-9ED70B83791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F042-3699-4940-AFC6-3DC9A518A1F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D9F1-87DA-4480-9681-FDEA334D0986}"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A5A3-2D95-41D5-9350-FE40D2D7F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C251E-D313-4F8D-A5DC-372C4FA7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BE5B3-6716-4A37-819F-918BEFB72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47539-224D-4723-A3F4-ED89CFF5C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9AFDF-2D92-45EC-980E-DF6D357EC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A6395-DEF4-4F99-A62E-6D16E01AA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C08BF-DEF6-4EF4-83FE-55499C8B3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DAFDD-55E5-4C8E-AE16-0E7A8DDA5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E2FB4-3281-4299-9A58-CCFF47732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67EC6-292F-4017-A8EB-4F5C8F2F6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E97E0-D542-4323-8770-4FED4A44D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D6F0-FAD9-4EDB-8442-C9AE72F5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BFD52-DD45-422E-9E58-E46308EC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B816A-9EE8-4DE4-A8D0-18A1B2D36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7989C-7553-422F-899D-0E021D12F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1BE75-D9AF-4642-BC00-20DC9FA23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227FE-27DD-467E-ACBD-0E944CEC8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9C78C8-03B0-4D6C-9E7F-DA7EA17CC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6E395-F25C-4448-91C0-32D556A9A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1DCBC-06F5-497E-A5C6-FD6CE9AA6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05900-315C-43AA-BCC9-9F84B4D9F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49C62-9816-4198-808C-CD2127BEC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6390C-0627-4A8A-B9D2-B84DE3BF6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2605B-C631-4CC1-BC27-1E86971FB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EACD6-6940-4874-9278-8EE9E5E30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5B681-27B4-4DDC-86FE-C300108CD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EFE07-98EA-44E9-8DD5-3CC08DF96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5CC6A-DC05-42EA-B1C9-033CA6BFD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E755A2-078B-4BAA-8912-B50ABB9F9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1BE16-347D-4A78-94C6-BA26A0FCA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8E8BE4-B06C-4F71-B459-A282A15EEA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238393-58A0-4315-B170-68F2C3CCE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DEBA6-958D-492A-B0C5-E69788A44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2176-8BD0-456C-9AC1-AD5D49CC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E6159-7313-4084-9DB6-F2089749D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25A5A-9335-4AE2-99AE-82220EB48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1A67D-F90E-4891-8D66-3DCB04842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60DC4-7EC8-4768-915D-87F8D6868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3F11CC-868A-47A1-90D3-85CC21C24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E6AA9-A8D2-493F-8BD6-CB98390EE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693D5-086F-43AE-84A5-C70E25182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BFDBD-6B73-402A-A9BD-95A1E9DCA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C85BE-8980-4297-B3FB-CC53E50D6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79C5A-A85D-40C2-9680-CB0AFD7A0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B47F2-D937-4DAF-B057-69CFDFE02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33232-5F5C-4359-8E39-F9861F1CE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AD657-A0AC-43E6-87D1-2B1336A29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0C78A-3D31-457B-803F-2578DBD42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A1420-E7D4-481F-97D3-CFDAF97AC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6199F-E93A-4B65-BF1E-F43CA60A7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F9455-9232-4BE0-AA3D-F1FE89CD6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8A28A-D2B9-4E1E-9EE2-D667E46B4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CC8AF-6E26-4E7C-AB16-E9A3F20ED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273E3-5D97-45AE-9F44-1EE3B19B3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598430-594A-41EE-8E55-BD22BB85C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C504-8FB3-48FC-B633-3324F090A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0A340-3DE7-45FE-B587-B104A0888B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5E9D-5616-4BF9-BC83-D9E2CEA0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65DE-7006-4769-A948-73321989C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C09F-FB01-41B6-87F9-B30F44ACC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173D-DF75-4527-BCEA-FF53640B13AF}"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F51F-7C4E-48DE-88CC-D73289EEE7C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C46B-426E-4CF3-9FE2-E779589B54ED}"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120F-5AA2-489C-828C-E0816B1D986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970B-26B5-4FB6-B228-12E8105D630B}"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98AD-CB7E-4C61-A38F-CE932D0645CB}"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18C-180E-4FFE-9D19-65C718268971}" type="datetime">
              <a:rPr b="0" lang="en-US" sz="1000" spc="-1" strike="noStrike">
                <a:solidFill>
                  <a:srgbClr val="f4e7ed"/>
                </a:solidFill>
                <a:latin typeface="Times New Roman"/>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F58B-A21F-46DF-B11C-DBA0186C5F9D}"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6FB6-1FB6-44C1-A114-3DFA3E7B9335}"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12D7-9A2B-498B-B3C0-E1DBCE39313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