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75D0-43C9-436E-B6E0-E8876ED019F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719C-790C-4DC1-B021-5BCB37938C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CB06-7C2D-4CD3-B6FD-52269653224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5297-89BA-4EB5-A73E-26905862E03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EF5E-1F8A-4D15-88D1-3E7FB3BBC95D}"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F369-8EFB-4178-812C-0B0B08AF619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A824-BB9A-480E-87D3-E79089E30FF9}"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3C0B-6A2C-4B71-B927-FC25E4404912}"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F51F-2451-464E-87C9-110042DA93E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0EAF-EC47-4CAD-ACBC-098D112EA4B2}"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F5B1-E09D-4505-8B1C-B0F300F16B4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30F4-C475-4FCB-9673-21273A4D6CD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3AEB-51C4-4C64-B16C-B33413DF9A7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3989-36DA-4F30-A2D4-2F64198457C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02C6-6949-4C15-8773-92EAD610E3A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A58A8-6DA4-4FBB-AC69-DAB38ED23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4342-2AB7-4693-8A33-86DC13AD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2D34A-F91B-4041-A9A0-76308F4F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AAB3F-4AD1-44BB-9765-7BD21A2A4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07143-FDCC-49F7-99EE-075E2798A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3618C-3B8D-4005-90FF-F8EEDB398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A5AF-D985-4CA2-9319-2EBACB398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59DD6-2330-47CE-8349-363F5908A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C4466-6CE2-4007-80FC-4722A3D4C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DD3E6-D075-493D-AE6A-B232D7AAC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760C7-2ADE-4C5D-A9AD-BD2AB57E4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71A37-C4A7-4140-95AE-257AB4DC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16F6E-F2A9-4ED5-B17A-6090A02E1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ECB8-DAA7-4B32-B5E3-143B04860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F084-5041-4E5F-ACD2-7FE668682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BCB2D-2AEA-4E05-8C85-0B64AC505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1AE25-388A-45E7-92C1-5E19F1CA6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720C6-1AAD-483E-8D1C-D3F79DA2C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D9809-13EB-4841-8DB3-99E833201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F40E0-1D67-4D3D-A798-6D658A8F3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8012B-87D5-4BB9-BAA6-8D8D7AE7F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0424A-2C29-45AB-9ECB-457330B6D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F9DA1-5C19-4CC8-BE26-7E79B90EE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ACFA5-3787-4AA3-9634-EFCC14792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47B28-7879-40D2-8C78-4B76DA5FD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17C8E-29DE-4732-8C46-AAB0FC40E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2248B-CF0D-419E-AC35-B16D14F67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E7A5F-48F1-481F-B009-D25055534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C99229-D7C4-4A1C-9507-8C7AE44A4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BE896A-F1F3-4AE2-A279-82B4BEC9B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6AB8C-0A63-49EF-9E93-6A0B56A71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32C4E-E8BA-48E4-BEFA-D1065ABF6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0D6AA-924D-4D0F-86B6-F62F6F850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01DEB-65CA-48F5-9EE5-B789CFD4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BF6A0-0F63-4A05-B9EC-BF0CB55EA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7AC78-060E-4C39-A08E-A4248E333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26072-F633-4E10-9388-165A5F4F5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6215F-06D9-415E-90A7-1D2506F23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4B887-13A6-4EB2-BCAF-A7CB4C4D0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8FBD5-7FCF-478A-A5BB-8D0BD5F56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B90E0-E15A-4DDF-B4D4-89C20572C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25BBA1-4366-4760-8D75-AD8F0B11BA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8951C3-A5AB-44D7-A7A4-8A2A17BF5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18A7C-7A41-43D5-AE7B-EB62D785B7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E7C0-A8E7-4E9F-B338-63CD2A84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21D23-9788-4EC2-A111-1E7876C2E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A036B-ED7A-4F94-BD25-B65F146EB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CCFC5-6345-417B-ACB3-7945A7FA2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2695D-5A4C-4B25-B3EE-347F0463E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23D4B-D0DD-4169-9FC5-D9A5F1592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324D8-7694-49BD-91F4-E899542E4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1D131-9D45-4F4A-A466-3C3DAFE9D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5B893-CCD1-4115-BF30-A63049C05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06144-C92B-4BD2-95E2-83A66CFC5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A9208-AEED-429A-BB61-7E7A1CD049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EB77-A92B-44E7-A3F2-77CDEC198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B7FB33-D523-4A29-A36C-C9DE76461A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DBBC-F77D-4DA0-87D3-99484D4D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71D5-403B-4CB4-8C4A-1CFCD77E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C34A-B847-43F6-9F0D-1A3AA350C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6DDC-A6B8-473F-8529-69E14C97D9A2}"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9922-D646-462F-B5F1-D14FBE2C4C6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1F97-6D81-41CD-841C-0CB4A589F9FE}"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BD05-02B0-4B45-AEC5-A5DBF5A59B4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5C8A-5B0A-427F-973E-258DB75F8A53}"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3A82-FA67-48FA-B5C7-25957A5F807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B00D-AA16-494E-9DC0-02F657669A6D}" type="datetime">
              <a:rPr b="0" lang="en-US" sz="1000" spc="-1" strike="noStrike">
                <a:solidFill>
                  <a:srgbClr val="f4e7ed"/>
                </a:solidFill>
                <a:latin typeface="Times New Roman"/>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F302-06EE-476E-B3D2-CAFB8D7B04D0}"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4E4F-070A-4CDF-9E68-83B970BE34AA}"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19E1-0AEF-4EEC-B75C-952A5AB580C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