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59D5-BF7B-440A-993D-D1423B2A6172}"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5A3C-416F-4558-8A8A-E07221E8EA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23A7-8971-4B95-9E39-56EA28C29F8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A048-BC87-47DD-8B0F-01D322F8953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26C4-A9E2-4C22-BC9A-A244245B7615}"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9BC5-1D72-4539-B2FE-E2CC0B18184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8BC9-FB74-4044-90EB-8842B12601A9}"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57BA-1873-4A32-BA2C-3A7AB3023A8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8EB7-8936-4E08-B3AB-73F46E2617A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0ADC-455E-4960-81AE-36971DC2156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F18B-77F2-4700-B550-4041814ADB9F}"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F695-B0C3-481A-8F30-11603A91ECA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17C1-CDA6-4850-A235-D198F743EA5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338E-D10B-4182-B7E6-BFD017E5D0E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8EAA-0D9F-494F-8A2A-159ABBB909F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EAAD6-00D1-4B4A-8C17-71B29D4DC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7CC1-5F4F-47C8-977B-CF7E47495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E518D-077F-4417-AEDE-8D81ED53B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1EC53-CA31-4E01-BAE1-DDC07C37B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D8698-DF5B-4447-B4BD-B7EFE46BE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136EE-A6D3-4F98-9237-754AC3CBA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565EA-C1BD-4E12-86D1-660DC7101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96DD2-B7C8-4D90-AFA6-0683380B3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2EF4-7DC8-4DB7-91EB-3A38A857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0116A-9EC2-4D01-B070-36D13C0A1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02F9E-DF61-4D8E-994A-382D2800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8667-3E1B-4B4E-BAF4-F66CD431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0E9A-1724-4187-9858-60096F997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D9562-CB7C-41C4-A1EE-DA1B15F98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081E4-E02B-4BDA-B062-58293034D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B88CC-6EAD-4FE0-9B21-4B1BE9BFC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67077-FC7A-4E64-9346-4FCEC1E7C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DB482-E3B6-430A-8D16-7844021FE2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F4F95-D736-47B0-BF04-2452725C2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4C586-097C-4D78-A705-CDA5D2E77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96E39-83F7-4BF1-B470-A02A2903A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15DF3-DF5E-4227-8242-19B0946A6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2EE10-F406-4BFD-8404-6EB373E1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04D6D-9048-440C-86BB-0FB3271DF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8BF49-9ABA-4D03-9222-2E6C9D5EA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15B34-1FBA-4585-A436-6F61A8E63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4143F-31AB-467F-BB81-460C8D085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6E66E-2DE0-4810-8B31-0FEFE56E0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558192-29E2-42B0-9375-DA4DD643F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DA74F-27DD-4834-8936-D679CCBB0A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9A416-2093-4855-B2D6-D3CD553CE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31D12-472A-44F5-BC24-2D03A8F72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1E8B8-A617-404B-9F82-0CE7C7E33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930E7-1C30-446E-ABF3-553D916F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E3C8B-23A0-4A54-A4E5-865A31857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1A5A2-DF20-4253-A4E0-ABD95297D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7B154-B909-40A3-9446-E91A59025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B54CB-D59D-4889-8184-EAB63E2A5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36153-E2A1-4330-854D-13F651E26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7F1CA-7DDA-4035-B017-B341FA023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F67DA-43F6-4725-917B-BD266D7CE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217445-4E87-492A-901B-8224DDBD7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63485E-24FD-46AE-920F-E4B30A1CE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C96D80-6677-4EC1-830A-743EB2078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7C56-9F3E-4A6E-8398-7646DBA6D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13E3A-CD6E-43B5-8E02-638A54B84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8A5B6-402A-49A2-BCEB-F1306188B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1E8D3-0DBE-456C-BCD2-9C6A854AF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2A5266-BFA5-496F-97F2-A371B6642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6FF2D-4FB6-47C7-927D-08B18E21A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1C48A-6EE2-49F3-9DCC-098131761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AE9AE-9391-45D4-BE94-0321BA7C6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AFFFE-3FF5-4F83-A47F-CD1439AFB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3A78B-BCEE-405D-B8C5-7F6435937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9FBB53-6012-4060-928B-68ADD75DC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7725-83C1-4862-AC91-072BD403B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5045D7-376F-43BE-9957-0E0195D93C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CDC4-04BD-4189-8824-5F266F06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CC76-A1CA-4562-9C64-66814ACD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AA77-C2B0-4AC0-BBBD-AB8A94DC4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5267-15D0-4D68-992B-DE41556A85E6}"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8535-C8FE-4F13-8797-74BAB8FBC73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326C-D2AA-4B5A-8DCF-D279362F7694}"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87C0-F186-4E4B-8D1D-89265E5959A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1E0F-7BC1-417C-9744-18E393B707F5}"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5111-B871-4EE0-B366-A14E02E2BCC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A32E-6DAC-4A82-B956-892C762B074C}" type="datetime">
              <a:rPr b="0" lang="en-US" sz="1000" spc="-1" strike="noStrike">
                <a:solidFill>
                  <a:srgbClr val="f4e7ed"/>
                </a:solidFill>
                <a:latin typeface="Times New Roman"/>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62CE-D085-48E4-86D7-0880026C13F0}"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2CD2-B874-43A6-A1B2-5D5776505723}"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2253-E85E-4090-8D88-83B7941DC68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