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ct" ContentType="image/x-pict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F350-C3A4-4B55-BBD4-F4D74BD0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9AB9-C45F-4345-B3F0-A2790A0E7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F80F-88A2-45F8-A875-AAD19F2A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98D0-367D-46D0-9A7C-ADD7FC864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CC89-A4D2-4FF4-9BC2-339B16FE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854C-8468-4495-933F-0BDD3D81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12A8-2882-498C-8ECF-21314C6E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A5E0-211D-4862-B95D-D44AA7DDF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E9BC-DE02-4F9B-8A9A-CB6A08A4B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C4A9-848D-43B4-A2E9-653EC31B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E41A-D6B8-465E-A70F-F45C3D33C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FAD-9C11-42EB-BA07-E55BE3F58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AE64-59ED-4F75-B32F-D372D4D3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Negroni was born in Guantanamo, Cuba, the son of a Puerto Rican father and a Spanish mother.  The family moved to New York in 1942.  I heard Dr. Negroni speak at this year’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ge Boar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r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erence, an event that focused on assisting Latino and other minority youth to matriculate and achieve in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F1C-B9DE-4349-8636-0A05829ED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many ELL students are heritage language learners and are proficient in English, many others are recent immigrants with barely a working knowledge of the language let alone a command of academic Engl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15EC-C28E-4638-BC06-54528707A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egroni’s father was illiterate and his mother went to only the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, Negroni credits his parents with instilling in him a great love of learning.  He went on to graduate from Rice High School in Harlem, attended college, and graduated with a doctorate from Farleigh Dickinson University.  Currently, he is the Senior Vice President of The College Board and works tirelessly to giv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n equitable opportunity to attend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E480-CEA9-4640-8E6B-65AC79071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: mostly from India, the Philippines, China, and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5CE-C1A1-4BDC-890A-8AEFBD31E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 Spoken by Limited English Proficient Children, by Grade Level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506-B73A-4E63-B844-9161EE44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F90-5C79-42A4-B7FE-82C30A2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863-E7B1-44FE-8F60-C0841E49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DD4-2A45-49CA-8842-44E2E78B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F9C8-570B-43A4-804E-05CE45FC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BFDF-3D27-48AE-B165-79169F3F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6342-E9A9-4643-8C04-C8208401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7CC0-9BD2-46F5-805E-054D5B84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D710-8414-426A-B9B1-B0859933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F77-DA1D-48AD-A01F-5872A7AD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24FE-CBB1-494C-854F-40F2681D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C1F-32C0-43F0-B180-71DCD687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839E-DBA3-4ACF-9DF5-BEB7FFD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AE2C-66F0-4322-9C00-8575FB90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B600-9A19-4094-806D-CCF70433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3351-5382-4F4A-8B0F-AE131B00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E975-8153-4501-9F97-7BA1597E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836-7439-48B0-8DDF-682536C7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5C78-9652-48D6-9705-D1BBFB04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745-FA4F-4765-BA87-975C2AAE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900-2B83-4808-83DE-771EB07C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645-9585-401B-9652-4C5908C0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D68-B24A-4D82-A491-71C7559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504-B05C-42F0-99A6-BF27727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FFFD-7C41-4E99-AEE8-CA390854DE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8996-DFD0-4A67-85CD-3AD9BFD84F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9228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English Language Learners and the Social Studies: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n Urgent Priority,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 Moral Imperativ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705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tal Issues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Council for the Social Stu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ember 14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ademic Language Pro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9" name="Picture 3" descr="iceberg"/>
          <p:cNvPicPr/>
          <p:nvPr/>
        </p:nvPicPr>
        <p:blipFill>
          <a:blip r:embed="rId1"/>
          <a:stretch/>
        </p:blipFill>
        <p:spPr>
          <a:xfrm>
            <a:off x="86184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Interpersonal Communicative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gnitive Academic Language Pro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ummins, 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1470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819520" y="2133720"/>
            <a:ext cx="10666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371600" y="411480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ory and Applic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ha Martín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y Bilingual/ES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lanning Language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functions and sentence patterns and structures to be practiced to be successful in the less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lanning Language Frame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1828800"/>
          <a:ext cx="8686800" cy="4849920"/>
        </p:xfrm>
        <a:graphic>
          <a:graphicData uri="http://schemas.openxmlformats.org/drawingml/2006/table">
            <a:tbl>
              <a:tblPr/>
              <a:tblGrid>
                <a:gridCol w="1738440"/>
                <a:gridCol w="1736640"/>
                <a:gridCol w="1736640"/>
                <a:gridCol w="1736640"/>
                <a:gridCol w="173844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Func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Structur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bula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/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arm has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city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fewer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, houses, people, animals, more, few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all.. (continent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merica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, Asia, Africa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318960" y="538200"/>
          <a:ext cx="8444160" cy="57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538200"/>
                    <a:ext cx="844416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"/>
          <p:cNvSpPr/>
          <p:nvPr/>
        </p:nvSpPr>
        <p:spPr>
          <a:xfrm>
            <a:off x="380880" y="5029200"/>
            <a:ext cx="83822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17680" y="506556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Content Vocabular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14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Comic Sans MS"/>
              </a:rPr>
              <a:t>Making Content Accessible to English Language Learner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48880" y="32000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ky Hamp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ESL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ena Park I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28600" y="304920"/>
            <a:ext cx="935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in a Second Languag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4568760" y="2438280"/>
            <a:ext cx="79560" cy="333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543040" y="3962520"/>
            <a:ext cx="4410360" cy="74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96252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809880" y="16765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gnitively Undem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24000" y="3657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Embedded              (Concr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743880" y="3657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text Reduced (Abs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1905120" y="2438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2209680" y="26668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952880" y="25146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1905120" y="42670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800600" y="419112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5105520" y="27432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2860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97196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533520" y="1676520"/>
            <a:ext cx="2895480" cy="2133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57200" y="4114800"/>
            <a:ext cx="304812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09480" y="19051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 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4952880" y="4572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ictures of th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ivil W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304920" y="304920"/>
            <a:ext cx="74674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ere do these activities belong in the lesson?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3520" y="175248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4572000" y="1752480"/>
            <a:ext cx="297180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quiz 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other about the impa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 the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nd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3352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complete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p of major civil wa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tt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72000" y="4114800"/>
            <a:ext cx="2895480" cy="2133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read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pter about Lincoln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lection and Sout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609480" y="23623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e students view pictures of the Civil War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990720" y="1295280"/>
            <a:ext cx="213336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371600" y="15238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.E.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91440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95280" y="3809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029200" y="11430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181480" y="1371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4952880" y="3581280"/>
            <a:ext cx="2133720" cy="106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12460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Free Form M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8600" y="1447920"/>
            <a:ext cx="8610480" cy="495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verview of ELLs 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 the U.S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rbara C. Cru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, Social Sc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South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Thirteen Colon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6" name="Picture 4" descr="work samples aimee visit 008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Characterization Cha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8" name="Picture 4" descr="04"/>
          <p:cNvPicPr/>
          <p:nvPr/>
        </p:nvPicPr>
        <p:blipFill>
          <a:blip r:embed="rId1"/>
          <a:stretch/>
        </p:blipFill>
        <p:spPr>
          <a:xfrm>
            <a:off x="380880" y="137160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iangular Tra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0" name="Picture 4" descr="98EE2251"/>
          <p:cNvPicPr/>
          <p:nvPr/>
        </p:nvPicPr>
        <p:blipFill>
          <a:blip r:embed="rId1"/>
          <a:stretch/>
        </p:blipFill>
        <p:spPr>
          <a:xfrm>
            <a:off x="1219320" y="1676520"/>
            <a:ext cx="68706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Comic Sans MS"/>
              </a:rPr>
              <a:t>Words Across Contex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143000"/>
          <a:ext cx="7010280" cy="4987800"/>
        </p:xfrm>
        <a:graphic>
          <a:graphicData uri="http://schemas.openxmlformats.org/drawingml/2006/table">
            <a:tbl>
              <a:tblPr/>
              <a:tblGrid>
                <a:gridCol w="2141640"/>
                <a:gridCol w="4868640"/>
              </a:tblGrid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mathematic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 astronom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gardene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historian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chiropractor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60" descr="250px-Cartesian-coordinate-system_svg"/>
          <p:cNvPicPr/>
          <p:nvPr/>
        </p:nvPicPr>
        <p:blipFill>
          <a:blip r:embed="rId1"/>
          <a:stretch/>
        </p:blipFill>
        <p:spPr>
          <a:xfrm>
            <a:off x="2971800" y="1219320"/>
            <a:ext cx="1523880" cy="745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1" descr="solstice2"/>
          <p:cNvPicPr/>
          <p:nvPr/>
        </p:nvPicPr>
        <p:blipFill>
          <a:blip r:embed="rId2"/>
          <a:stretch/>
        </p:blipFill>
        <p:spPr>
          <a:xfrm>
            <a:off x="2895480" y="2133720"/>
            <a:ext cx="1524240" cy="799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2" descr="w564-2"/>
          <p:cNvPicPr/>
          <p:nvPr/>
        </p:nvPicPr>
        <p:blipFill>
          <a:blip r:embed="rId3"/>
          <a:stretch/>
        </p:blipFill>
        <p:spPr>
          <a:xfrm>
            <a:off x="2971800" y="3124080"/>
            <a:ext cx="1122480" cy="822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3" descr="180px-Flag_of_Germany_1933_svg"/>
          <p:cNvPicPr/>
          <p:nvPr/>
        </p:nvPicPr>
        <p:blipFill>
          <a:blip r:embed="rId4"/>
          <a:stretch/>
        </p:blipFill>
        <p:spPr>
          <a:xfrm>
            <a:off x="4267080" y="4114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4" descr="180px-Flag_of_Italy_%281861-1946%29_svg"/>
          <p:cNvPicPr/>
          <p:nvPr/>
        </p:nvPicPr>
        <p:blipFill>
          <a:blip r:embed="rId5"/>
          <a:stretch/>
        </p:blipFill>
        <p:spPr>
          <a:xfrm>
            <a:off x="3581280" y="4114800"/>
            <a:ext cx="685800" cy="754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5" descr="180px-Flag_of_Japan_-_variant_svg"/>
          <p:cNvPicPr/>
          <p:nvPr/>
        </p:nvPicPr>
        <p:blipFill>
          <a:blip r:embed="rId6"/>
          <a:stretch/>
        </p:blipFill>
        <p:spPr>
          <a:xfrm>
            <a:off x="2743200" y="4114800"/>
            <a:ext cx="762120" cy="754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6" descr="250px-Illu_vertebral_column"/>
          <p:cNvPicPr/>
          <p:nvPr/>
        </p:nvPicPr>
        <p:blipFill>
          <a:blip r:embed="rId7"/>
          <a:stretch/>
        </p:blipFill>
        <p:spPr>
          <a:xfrm>
            <a:off x="3048120" y="5181480"/>
            <a:ext cx="99036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206DFB69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meone Wanted But So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5BD311E1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Y PETER J. NEGRON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he Day I Became a Bear</a:t>
            </a:r>
            <a:br>
              <a:rPr sz="40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 poem by Peter J. Negron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5345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had been uncomfortable for the first few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en told to speak in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orget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become ashamed of my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had drummed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was bad and English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THE DAY I BECAME A BEAR_Page_13"/>
          <p:cNvPicPr/>
          <p:nvPr/>
        </p:nvPicPr>
        <p:blipFill>
          <a:blip r:embed="rId1"/>
          <a:srcRect l="53923" t="34083" r="14706" b="27261"/>
          <a:stretch/>
        </p:blipFill>
        <p:spPr>
          <a:xfrm>
            <a:off x="6705720" y="2819520"/>
            <a:ext cx="243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third grade I was reading very well in English and had forgotten a great deal of my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first week of school in the third gr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ssigned to the J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very best re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a Jet and I was soa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THE DAY I BECAME A BEAR_Page_08"/>
          <p:cNvPicPr/>
          <p:nvPr/>
        </p:nvPicPr>
        <p:blipFill>
          <a:blip r:embed="rId1"/>
          <a:srcRect l="54905" t="35598" r="0" b="29531"/>
          <a:stretch/>
        </p:blipFill>
        <p:spPr>
          <a:xfrm>
            <a:off x="5257800" y="3048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a month into the year, the teacher asked me if I spoke Spanish at h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aid y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xt day I became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of us knew the difference between a Jet and a Bluebi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knew it by the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eacher treated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St. Joseph School circa 1950"/>
          <p:cNvPicPr/>
          <p:nvPr/>
        </p:nvPicPr>
        <p:blipFill>
          <a:blip r:embed="rId1"/>
          <a:stretch/>
        </p:blipFill>
        <p:spPr>
          <a:xfrm>
            <a:off x="6019920" y="433548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are the ELLs in our classroom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U.S., 1 in 5 school-age children are immigr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¾ of the children of immigrants are native-born; about ¼ foreign-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Immig &amp; NCLB_Page_08"/>
          <p:cNvPicPr/>
          <p:nvPr/>
        </p:nvPicPr>
        <p:blipFill>
          <a:blip r:embed="rId1"/>
          <a:srcRect l="12747" t="60604" r="11765" b="18129"/>
          <a:stretch/>
        </p:blipFill>
        <p:spPr>
          <a:xfrm>
            <a:off x="380880" y="3727440"/>
            <a:ext cx="8305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ts were the best and the teacher loved J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birds were next and I had become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bad that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elt even worse that I did not know why I could not stay a J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THE DAY I BECAME A BEAR_Page_10"/>
          <p:cNvPicPr/>
          <p:nvPr/>
        </p:nvPicPr>
        <p:blipFill>
          <a:blip r:embed="rId1"/>
          <a:srcRect l="5845" t="57586" r="5845" b="25726"/>
          <a:stretch/>
        </p:blipFill>
        <p:spPr>
          <a:xfrm>
            <a:off x="838080" y="4497480"/>
            <a:ext cx="7772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nths went b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a cold day in Febru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mother who spoke no English had visited my teacher the previous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teacher asked me about my life at home.  Don’t you ever speak English at h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, I answered --- my parents don’t speak English at a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THE DAY I BECAME A BEAR_Page_03"/>
          <p:cNvPicPr/>
          <p:nvPr/>
        </p:nvPicPr>
        <p:blipFill>
          <a:blip r:embed="rId1"/>
          <a:srcRect l="51967" t="27971" r="0" b="50011"/>
          <a:stretch/>
        </p:blipFill>
        <p:spPr>
          <a:xfrm>
            <a:off x="4419720" y="152280"/>
            <a:ext cx="3727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in, it was a cold day in February when the teacher looked at me and sai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I am moving you to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ars? I questioned.  Why the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the lowest --- the worst --- the bott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you belong with the B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six short month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ent from a Jet to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studentteacher"/>
          <p:cNvPicPr/>
          <p:nvPr/>
        </p:nvPicPr>
        <p:blipFill>
          <a:blip r:embed="rId1"/>
          <a:stretch/>
        </p:blipFill>
        <p:spPr>
          <a:xfrm>
            <a:off x="6477120" y="4778280"/>
            <a:ext cx="26668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 not fully understand why I had become a bear, I knew, like every other Bear, it was not the thing we wanted to b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were there Jets, Bluebirds, and Bea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couldn’t everyone be a J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le I didn’t understand it qui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I understand it today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gan my real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ay I became a B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THE DAY I BECAME A BEAR_Page_15"/>
          <p:cNvPicPr/>
          <p:nvPr/>
        </p:nvPicPr>
        <p:blipFill>
          <a:blip r:embed="rId1"/>
          <a:srcRect l="7842" t="50004" r="51964" b="21178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fro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Immig &amp; NCLB_Page_10"/>
          <p:cNvPicPr/>
          <p:nvPr/>
        </p:nvPicPr>
        <p:blipFill>
          <a:blip r:embed="rId1"/>
          <a:srcRect l="11765" t="51542" r="48041" b="11322"/>
          <a:stretch/>
        </p:blipFill>
        <p:spPr>
          <a:xfrm>
            <a:off x="4419720" y="1676520"/>
            <a:ext cx="4005000" cy="5181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28600" y="2514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 or Region of Birth for Foreign-Born Children,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are they in the U.S.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Immig &amp; NCLB_Page_14"/>
          <p:cNvPicPr/>
          <p:nvPr/>
        </p:nvPicPr>
        <p:blipFill>
          <a:blip r:embed="rId1"/>
          <a:srcRect l="12747" t="14688" r="12747" b="64411"/>
          <a:stretch/>
        </p:blipFill>
        <p:spPr>
          <a:xfrm>
            <a:off x="533520" y="1905120"/>
            <a:ext cx="7543800" cy="3801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528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s with the Highest Shares of Children of Immigrants in PK to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ade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languages do they speak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ghly 1 of 7 students in our nation’s classrooms speaks a language other than English at home; this figure will soon be 1 in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Immig &amp; NCLB_Page_19"/>
          <p:cNvPicPr/>
          <p:nvPr/>
        </p:nvPicPr>
        <p:blipFill>
          <a:blip r:embed="rId1"/>
          <a:srcRect l="12747" t="14370" r="12747" b="61378"/>
          <a:stretch/>
        </p:blipFill>
        <p:spPr>
          <a:xfrm>
            <a:off x="369720" y="1523880"/>
            <a:ext cx="850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 teachers feel well-equipped to meet the needs of ELL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school systems now require ELLs to receive their English instruction not through stand-alone ESOL classes, but directly through their curriculum content cla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half of all teachers have ELLs in their classrooms, yet only 13% to 30%  of those teachers have received instruction in ESOL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rvice education: in a study of 25 popular teacher education texts, it was found that less than 1% of the text included useable content related to the teaching of ELLs; in many cases, the topic of English language learning was not identified at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pecial Needs of 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Prat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 for Bilingual/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Branch I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ton,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iceberg"/>
          <p:cNvPicPr/>
          <p:nvPr/>
        </p:nvPicPr>
        <p:blipFill>
          <a:blip r:embed="rId1"/>
          <a:stretch/>
        </p:blipFill>
        <p:spPr>
          <a:xfrm>
            <a:off x="2957400" y="1719360"/>
            <a:ext cx="3229200" cy="4411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n English Language Learner Acquisition of Language is Like this Picture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01:15:04Z</dcterms:created>
  <dc:creator> </dc:creator>
  <dc:description/>
  <dc:language>en-US</dc:language>
  <cp:lastModifiedBy>Gayle Thieman</cp:lastModifiedBy>
  <dcterms:modified xsi:type="dcterms:W3CDTF">2008-11-21T15:17:20Z</dcterms:modified>
  <cp:revision>37</cp:revision>
  <dc:subject/>
  <dc:title>Making Content Accessible to English Language Learners</dc:title>
</cp:coreProperties>
</file>