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ct" ContentType="image/x-pict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06A6-D0D8-424A-82A3-819BD829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E162-6DCC-46CE-BFF4-43043FBCD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036B-8C11-4608-B107-1FB1D240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ACD-4FF5-49CD-B8E2-8C0A8E5E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CC16-E332-4023-A5DC-6C5EC5D5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1066-C998-4759-AD99-8F9993CE2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57B-BD84-43C0-BFF7-018CA3E9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97BD-5BD6-472E-BC31-FD6859C9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2337-4990-497E-83DF-604BFF148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308D-78C8-47D1-B574-26118F927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A10-985B-4E3A-96B3-A91CC5238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8684-4916-4C48-ADAF-4E49FAD9C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CA59-C32C-4C72-8A84-6CE7B31AE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Negroni was born in Guantanamo, Cuba, the son of a Puerto Rican father and a Spanish mother.  The family moved to New York in 1942.  I heard Dr. Negroni speak at this year’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ge Boar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r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erence, an event that focused on assisting Latino and other minority youth to matriculate and achieve in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AEAB-2618-4CDA-9177-3AD1BA3E6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many ELL students are heritage language learners and are proficient in English, many others are recent immigrants with barely a working knowledge of the language let alone a command of academic Engl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AFE3-0A90-412D-ABB0-5BB532D10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egroni’s father was illiterate and his mother went to only the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, Negroni credits his parents with instilling in him a great love of learning.  He went on to graduate from Rice High School in Harlem, attended college, and graduated with a doctorate from Farleigh Dickinson University.  Currently, he is the Senior Vice President of The College Board and works tirelessly to giv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n equitable opportunity to attend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9A48-46FA-4B79-9A8F-EDCF1175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: mostly from India, the Philippines, China, and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DF0A-8DDE-4650-B144-0A3F1FD09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 Spoken by Limited English Proficient Children, by Grade Level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938-573A-4063-9FC1-A96C3C5B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0A6-2A10-4D18-9774-13ADED0E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6FF-6E33-456A-8166-DACDE843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792-8AD6-43C0-9836-63D20AF5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575C-0384-48DA-8C21-C227B14A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43EC-86E4-478A-B9A5-BEFC790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1117-B63A-40AE-9D13-FBCFB794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7A2E-81A4-4301-9E0E-AC8FF06F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417E-FE91-40AC-8875-4A7E9AE3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FD50-AA19-40A2-92B7-4E14BB7C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5532-1CD7-4960-8F53-A2C3891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F7E-6156-4FD3-A767-6BC0CD09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0EDE-D9A8-4940-ABD4-3215449F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9F4D-FF7D-4ABB-A562-D5B4BA9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DE56-B2E1-48D6-AF00-6E713766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E506-EAAA-488C-B1F1-EDAE3F6B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7BF6-0F23-4B1B-AC68-9F9FCA2F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03A-0ACF-4AA5-8E59-7BD66E26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3F3-81DC-43B7-8E53-8BD545BE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2AE-3D32-4AFF-A17E-5BDD3E7F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9D9-2EB9-45AC-99ED-B399BE3C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183-67D7-4D72-9839-030C861C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CE1-8D26-430F-88EB-6F11E69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0CE-E496-4058-8885-4C9F675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B8BD-B947-4D97-8B52-F2264DE028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1E26-C237-470A-9362-356C2EED5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9228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nglish Language Learners and the Social Studies: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n Urgent Priority,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 Moral Imperati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705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tal Issues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Council for the Social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ember 14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ademic Language Pro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Picture 3" descr="iceberg"/>
          <p:cNvPicPr/>
          <p:nvPr/>
        </p:nvPicPr>
        <p:blipFill>
          <a:blip r:embed="rId1"/>
          <a:stretch/>
        </p:blipFill>
        <p:spPr>
          <a:xfrm>
            <a:off x="86184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Interpersonal Communicative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gnitive Academic Language Pro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ummins, 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1470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819520" y="21337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371600" y="41148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ory and Applic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Martín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Bilingual/ES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lanning Language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functions and sentence patterns and structures to be practiced to be successful in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1828800"/>
          <a:ext cx="8686800" cy="4849920"/>
        </p:xfrm>
        <a:graphic>
          <a:graphicData uri="http://schemas.openxmlformats.org/drawingml/2006/table">
            <a:tbl>
              <a:tblPr/>
              <a:tblGrid>
                <a:gridCol w="1738440"/>
                <a:gridCol w="1736640"/>
                <a:gridCol w="1736640"/>
                <a:gridCol w="1736640"/>
                <a:gridCol w="173844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Func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Structur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arm has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city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fewer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, houses, people, animals, more, fe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all.. (continen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merica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, Asia, Africa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318960" y="538200"/>
          <a:ext cx="8444160" cy="57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538200"/>
                    <a:ext cx="844416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"/>
          <p:cNvSpPr/>
          <p:nvPr/>
        </p:nvSpPr>
        <p:spPr>
          <a:xfrm>
            <a:off x="380880" y="5029200"/>
            <a:ext cx="83822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17680" y="506556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ent Vocabular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14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Comic Sans MS"/>
              </a:rPr>
              <a:t>Making Content Accessible to English Language Learner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48880" y="32000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ky Ham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ES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ena Park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28600" y="304920"/>
            <a:ext cx="93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in a Second Languag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4568760" y="2438280"/>
            <a:ext cx="79560" cy="333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543040" y="3962520"/>
            <a:ext cx="4410360" cy="7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6252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809880" y="16765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Un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2400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Embedded              (Concr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743880" y="3657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Reduced (Abs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1905120" y="2438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209680" y="26668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952880" y="25146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1905120" y="42670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800600" y="419112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5105520" y="2743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2860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97196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533520" y="1676520"/>
            <a:ext cx="2895480" cy="2133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57200" y="4114800"/>
            <a:ext cx="304812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09480" y="19051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 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952880" y="4572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ictures of th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vil W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304920" y="304920"/>
            <a:ext cx="74674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3520" y="175248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3352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609480" y="23623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pictures of the Civil Wa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990720" y="1295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371600" y="15238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91440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95280" y="3809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029200" y="11430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181480" y="1371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495288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12460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Free Form M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8600" y="1447920"/>
            <a:ext cx="8610480" cy="495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verview of ELLs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 the U.S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rbara C. Cru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, Social Sc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South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Thirteen Colon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6" name="Picture 4" descr="work samples aimee visit 008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Characterization Cha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8" name="Picture 4" descr="04"/>
          <p:cNvPicPr/>
          <p:nvPr/>
        </p:nvPicPr>
        <p:blipFill>
          <a:blip r:embed="rId1"/>
          <a:stretch/>
        </p:blipFill>
        <p:spPr>
          <a:xfrm>
            <a:off x="380880" y="137160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iangular Tra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4" descr="98EE2251"/>
          <p:cNvPicPr/>
          <p:nvPr/>
        </p:nvPicPr>
        <p:blipFill>
          <a:blip r:embed="rId1"/>
          <a:stretch/>
        </p:blipFill>
        <p:spPr>
          <a:xfrm>
            <a:off x="1219320" y="1676520"/>
            <a:ext cx="68706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Comic Sans MS"/>
              </a:rPr>
              <a:t>Words Across Contex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143000"/>
          <a:ext cx="7010280" cy="4987800"/>
        </p:xfrm>
        <a:graphic>
          <a:graphicData uri="http://schemas.openxmlformats.org/drawingml/2006/table">
            <a:tbl>
              <a:tblPr/>
              <a:tblGrid>
                <a:gridCol w="2141640"/>
                <a:gridCol w="4868640"/>
              </a:tblGrid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mathematic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 astronom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garden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histor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chiropracto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60" descr="250px-Cartesian-coordinate-system_svg"/>
          <p:cNvPicPr/>
          <p:nvPr/>
        </p:nvPicPr>
        <p:blipFill>
          <a:blip r:embed="rId1"/>
          <a:stretch/>
        </p:blipFill>
        <p:spPr>
          <a:xfrm>
            <a:off x="2971800" y="1219320"/>
            <a:ext cx="1523880" cy="745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1" descr="solstice2"/>
          <p:cNvPicPr/>
          <p:nvPr/>
        </p:nvPicPr>
        <p:blipFill>
          <a:blip r:embed="rId2"/>
          <a:stretch/>
        </p:blipFill>
        <p:spPr>
          <a:xfrm>
            <a:off x="2895480" y="2133720"/>
            <a:ext cx="1524240" cy="79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2" descr="w564-2"/>
          <p:cNvPicPr/>
          <p:nvPr/>
        </p:nvPicPr>
        <p:blipFill>
          <a:blip r:embed="rId3"/>
          <a:stretch/>
        </p:blipFill>
        <p:spPr>
          <a:xfrm>
            <a:off x="2971800" y="3124080"/>
            <a:ext cx="1122480" cy="822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3" descr="180px-Flag_of_Germany_1933_svg"/>
          <p:cNvPicPr/>
          <p:nvPr/>
        </p:nvPicPr>
        <p:blipFill>
          <a:blip r:embed="rId4"/>
          <a:stretch/>
        </p:blipFill>
        <p:spPr>
          <a:xfrm>
            <a:off x="4267080" y="4114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4" descr="180px-Flag_of_Italy_%281861-1946%29_svg"/>
          <p:cNvPicPr/>
          <p:nvPr/>
        </p:nvPicPr>
        <p:blipFill>
          <a:blip r:embed="rId5"/>
          <a:stretch/>
        </p:blipFill>
        <p:spPr>
          <a:xfrm>
            <a:off x="3581280" y="4114800"/>
            <a:ext cx="685800" cy="75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5" descr="180px-Flag_of_Japan_-_variant_svg"/>
          <p:cNvPicPr/>
          <p:nvPr/>
        </p:nvPicPr>
        <p:blipFill>
          <a:blip r:embed="rId6"/>
          <a:stretch/>
        </p:blipFill>
        <p:spPr>
          <a:xfrm>
            <a:off x="2743200" y="41148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6" descr="250px-Illu_vertebral_column"/>
          <p:cNvPicPr/>
          <p:nvPr/>
        </p:nvPicPr>
        <p:blipFill>
          <a:blip r:embed="rId7"/>
          <a:stretch/>
        </p:blipFill>
        <p:spPr>
          <a:xfrm>
            <a:off x="3048120" y="5181480"/>
            <a:ext cx="99036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206DFB69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5BD311E1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Y PETER J. NEGRON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 poem by Peter J. Negron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5345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had been uncomfortable for the first few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en told to speak in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get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come ashamed of my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had drummed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was bad and English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THE DAY I BECAME A BEAR_Page_13"/>
          <p:cNvPicPr/>
          <p:nvPr/>
        </p:nvPicPr>
        <p:blipFill>
          <a:blip r:embed="rId1"/>
          <a:srcRect l="53923" t="34083" r="14706" b="27261"/>
          <a:stretch/>
        </p:blipFill>
        <p:spPr>
          <a:xfrm>
            <a:off x="6705720" y="2819520"/>
            <a:ext cx="243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third grade I was reading very well in English and had forgotten a great deal of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first week of school in the third gr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ssigned to the J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very best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 Jet and I was soa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THE DAY I BECAME A BEAR_Page_08"/>
          <p:cNvPicPr/>
          <p:nvPr/>
        </p:nvPicPr>
        <p:blipFill>
          <a:blip r:embed="rId1"/>
          <a:srcRect l="54905" t="35598" r="0" b="29531"/>
          <a:stretch/>
        </p:blipFill>
        <p:spPr>
          <a:xfrm>
            <a:off x="5257800" y="3048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a month into the year, the teacher asked me if I spoke Spanish at h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aid y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day I became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us knew the difference between a Jet and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knew it by the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acher treate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St. Joseph School circa 1950"/>
          <p:cNvPicPr/>
          <p:nvPr/>
        </p:nvPicPr>
        <p:blipFill>
          <a:blip r:embed="rId1"/>
          <a:stretch/>
        </p:blipFill>
        <p:spPr>
          <a:xfrm>
            <a:off x="6019920" y="433548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are the ELLs in our classroom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U.S., 1 in 5 school-age children are immigr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¾ of the children of immigrants are native-born; about ¼ foreign-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Immig &amp; NCLB_Page_08"/>
          <p:cNvPicPr/>
          <p:nvPr/>
        </p:nvPicPr>
        <p:blipFill>
          <a:blip r:embed="rId1"/>
          <a:srcRect l="12747" t="60604" r="11765" b="18129"/>
          <a:stretch/>
        </p:blipFill>
        <p:spPr>
          <a:xfrm>
            <a:off x="380880" y="3727440"/>
            <a:ext cx="8305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ts were the best and the teacher loved J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birds were next and I had become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bad that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even worse that I did not know why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THE DAY I BECAME A BEAR_Page_10"/>
          <p:cNvPicPr/>
          <p:nvPr/>
        </p:nvPicPr>
        <p:blipFill>
          <a:blip r:embed="rId1"/>
          <a:srcRect l="5845" t="57586" r="5845" b="25726"/>
          <a:stretch/>
        </p:blipFill>
        <p:spPr>
          <a:xfrm>
            <a:off x="838080" y="4497480"/>
            <a:ext cx="7772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nths went b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a cold day in Febru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mother who spoke no English had visited my teacher the previous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teacher asked me about my life at home.  Don’t you ever speak English at h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, I answered --- my parents don’t speak English at a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THE DAY I BECAME A BEAR_Page_03"/>
          <p:cNvPicPr/>
          <p:nvPr/>
        </p:nvPicPr>
        <p:blipFill>
          <a:blip r:embed="rId1"/>
          <a:srcRect l="51967" t="27971" r="0" b="50011"/>
          <a:stretch/>
        </p:blipFill>
        <p:spPr>
          <a:xfrm>
            <a:off x="4419720" y="152280"/>
            <a:ext cx="372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in, it was a cold day in February when the teacher looked at me and sai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I am moving you to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ars? I questioned.  Why the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the lowest --- the worst --- the bott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you belong with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ix short month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ent from a Jet to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studentteacher"/>
          <p:cNvPicPr/>
          <p:nvPr/>
        </p:nvPicPr>
        <p:blipFill>
          <a:blip r:embed="rId1"/>
          <a:stretch/>
        </p:blipFill>
        <p:spPr>
          <a:xfrm>
            <a:off x="6477120" y="4778280"/>
            <a:ext cx="26668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 not fully understand why I had become a bear, I knew, like every other Bear, it was not the thing we wanted to b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were there Jets, Bluebirds, and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couldn’t everyone be a J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n’t understand it qui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 understand it today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gan my real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y I became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THE DAY I BECAME A BEAR_Page_15"/>
          <p:cNvPicPr/>
          <p:nvPr/>
        </p:nvPicPr>
        <p:blipFill>
          <a:blip r:embed="rId1"/>
          <a:srcRect l="7842" t="50004" r="51964" b="21178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fro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Immig &amp; NCLB_Page_10"/>
          <p:cNvPicPr/>
          <p:nvPr/>
        </p:nvPicPr>
        <p:blipFill>
          <a:blip r:embed="rId1"/>
          <a:srcRect l="11765" t="51542" r="48041" b="11322"/>
          <a:stretch/>
        </p:blipFill>
        <p:spPr>
          <a:xfrm>
            <a:off x="4419720" y="1676520"/>
            <a:ext cx="4005000" cy="5181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2860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 or Region of Birth for Foreign-Born Children,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in the U.S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Immig &amp; NCLB_Page_14"/>
          <p:cNvPicPr/>
          <p:nvPr/>
        </p:nvPicPr>
        <p:blipFill>
          <a:blip r:embed="rId1"/>
          <a:srcRect l="12747" t="14688" r="12747" b="64411"/>
          <a:stretch/>
        </p:blipFill>
        <p:spPr>
          <a:xfrm>
            <a:off x="533520" y="1905120"/>
            <a:ext cx="7543800" cy="3801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528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with the Highest Shares of Children of Immigrants in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languages do they speak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ghly 1 of 7 students in our nation’s classrooms speaks a language other than English at home; this figure will soon be 1 in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Immig &amp; NCLB_Page_19"/>
          <p:cNvPicPr/>
          <p:nvPr/>
        </p:nvPicPr>
        <p:blipFill>
          <a:blip r:embed="rId1"/>
          <a:srcRect l="12747" t="14370" r="12747" b="61378"/>
          <a:stretch/>
        </p:blipFill>
        <p:spPr>
          <a:xfrm>
            <a:off x="369720" y="1523880"/>
            <a:ext cx="850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teachers feel well-equipped to meet the needs of ELL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chool systems now require ELLs to receive their English instruction not through stand-alone ESOL classes, but directly through their curriculum content cla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half of all teachers have ELLs in their classrooms, yet only 13% to 30%  of those teachers have received instruction in ESOL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ice education: in a study of 25 popular teacher education texts, it was found that less than 1% of the text included useable content related to the teaching of ELLs; in many cases, the topic of English language learning was not identified at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pecial Needs of 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Prat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 for Bilingual/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ceberg"/>
          <p:cNvPicPr/>
          <p:nvPr/>
        </p:nvPicPr>
        <p:blipFill>
          <a:blip r:embed="rId1"/>
          <a:stretch/>
        </p:blipFill>
        <p:spPr>
          <a:xfrm>
            <a:off x="295740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n English Language Learner Acquisition of Language is Like this Pi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1:15:04Z</dcterms:created>
  <dc:creator> </dc:creator>
  <dc:description/>
  <dc:language>en-US</dc:language>
  <cp:lastModifiedBy>Gayle Thieman</cp:lastModifiedBy>
  <dcterms:modified xsi:type="dcterms:W3CDTF">2008-11-21T15:17:20Z</dcterms:modified>
  <cp:revision>37</cp:revision>
  <dc:subject/>
  <dc:title>Making Content Accessible to English Language Learners</dc:title>
</cp:coreProperties>
</file>