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ct" ContentType="image/x-pict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F503-284D-4323-B562-73E837987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A5FA-514F-4EB7-961B-2CC0047B8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9E0F-D434-420E-A8AE-A9FB461B3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CBF0-EF3F-4559-A603-C440CBD18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6CB1-F1FE-49C3-9D78-3613CF822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D71E-E5FC-459B-B168-E54E9FF7C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A93E-712B-44F2-8E9C-B3071075F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AF9C-107C-4A92-9636-E64603E65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934E-AF30-4231-9C50-820714DD0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637C-5275-49E7-9365-C61C5EFA1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CB91-F798-407C-B240-DF0418AE7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8C26-42B2-4CAF-89F2-F38B72A73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4CE9-AA8B-4B19-81BD-492C4A099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Negroni was born in Guantanamo, Cuba, the son of a Puerto Rican father and a Spanish mother.  The family moved to New York in 1942.  I heard Dr. Negroni speak at this year’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ge Boar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ár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ference, an event that focused on assisting Latino and other minority youth to matriculate and achieve in colle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7D3B-6F24-4915-91DA-6343D299F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many ELL students are heritage language learners and are proficient in English, many others are recent immigrants with barely a working knowledge of the language let alone a command of academic Engl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4A14-AD59-4C10-BDE0-586B18F36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Negroni’s father was illiterate and his mother went to only the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, Negroni credits his parents with instilling in him a great love of learning.  He went on to graduate from Rice High School in Harlem, attended college, and graduated with a doctorate from Farleigh Dickinson University.  Currently, he is the Senior Vice President of The College Board and works tirelessly to giv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n equitable opportunity to attend colle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5646-C1A0-4F02-95EB-1BB5025DA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: mostly from India, the Philippines, China, and Ko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B23B-B892-4173-8356-D8D1E856A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s Spoken by Limited English Proficient Children, by Grade Level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314-A2DD-4D1C-A06E-A198EF2C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1870-F206-4A5C-9275-96CB77E6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49F0-5AD3-4AB9-BEBF-4CE912B5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46E-32BB-4253-B9A2-69149613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7AD4-604B-4EC1-944C-7E66A6D8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A66D-1BEE-4B23-B10D-494EFFF7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8DDD-81CB-4913-865A-2D1A5814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7941-AA63-48A1-829A-AD42D65F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54A5-A839-425B-BADA-40EDE6BE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5433-001F-4A35-9327-72EA9536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899C-CB2E-47D9-BC21-7D4A8EF2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4625-141D-4F08-A542-EB30CD54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0A85-990C-4D23-9860-126B1891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ECE4-861A-45FF-A494-4CD2565B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35BC-328C-40BB-B941-AC1D7FAD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A0F3-1FCC-42ED-90BA-DDE88343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60F2-AFD9-4024-9F19-F5362E0A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9B30-B3BF-4167-B97C-09154337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2629-DFCE-476A-B392-C23CE478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56E-340A-4580-8366-878C27A7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797C-8342-4592-B90F-8143454F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CA1-F5F5-44D4-8C83-08E72E83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AC92-8E31-4398-8BB6-97C786A2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C356-3E93-4223-9ECF-8FBF9198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5B3F-4B7D-4490-B3D8-8E41AC6EC3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E863-F9EC-48A8-AB37-9269FF93F4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560"/>
            <a:ext cx="6922800" cy="22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English Language Learners and the Social Studies: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An Urgent Priority, 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A Moral Imperative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3049560"/>
            <a:ext cx="6705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tal Issues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tional Council for the Social Stu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vember 14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uston, 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ademic Language Proficienc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9" name="Picture 3" descr="iceberg"/>
          <p:cNvPicPr/>
          <p:nvPr/>
        </p:nvPicPr>
        <p:blipFill>
          <a:blip r:embed="rId1"/>
          <a:stretch/>
        </p:blipFill>
        <p:spPr>
          <a:xfrm>
            <a:off x="861840" y="1719360"/>
            <a:ext cx="3229200" cy="44114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Interpersonal Communicative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gnitive Academic Language Pro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ummins, 19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147080" y="338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819520" y="2133720"/>
            <a:ext cx="10666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1371600" y="411480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ory and Applicatio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ha Martíne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ary Bilingual/ESL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Branch I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ton, 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anning Language Fra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lanning Language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functions and sentence patterns and structures to be practiced to be successful in the less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lanning Language Frame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28600" y="1828800"/>
          <a:ext cx="8686800" cy="4849920"/>
        </p:xfrm>
        <a:graphic>
          <a:graphicData uri="http://schemas.openxmlformats.org/drawingml/2006/table">
            <a:tbl>
              <a:tblPr/>
              <a:tblGrid>
                <a:gridCol w="1738440"/>
                <a:gridCol w="1736640"/>
                <a:gridCol w="1736640"/>
                <a:gridCol w="1736640"/>
                <a:gridCol w="173844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Functi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Structur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16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/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s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arm has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city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are fewer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, houses, people, animals, more, few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y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s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are all.. (continent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America,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merica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, Asia, Africa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318960" y="538200"/>
          <a:ext cx="8444160" cy="57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538200"/>
                    <a:ext cx="8444160" cy="57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3"/>
          <p:cNvSpPr/>
          <p:nvPr/>
        </p:nvSpPr>
        <p:spPr>
          <a:xfrm>
            <a:off x="380880" y="5029200"/>
            <a:ext cx="83822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17680" y="5065560"/>
            <a:ext cx="25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Content Vocabular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14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Comic Sans MS"/>
              </a:rPr>
              <a:t>Making Content Accessible to English Language Learners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48880" y="32000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ky Hamp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ESL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ena Park I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ton, 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228600" y="304920"/>
            <a:ext cx="935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in a Second Languag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5"/>
          <p:cNvSpPr/>
          <p:nvPr/>
        </p:nvSpPr>
        <p:spPr>
          <a:xfrm>
            <a:off x="4568760" y="2438280"/>
            <a:ext cx="79560" cy="3332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"/>
          <p:cNvSpPr/>
          <p:nvPr/>
        </p:nvSpPr>
        <p:spPr>
          <a:xfrm>
            <a:off x="2543040" y="3962520"/>
            <a:ext cx="4410360" cy="74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3962520" y="5791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gnitively Dema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3809880" y="167652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gnitively Undema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324000" y="365760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ext Embedded              (Concre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6743880" y="365760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ext Reduced (Abstrac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1905120" y="2438280"/>
            <a:ext cx="213336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2209680" y="266688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.E.E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4952880" y="2514600"/>
            <a:ext cx="21337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4"/>
          <p:cNvSpPr/>
          <p:nvPr/>
        </p:nvSpPr>
        <p:spPr>
          <a:xfrm>
            <a:off x="1905120" y="4267080"/>
            <a:ext cx="213336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5"/>
          <p:cNvSpPr/>
          <p:nvPr/>
        </p:nvSpPr>
        <p:spPr>
          <a:xfrm>
            <a:off x="4800600" y="4191120"/>
            <a:ext cx="21337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5105520" y="27432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2286000" y="4495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4971960" y="4419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ere do these activities belong in the lesson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533520" y="1676520"/>
            <a:ext cx="2895480" cy="2133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4572000" y="1752480"/>
            <a:ext cx="297180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complete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p of major civil w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tt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457200" y="4114800"/>
            <a:ext cx="304812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quiz o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other about the impa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f the Civil W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nd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4572000" y="411480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09480" y="19051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read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pter about Lincoln’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lection and Southern Seces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4952880" y="45720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vie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ictures of th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vil W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304920" y="304920"/>
            <a:ext cx="746748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ere do these activities belong in the lesson?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3520" y="175248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4572000" y="1752480"/>
            <a:ext cx="297180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quiz o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other about the impa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f the Civil W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nd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533520" y="411480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complete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p of major civil w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tt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572000" y="411480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read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pter about Lincoln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lection and Southe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ces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609480" y="236232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view pictures of the Civil War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990720" y="1295280"/>
            <a:ext cx="213336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1371600" y="152388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.E.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914400" y="3581280"/>
            <a:ext cx="213372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95280" y="38098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5029200" y="1143000"/>
            <a:ext cx="21337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181480" y="1371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6"/>
          <p:cNvSpPr/>
          <p:nvPr/>
        </p:nvSpPr>
        <p:spPr>
          <a:xfrm>
            <a:off x="4952880" y="3581280"/>
            <a:ext cx="213372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5124600" y="3809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Free Form M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228600" y="1447920"/>
            <a:ext cx="8610480" cy="4952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Overview of ELLs 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n the U.S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rbara C. Cru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or, Social Scienc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South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pa,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Thirteen Colon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6" name="Picture 4" descr="work samples aimee visit 008"/>
          <p:cNvPicPr/>
          <p:nvPr/>
        </p:nvPicPr>
        <p:blipFill>
          <a:blip r:embed="rId1"/>
          <a:stretch/>
        </p:blipFill>
        <p:spPr>
          <a:xfrm>
            <a:off x="304920" y="106668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Characterization Cha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8" name="Picture 4" descr="04"/>
          <p:cNvPicPr/>
          <p:nvPr/>
        </p:nvPicPr>
        <p:blipFill>
          <a:blip r:embed="rId1"/>
          <a:stretch/>
        </p:blipFill>
        <p:spPr>
          <a:xfrm>
            <a:off x="380880" y="1371600"/>
            <a:ext cx="8153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iangular Tra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0" name="Picture 4" descr="98EE2251"/>
          <p:cNvPicPr/>
          <p:nvPr/>
        </p:nvPicPr>
        <p:blipFill>
          <a:blip r:embed="rId1"/>
          <a:stretch/>
        </p:blipFill>
        <p:spPr>
          <a:xfrm>
            <a:off x="1219320" y="1676520"/>
            <a:ext cx="687060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Comic Sans MS"/>
              </a:rPr>
              <a:t>Words Across Contex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143000"/>
          <a:ext cx="7010280" cy="4987800"/>
        </p:xfrm>
        <a:graphic>
          <a:graphicData uri="http://schemas.openxmlformats.org/drawingml/2006/table">
            <a:tbl>
              <a:tblPr/>
              <a:tblGrid>
                <a:gridCol w="2141640"/>
                <a:gridCol w="4868640"/>
              </a:tblGrid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mathematician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 astronomer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gardener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historian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chiropractor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Picture 60" descr="250px-Cartesian-coordinate-system_svg"/>
          <p:cNvPicPr/>
          <p:nvPr/>
        </p:nvPicPr>
        <p:blipFill>
          <a:blip r:embed="rId1"/>
          <a:stretch/>
        </p:blipFill>
        <p:spPr>
          <a:xfrm>
            <a:off x="2971800" y="1219320"/>
            <a:ext cx="1523880" cy="745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1" descr="solstice2"/>
          <p:cNvPicPr/>
          <p:nvPr/>
        </p:nvPicPr>
        <p:blipFill>
          <a:blip r:embed="rId2"/>
          <a:stretch/>
        </p:blipFill>
        <p:spPr>
          <a:xfrm>
            <a:off x="2895480" y="2133720"/>
            <a:ext cx="1524240" cy="799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2" descr="w564-2"/>
          <p:cNvPicPr/>
          <p:nvPr/>
        </p:nvPicPr>
        <p:blipFill>
          <a:blip r:embed="rId3"/>
          <a:stretch/>
        </p:blipFill>
        <p:spPr>
          <a:xfrm>
            <a:off x="2971800" y="3124080"/>
            <a:ext cx="1122480" cy="822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3" descr="180px-Flag_of_Germany_1933_svg"/>
          <p:cNvPicPr/>
          <p:nvPr/>
        </p:nvPicPr>
        <p:blipFill>
          <a:blip r:embed="rId4"/>
          <a:stretch/>
        </p:blipFill>
        <p:spPr>
          <a:xfrm>
            <a:off x="4267080" y="4114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4" descr="180px-Flag_of_Italy_%281861-1946%29_svg"/>
          <p:cNvPicPr/>
          <p:nvPr/>
        </p:nvPicPr>
        <p:blipFill>
          <a:blip r:embed="rId5"/>
          <a:stretch/>
        </p:blipFill>
        <p:spPr>
          <a:xfrm>
            <a:off x="3581280" y="4114800"/>
            <a:ext cx="685800" cy="754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5" descr="180px-Flag_of_Japan_-_variant_svg"/>
          <p:cNvPicPr/>
          <p:nvPr/>
        </p:nvPicPr>
        <p:blipFill>
          <a:blip r:embed="rId6"/>
          <a:stretch/>
        </p:blipFill>
        <p:spPr>
          <a:xfrm>
            <a:off x="2743200" y="4114800"/>
            <a:ext cx="762120" cy="754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6" descr="250px-Illu_vertebral_column"/>
          <p:cNvPicPr/>
          <p:nvPr/>
        </p:nvPicPr>
        <p:blipFill>
          <a:blip r:embed="rId7"/>
          <a:stretch/>
        </p:blipFill>
        <p:spPr>
          <a:xfrm>
            <a:off x="3048120" y="5181480"/>
            <a:ext cx="99036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meone Wanted But So…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206DFB69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meone Wanted But So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5BD311E1"/>
          <p:cNvPicPr/>
          <p:nvPr/>
        </p:nvPicPr>
        <p:blipFill>
          <a:blip r:embed="rId1"/>
          <a:stretch/>
        </p:blipFill>
        <p:spPr>
          <a:xfrm>
            <a:off x="380880" y="1676520"/>
            <a:ext cx="83822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HE DAY I BECAME A BEAR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BY PETER J. NEGRONI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he Day I Became a Bear</a:t>
            </a:r>
            <a:br>
              <a:rPr sz="40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a poem by Peter J. Negroni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5345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had been uncomfortable for the first few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d been told to speak in Eng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orget my Span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d become ashamed of my fir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s had drummed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was bad and English was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THE DAY I BECAME A BEAR_Page_13"/>
          <p:cNvPicPr/>
          <p:nvPr/>
        </p:nvPicPr>
        <p:blipFill>
          <a:blip r:embed="rId1"/>
          <a:srcRect l="53923" t="34083" r="14706" b="27261"/>
          <a:stretch/>
        </p:blipFill>
        <p:spPr>
          <a:xfrm>
            <a:off x="6705720" y="2819520"/>
            <a:ext cx="2438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third grade I was reading very well in English and had forgotten a great deal of my Span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first week of school in the third grad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s assigned to the J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the very best rea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s a Jet and I was soa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THE DAY I BECAME A BEAR_Page_08"/>
          <p:cNvPicPr/>
          <p:nvPr/>
        </p:nvPicPr>
        <p:blipFill>
          <a:blip r:embed="rId1"/>
          <a:srcRect l="54905" t="35598" r="0" b="29531"/>
          <a:stretch/>
        </p:blipFill>
        <p:spPr>
          <a:xfrm>
            <a:off x="5257800" y="30481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out a month into the year, the teacher asked me if I spoke Spanish at ho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said y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xt day I became a Bluebi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of us knew the difference between a Jet and a Bluebi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knew it by the wa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eacher treated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St. Joseph School circa 1950"/>
          <p:cNvPicPr/>
          <p:nvPr/>
        </p:nvPicPr>
        <p:blipFill>
          <a:blip r:embed="rId1"/>
          <a:stretch/>
        </p:blipFill>
        <p:spPr>
          <a:xfrm>
            <a:off x="6019920" y="4335480"/>
            <a:ext cx="31240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o are the ELLs in our classroom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U.S., 1 in 5 school-age children are immigr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¾ of the children of immigrants are native-born; about ¼ foreign-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Immig &amp; NCLB_Page_08"/>
          <p:cNvPicPr/>
          <p:nvPr/>
        </p:nvPicPr>
        <p:blipFill>
          <a:blip r:embed="rId1"/>
          <a:srcRect l="12747" t="60604" r="11765" b="18129"/>
          <a:stretch/>
        </p:blipFill>
        <p:spPr>
          <a:xfrm>
            <a:off x="380880" y="3727440"/>
            <a:ext cx="83059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ts were the best and the teacher loved Je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uebirds were next and I had become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felt bad that I could not stay a J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felt even worse that I did not know why I could not stay a J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THE DAY I BECAME A BEAR_Page_10"/>
          <p:cNvPicPr/>
          <p:nvPr/>
        </p:nvPicPr>
        <p:blipFill>
          <a:blip r:embed="rId1"/>
          <a:srcRect l="5845" t="57586" r="5845" b="25726"/>
          <a:stretch/>
        </p:blipFill>
        <p:spPr>
          <a:xfrm>
            <a:off x="838080" y="4497480"/>
            <a:ext cx="777240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months went b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as a cold day in Februa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mother who spoke no English had visited my teacher the previous wee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teacher asked me about my life at home.  Don’t you ever speak English at ho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, I answered --- my parents don’t speak English at a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THE DAY I BECAME A BEAR_Page_03"/>
          <p:cNvPicPr/>
          <p:nvPr/>
        </p:nvPicPr>
        <p:blipFill>
          <a:blip r:embed="rId1"/>
          <a:srcRect l="51967" t="27971" r="0" b="50011"/>
          <a:stretch/>
        </p:blipFill>
        <p:spPr>
          <a:xfrm>
            <a:off x="4419720" y="152280"/>
            <a:ext cx="37274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ain, it was a cold day in February when the teacher looked at me and said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day I am moving you to the Bea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ars? I questioned.  Why the Bea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are the lowest --- the worst --- the bott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ause you belong with the Bea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six short month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went from a Jet to a Be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studentteacher"/>
          <p:cNvPicPr/>
          <p:nvPr/>
        </p:nvPicPr>
        <p:blipFill>
          <a:blip r:embed="rId1"/>
          <a:stretch/>
        </p:blipFill>
        <p:spPr>
          <a:xfrm>
            <a:off x="6477120" y="4778280"/>
            <a:ext cx="26668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I did not fully understand why I had become a bear, I knew, like every other Bear, it was not the thing we wanted to b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were there Jets, Bluebirds, and Bea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couldn’t everyone be a J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I didn’t understand it qui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I understand it today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began my real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ay I became a Be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THE DAY I BECAME A BEAR_Page_15"/>
          <p:cNvPicPr/>
          <p:nvPr/>
        </p:nvPicPr>
        <p:blipFill>
          <a:blip r:embed="rId1"/>
          <a:srcRect l="7842" t="50004" r="51964" b="21178"/>
          <a:stretch/>
        </p:blipFill>
        <p:spPr>
          <a:xfrm>
            <a:off x="6019920" y="3962520"/>
            <a:ext cx="3124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are they from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Immig &amp; NCLB_Page_10"/>
          <p:cNvPicPr/>
          <p:nvPr/>
        </p:nvPicPr>
        <p:blipFill>
          <a:blip r:embed="rId1"/>
          <a:srcRect l="11765" t="51542" r="48041" b="11322"/>
          <a:stretch/>
        </p:blipFill>
        <p:spPr>
          <a:xfrm>
            <a:off x="4419720" y="1676520"/>
            <a:ext cx="4005000" cy="5181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228600" y="25146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ry or Region of Birth for Foreign-Born Children, PK to 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ade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are they in the U.S.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7" name="Picture 4" descr="Immig &amp; NCLB_Page_14"/>
          <p:cNvPicPr/>
          <p:nvPr/>
        </p:nvPicPr>
        <p:blipFill>
          <a:blip r:embed="rId1"/>
          <a:srcRect l="12747" t="14688" r="12747" b="64411"/>
          <a:stretch/>
        </p:blipFill>
        <p:spPr>
          <a:xfrm>
            <a:off x="533520" y="1905120"/>
            <a:ext cx="7543800" cy="3801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95280" y="5791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s with the Highest Shares of Children of Immigrants in PK to 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ade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languages do they speak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ghly 1 of 7 students in our nation’s classrooms speaks a language other than English at home; this figure will soon be 1 in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Immig &amp; NCLB_Page_19"/>
          <p:cNvPicPr/>
          <p:nvPr/>
        </p:nvPicPr>
        <p:blipFill>
          <a:blip r:embed="rId1"/>
          <a:srcRect l="12747" t="14370" r="12747" b="61378"/>
          <a:stretch/>
        </p:blipFill>
        <p:spPr>
          <a:xfrm>
            <a:off x="369720" y="1523880"/>
            <a:ext cx="85075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2204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 teachers feel well-equipped to meet the needs of ELL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school systems now require ELLs to receive their English instruction not through stand-alone ESOL classes, but directly through their curriculum content clas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most half of all teachers have ELLs in their classrooms, yet only 13% to 30%  of those teachers have received instruction in ESOL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rvice education: in a study of 25 popular teacher education texts, it was found that less than 1% of the text included useable content related to the teaching of ELLs; in many cases, the topic of English language learning was not identified at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pecial Needs of ELL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ian Prat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or for Bilingual/E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Branch I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ton, Te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iceberg"/>
          <p:cNvPicPr/>
          <p:nvPr/>
        </p:nvPicPr>
        <p:blipFill>
          <a:blip r:embed="rId1"/>
          <a:stretch/>
        </p:blipFill>
        <p:spPr>
          <a:xfrm>
            <a:off x="2957400" y="1719360"/>
            <a:ext cx="3229200" cy="44114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An English Language Learner Acquisition of Language is Like this Pictur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01:15:04Z</dcterms:created>
  <dc:creator> </dc:creator>
  <dc:description/>
  <dc:language>en-US</dc:language>
  <cp:lastModifiedBy>Gayle Thieman</cp:lastModifiedBy>
  <dcterms:modified xsi:type="dcterms:W3CDTF">2008-11-21T15:17:20Z</dcterms:modified>
  <cp:revision>37</cp:revision>
  <dc:subject/>
  <dc:title>Making Content Accessible to English Language Learners</dc:title>
</cp:coreProperties>
</file>