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BF3-E77A-4CB3-B456-5A2C4538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13A-F998-4828-84C1-ABEE5F94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A90-3D83-4A31-BF0C-26353A86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48A-DB0E-46EA-B574-D601C37C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166-3CD8-49E6-9123-9F1C7598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392-451E-4592-909D-51A120F2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D38-1839-4A8B-848D-6A4D9D2C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EBE-FF8C-495F-96DD-9AD0E526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B41-52DF-44E8-8BDE-FD10D48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C2A-79FC-4082-AD12-CDA6971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D00-7DAF-45CA-AC16-5621FE8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6CD-E4DD-4E45-83CC-EC5CE37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8A9-B923-4DAE-84B8-59A60EBF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Gayle Thieman</cp:lastModifiedBy>
  <dcterms:modified xsi:type="dcterms:W3CDTF">2008-07-24T13:15:48Z</dcterms:modified>
  <cp:revision>8</cp:revision>
  <dc:subject/>
  <dc:title>DIFFERENTIATED INSTRUCTION</dc:title>
</cp:coreProperties>
</file>