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3FB-19C7-4B29-9EEC-E0E30B3A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C9A-70AB-4E18-832A-11AC01C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231-C2C7-4665-AD5A-6A0EBE98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821-628A-49DA-9617-A4F27815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2D5-70DF-409F-A54A-FE63B277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05A-C137-422D-A3D3-2CEF66A4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32A-9B70-4F25-97DB-376B3D77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C6D-C228-4902-A641-CFD04763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7D8-5E4C-4EF3-95F4-F00BA390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D50-58A2-4142-A678-A7FCBD0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47A-953E-4C3A-92A6-E389CE6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800-D742-4D72-B03E-83B1A97B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52DA-6BDB-44DA-8322-9175D0962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bb3"/>
                </a:solidFill>
                <a:latin typeface="Times New Roman"/>
              </a:rPr>
              <a:t>DIFFERENTIATED INSTRUCTION</a:t>
            </a:r>
            <a:r>
              <a:rPr b="1" lang="en-US" sz="4400" spc="-1" strike="noStrike">
                <a:solidFill>
                  <a:srgbClr val="fffcc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le Y. Thieman, Ed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14880" y="605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85800"/>
            <a:ext cx="815364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fff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Differentiated Instruction is the teacher’s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to learner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895480"/>
            <a:ext cx="7543800" cy="6098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bb3"/>
                </a:solidFill>
                <a:latin typeface="Times New Roman"/>
              </a:rPr>
              <a:t>guided by principles of differentiation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38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800600"/>
            <a:ext cx="190512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572000"/>
            <a:ext cx="2590560" cy="91440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952880"/>
            <a:ext cx="2286000" cy="8384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b3"/>
                </a:solidFill>
                <a:latin typeface="Times New Roman"/>
              </a:rPr>
              <a:t>WHAT CAN BE DIFFERENTI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371600"/>
            <a:ext cx="220968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371600"/>
            <a:ext cx="236232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b3"/>
                </a:solidFill>
                <a:latin typeface="Times New Roman"/>
              </a:rPr>
              <a:t>According to student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3434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ACCESS TO INSTRUCTIONAL CONTENT : same skills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manipu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s, e.g. novels at multiple reading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recordings or videos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ed 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compacting  (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psis of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/adult 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f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Process or activity by which learner makes sense of concepts or skills  based on  readiness, interest,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red activities or projects at differ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 with varied 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-pair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1=  +, -, interes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Differentiate Product by which student demonstrat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ptions for student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work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ing degrees of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y of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 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mative &amp; summativ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&amp;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ubrics with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609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Checklist for 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228600"/>
          <a:ext cx="26668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2666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task &amp; expectation for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is interesting &amp; matches instruction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equires genuine collaboration and important contribution from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s are brisk.   Students know what to do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out for students who are not succeeding with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for teacher/peer coaching &amp; in-process quality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Linking Quality Teaching &amp; Differentiation.</a:t>
            </a:r>
            <a:r>
              <a:rPr b="1" lang="en-US" sz="3200" spc="-1" strike="noStrike">
                <a:solidFill>
                  <a:srgbClr val="fffcc7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based on essential ideas &amp; skills related to th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relevant, coherent, &amp;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expectations f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, activities, products focus 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nterests &amp; engages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&amp; products require higher level thinking &amp; complex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criteria for high qualit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environment is respectful of each student &amp; group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Resources for Promoting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 A. (1999)The differentiated classroom: Responding to the needs of all learners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&amp; Allan,S.D. (2000) Leadership for differentiating schools and classrooms. 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(2001)  How to differentiate instruction in mixed-ability classrooms.  2nd ed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scd.org   for summaries of the books,study guides, and videos  by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6:07:10Z</dcterms:created>
  <dc:creator>Gayle Y. Thieman</dc:creator>
  <dc:description/>
  <dc:language>en-US</dc:language>
  <cp:lastModifiedBy>Gayle Thieman</cp:lastModifiedBy>
  <dcterms:modified xsi:type="dcterms:W3CDTF">2008-07-24T13:15:48Z</dcterms:modified>
  <cp:revision>8</cp:revision>
  <dc:subject/>
  <dc:title>DIFFERENTIATED INSTRUCTION</dc:title>
</cp:coreProperties>
</file>