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C9440-6805-4137-932F-6B0B71D03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022B1-EA56-41CD-8413-312EC10D3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73E1C-CEF6-4E70-8360-9CC2E466A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483FA-D071-45CD-8DB3-BED1FB880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21AA0-51B0-45AF-8C93-07FF9AA45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C0149-1642-4388-83FB-E23F50EEB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8905F-123C-4BB4-AB1F-D4BDB5712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806C4-5BAD-44A9-AB61-08996CA56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EF038-6016-4BBC-B511-307A5134F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E6F52-9B73-4D81-92D1-5E630A140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A768E-9217-4E22-8D89-0DA6B1F21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50162-1432-48F4-AF75-D59371B60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83FB7-F8B0-4AEA-A7F2-928985858F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e1bb3"/>
                </a:solidFill>
                <a:latin typeface="Times New Roman"/>
              </a:rPr>
              <a:t>DIFFERENTIATED INSTRUCTION</a:t>
            </a:r>
            <a:r>
              <a:rPr b="1" lang="en-US" sz="4400" spc="-1" strike="noStrike">
                <a:solidFill>
                  <a:srgbClr val="fffcc7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le Y. Thieman, Ed.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rtland State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114880" y="6054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80880" y="685800"/>
            <a:ext cx="8153640" cy="762120"/>
          </a:xfrm>
          <a:prstGeom prst="rect">
            <a:avLst/>
          </a:prstGeom>
          <a:solidFill>
            <a:srgbClr val="fffcc7"/>
          </a:solidFill>
          <a:ln w="9360">
            <a:solidFill>
              <a:srgbClr val="fffcc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e1bb3"/>
                </a:solidFill>
                <a:latin typeface="Times New Roman"/>
              </a:rPr>
              <a:t>Differentiated Instruction is the teacher’s respon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e1bb3"/>
                </a:solidFill>
                <a:latin typeface="Times New Roman"/>
              </a:rPr>
              <a:t>to learners’ nee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0" y="16002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33520" y="2895480"/>
            <a:ext cx="7543800" cy="609840"/>
          </a:xfrm>
          <a:prstGeom prst="rect">
            <a:avLst/>
          </a:prstGeom>
          <a:solidFill>
            <a:srgbClr val="fffcc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1bb3"/>
                </a:solidFill>
                <a:latin typeface="Times New Roman"/>
              </a:rPr>
              <a:t>guided by principles of differentiation such 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2438280" y="3733920"/>
            <a:ext cx="9907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572000" y="36576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410080" y="3657600"/>
            <a:ext cx="11430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38080" y="4800600"/>
            <a:ext cx="1905120" cy="762120"/>
          </a:xfrm>
          <a:prstGeom prst="rect">
            <a:avLst/>
          </a:prstGeom>
          <a:solidFill>
            <a:srgbClr val="fffcc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ectfu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s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19920" y="4572000"/>
            <a:ext cx="2590560" cy="914400"/>
          </a:xfrm>
          <a:prstGeom prst="rect">
            <a:avLst/>
          </a:prstGeom>
          <a:solidFill>
            <a:srgbClr val="fffcc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going assess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amp; adjust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352680" y="4952880"/>
            <a:ext cx="2286000" cy="838440"/>
          </a:xfrm>
          <a:prstGeom prst="rect">
            <a:avLst/>
          </a:prstGeom>
          <a:solidFill>
            <a:srgbClr val="fffcc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ex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oup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762120" y="53352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bb3"/>
                </a:solidFill>
                <a:latin typeface="Times New Roman"/>
              </a:rPr>
              <a:t>WHAT CAN BE DIFFERENTIATE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5800" y="1371600"/>
            <a:ext cx="2286000" cy="838080"/>
          </a:xfrm>
          <a:prstGeom prst="rect">
            <a:avLst/>
          </a:prstGeom>
          <a:solidFill>
            <a:srgbClr val="fdff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05320" y="1371600"/>
            <a:ext cx="2209680" cy="914400"/>
          </a:xfrm>
          <a:prstGeom prst="rect">
            <a:avLst/>
          </a:prstGeom>
          <a:solidFill>
            <a:srgbClr val="fdff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095880" y="1371600"/>
            <a:ext cx="2362320" cy="914400"/>
          </a:xfrm>
          <a:prstGeom prst="rect">
            <a:avLst/>
          </a:prstGeom>
          <a:solidFill>
            <a:srgbClr val="fdff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514600" y="304812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e1bb3"/>
                </a:solidFill>
                <a:latin typeface="Times New Roman"/>
              </a:rPr>
              <a:t>According to students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8080" y="4419720"/>
            <a:ext cx="2286000" cy="838080"/>
          </a:xfrm>
          <a:prstGeom prst="rect">
            <a:avLst/>
          </a:prstGeom>
          <a:solidFill>
            <a:srgbClr val="fdff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d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505320" y="4419720"/>
            <a:ext cx="2286000" cy="838080"/>
          </a:xfrm>
          <a:prstGeom prst="rect">
            <a:avLst/>
          </a:prstGeom>
          <a:solidFill>
            <a:srgbClr val="fdff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e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095880" y="4343400"/>
            <a:ext cx="2286000" cy="838080"/>
          </a:xfrm>
          <a:prstGeom prst="rect">
            <a:avLst/>
          </a:prstGeom>
          <a:solidFill>
            <a:srgbClr val="fdff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ing Pro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e1bb3"/>
                </a:solidFill>
                <a:latin typeface="Times New Roman"/>
              </a:rPr>
              <a:t>MODIFY ACCESS TO INSTRUCTIONAL CONTENT : same skills &amp; concep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h manipulati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xts, e.g. novels at multiple reading lev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ding partn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pe recordings or videos of boo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ghlighted tex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b que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rriculum compacting  (TA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ic organiz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each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nopsis of un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er/adult men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affol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ependent stu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e1bb3"/>
                </a:solidFill>
                <a:latin typeface="Times New Roman"/>
              </a:rPr>
              <a:t>Modify Process or activity by which learner makes sense of concepts or skills  based on  readiness, interest, learning sty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24382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ered activities or projects at different lev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W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rning lo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urnals with varied promp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rning cen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7960" y="23623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terature circ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le play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igsa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nk-pair-sh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b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M1=  +, -, interesting poi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 mak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e1bb3"/>
                </a:solidFill>
                <a:latin typeface="Times New Roman"/>
              </a:rPr>
              <a:t>Differentiate Product by which student demonstrates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de options for student cho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ried working arrang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ried resour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rying degrees of difficul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riety of assess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tiate timel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formative &amp; summative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er &amp; self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velop rubrics with stud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thentic aud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24280" y="609120"/>
            <a:ext cx="373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e1bb3"/>
                </a:solidFill>
                <a:latin typeface="Times New Roman"/>
              </a:rPr>
              <a:t>Checklist for Group 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1447920" y="228600"/>
          <a:ext cx="2666880" cy="230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228600"/>
                    <a:ext cx="2666880" cy="23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94920" y="2438280"/>
            <a:ext cx="76201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ents understand task &amp; expectation for each mem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sk is interesting &amp; matches instructional go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sk requires genuine collaboration and important contribution from each mem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lines are brisk.   Students know what to do nex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y out for students who are not succeeding with the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portunity for teacher/peer coaching &amp; in-process quality chec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e1bb3"/>
                </a:solidFill>
                <a:latin typeface="Times New Roman"/>
              </a:rPr>
              <a:t>Linking Quality Teaching &amp; Differentiation.</a:t>
            </a:r>
            <a:r>
              <a:rPr b="1" lang="en-US" sz="3200" spc="-1" strike="noStrike">
                <a:solidFill>
                  <a:srgbClr val="fffcc7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38098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riculum is based on essential ideas &amp; skills related to the discip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riculum is relevant, coherent, &amp; connec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ear expectations for lear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ruction, activities, products focus on go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sson interests &amp; engages learn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796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vities &amp; products require higher level thinking &amp; complex problem solv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ents understand criteria for high quality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sroom environment is respectful of each student &amp; group as a who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e1bb3"/>
                </a:solidFill>
                <a:latin typeface="Times New Roman"/>
              </a:rPr>
              <a:t>Resources for Promoting Differenti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mlinson, C. A. (1999)The differentiated classroom: Responding to the needs of all learners. ASC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mlinson, C.A. &amp; Allan,S.D. (2000) Leadership for differentiating schools and classrooms.  ASC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mlinson, C.A. (2001)  How to differentiate instruction in mixed-ability classrooms.  2nd ed. ASC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ascd.org   for summaries of the books,study guides, and videos  by Tomlin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3T16:07:10Z</dcterms:created>
  <dc:creator>Gayle Y. Thieman</dc:creator>
  <dc:description/>
  <dc:language>en-US</dc:language>
  <cp:lastModifiedBy>Gayle Thieman</cp:lastModifiedBy>
  <dcterms:modified xsi:type="dcterms:W3CDTF">2008-07-24T13:15:48Z</dcterms:modified>
  <cp:revision>8</cp:revision>
  <dc:subject/>
  <dc:title>DIFFERENTIATED INSTRUCTION</dc:title>
</cp:coreProperties>
</file>