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63ADE-9C43-42A1-A7F7-D120800C8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1FB8FB77-BDCC-46AD-92AA-B89817927A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E43505D4-651F-4E9B-AFB9-FBA3585D56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12785962-B238-4686-9BB3-2538BAE9C0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603BA21-4F38-45A2-A2BC-400921DD5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EB2946-18AD-42DC-A9A5-3983C6F1D5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110DAD5-9280-4059-9159-70099FF084C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47C26E4-C53B-49F0-9909-04DDEDEBE0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6428B6D6-7339-4FB0-98B3-93E5E8CB6F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6E40AE38-790A-4D57-96B2-C38C94B232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F169EDD-2D57-4C61-BC2C-688A38EAFB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08AE1012-8F8B-4070-9996-8EBB90ED09F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AC224D0C-330A-49F7-9721-E5913E6D3A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2CAEA00-2B7C-4091-BB10-AEFB8611F2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0BB5542-7794-442A-8FF0-CB6C7A7ADF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747B3995-423A-43BE-9C90-72E5E09A5C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033C209D-9D1C-4394-8F8F-00563B9352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23EF2659-834C-4DA1-8AAD-C7C52CD159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BF2825FC-5D82-4113-9C24-6D2ED15442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8DDDFAF3-285D-4A1F-948D-6CF67C961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54DF79D8-D818-414D-B3B6-2DC6490B52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80CE8C9-B79F-419C-A1B8-D7C3C1035D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F9DB711-4744-49FB-8C5D-EAE1E705F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8A3BE91C-B1CC-4AC3-A490-A3AA441824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29DE-4F2A-4EA1-974F-575EFBD7212F}"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0038-A49C-4376-895E-86928F9431E5}"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05280" indent="-3052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660960" indent="-2541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60960" indent="-2541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660960" indent="-25416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017000" indent="-2034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017000" indent="-2034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928EB72C-041E-4F37-BF84-2E756343A9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33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6458BCAB-C282-49CF-941F-1F3CF35038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1916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7D6C3D70-E188-4F23-9B53-8F675412D1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E3262246-381B-4FE4-93AE-F22A8825817A}"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8DA0C3E-E66C-4C61-927A-CA6F7221D4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C525932-22E1-4730-97ED-11ABF53E66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DE81CA0-0E00-40DC-9D0E-5CBE8DB19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F69F533-0345-4216-BAC8-01C7AF3E2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A5707B47-451C-427B-9B09-9761114E6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01680" indent="-30168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53760" indent="-2512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005840" indent="-20088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53760" indent="-2512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005840" indent="-20088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05840" indent="-20088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005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0CA77A9-B4A9-447E-8E1C-F3EEC0D07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10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9FD8924C-9821-4999-BD3F-8FEDCB243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782880"/>
            <a:chOff x="990720" y="2133720"/>
            <a:chExt cx="7086600" cy="378288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30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95219D31-6ECC-4B38-919F-891B876F7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Portland State University</cp:lastModifiedBy>
  <dcterms:modified xsi:type="dcterms:W3CDTF">2009-01-05T21:02:29Z</dcterms:modified>
  <cp:revision>211</cp:revision>
  <dc:subject/>
  <dc:title>Why Essential Questions?</dc:title>
</cp:coreProperties>
</file>