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6C02E-F50A-4B94-B1F6-ADAF30AAE3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559E7AE7-3954-4190-8648-CCDFD7425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7FB30DDD-5D6F-4261-AC78-7AA800884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51A3E149-D380-4E32-963D-2729AD0C7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AECEE91-A4EB-4475-AE23-E0503A004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B35E0-9B7A-434E-8EA9-C33DA250B6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3785174-8A2C-4BA0-89AA-F07C6BC12C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DDC8CC2-40D9-4B74-809F-6C04203F75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07814982-8CE0-4CB5-8F9E-67B05D169F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8BCF2707-4CA2-4CA2-B754-30E1616066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5015481-B010-4959-BAA3-5DF3954DDF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74C37273-52E1-4642-A640-88642B81B0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03F2B5A2-1AC0-42FB-B935-48E072CD4B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2A7D00B-09C7-4532-8ADD-46880763B0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20406AE-678E-4CC3-95A6-2838261D5B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64F9745E-C8F3-4E10-A6F4-308F7EC23B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5F4C07B4-3519-4161-A18F-A2415A7422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620561E5-8C9A-4311-B3BA-F87F8C6BAD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C95076E1-A3D2-4558-822F-E85C3FE745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8AF8AACA-9ADC-4719-9BB9-5D5CEF0089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9A904E4C-6C99-4F0C-98BE-E6729C4C6F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D3F20A7-8621-4C41-BEFF-21213F92B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C1197CEF-427A-4D90-AAF6-B4B8BB6839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8A9F5D6-DFFE-40FB-BA8C-16358133F4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6D51-4971-4D17-852A-9B0D5F9F6E23}"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89D7-661B-4E52-BE4D-CDC7EA505A26}"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05280" indent="-3052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660960" indent="-2541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60960" indent="-2541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660960" indent="-25416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017000" indent="-2034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017000" indent="-2034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476A5BA9-3DEC-44FF-83B8-71AB97389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33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72B5D159-A3BB-47D9-850F-1BE93FDD32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1916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3E4C96E5-AA94-48B5-ACE3-B4E3A411C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72872F6B-0134-4590-8C4E-73C08A98220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1DC8BEA-52A9-4522-BA3E-8149BE6D0F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23C4D8F-C62F-4565-B543-7F70209FC5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4B55D31-B1C1-40AD-9B3C-30BD7B994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E89D1AF-DF71-408B-A581-B429DCD744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9C0B5434-C31D-433D-AEDB-DEF95E28CD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01680" indent="-30168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53760" indent="-2512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005840" indent="-20088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53760" indent="-2512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005840" indent="-20088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05840" indent="-20088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005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E4670BE-0B3C-419F-B017-536B037F6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10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C1A840DC-E2A9-4AB8-91A5-AF134C158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782880"/>
            <a:chOff x="990720" y="2133720"/>
            <a:chExt cx="7086600" cy="378288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30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2CF82AC4-C466-4C1C-8C15-D4A10C069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Portland State University</cp:lastModifiedBy>
  <dcterms:modified xsi:type="dcterms:W3CDTF">2009-01-05T21:02:29Z</dcterms:modified>
  <cp:revision>211</cp:revision>
  <dc:subject/>
  <dc:title>Why Essential Questions?</dc:title>
</cp:coreProperties>
</file>