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E63-97BA-42AE-98FF-6BB40415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E26-3D02-4EA1-AF95-6888B11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AC7-11A9-4C1D-A371-33265E5B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FA0-D7F2-44AE-B5DC-5923D19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C44-6D89-4FFE-A01B-E32906B1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AAA-DF23-4710-8563-C364FD24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EFB-FF6E-4357-8136-7846059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01B-0CA9-4199-A64B-41C04128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3B7-20D2-4A5B-9E51-239168A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E24-9C80-46B2-9A38-B0E9E9A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EEB-5176-4F69-8D9A-D4E900E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694-8182-47D8-B1C1-71C51DD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29E-72A1-49B7-8717-12C1B4D46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4200" y="754200"/>
            <a:ext cx="76341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like an asses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54:47Z</dcterms:created>
  <dc:creator>Mickey Caskey</dc:creator>
  <dc:description/>
  <dc:language>en-US</dc:language>
  <cp:lastModifiedBy>Gayle Thieman</cp:lastModifiedBy>
  <dcterms:modified xsi:type="dcterms:W3CDTF">2006-07-24T20:39:08Z</dcterms:modified>
  <cp:revision>33</cp:revision>
  <dc:subject/>
  <dc:title>Curriculum Design</dc:title>
</cp:coreProperties>
</file>