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D30-7BD3-4D96-9ACF-0CADD006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E0B-1FCF-44A0-BC89-9DA39CB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A82-D4BA-415E-8DAE-BA67605F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29E-8967-41C7-AF80-27144BB4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3F3-C421-4E12-84C0-A090366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CBE-56F1-479E-B51B-E2497401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8E5-6F3A-4DC1-9E88-FECDD0D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7BC-C9E5-4970-BC23-BC5209D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078-22BA-4703-8BEA-B2C517DB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8B-11B3-491B-AAA2-76D123C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AEE-98E9-458A-985A-8051099E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F01-343F-4667-90D9-372BE6B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3B9-0148-486D-92D5-D6A943B36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4200" y="754200"/>
            <a:ext cx="76341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like an asses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54:47Z</dcterms:created>
  <dc:creator>Mickey Caskey</dc:creator>
  <dc:description/>
  <dc:language>en-US</dc:language>
  <cp:lastModifiedBy>Gayle Thieman</cp:lastModifiedBy>
  <dcterms:modified xsi:type="dcterms:W3CDTF">2006-07-24T20:39:08Z</dcterms:modified>
  <cp:revision>33</cp:revision>
  <dc:subject/>
  <dc:title>Curriculum Design</dc:title>
</cp:coreProperties>
</file>