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5742-58D8-4451-B01C-04B108FE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F209-72A1-45C8-9ABA-FCC90A80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3C04-E174-42C5-A8C4-6AD878F63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1204-4BF1-4F75-9303-867FC0ED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C90E-1085-4F40-A4CB-1F56754F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27BC-0F45-47A1-926E-ED5BEFC4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BAAB-2C46-4FCD-8312-CB85366B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79E8-9B22-4C73-ACC0-0B77C939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9555-E6FC-43D6-8A38-053A15E1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5F97-238D-420D-92DB-26D3D3CC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DA7B-B922-43D9-A5B3-5C7AA720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5888-8BC2-418D-9A76-0938138D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BFCD-5DFD-4BFD-8F0E-CDE94043E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914400"/>
            <a:ext cx="40388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iculum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ggins, G. &amp; McTighe, J. (1998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derstanding by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952880" y="544680"/>
            <a:ext cx="326412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Assess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l Checks for 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al 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tions and Dialo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er observation of student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urse with 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z and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tional paper and pencil form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-response or Constructed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ademic Prom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-ended prompts that require critical thin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Tasks and Pro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, open-ended, and authentic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riculum Priorities and Assessmen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3809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itional quizzes and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/penc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tasks and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-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494160" cy="4276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038480" y="30481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3048120"/>
            <a:ext cx="1600200" cy="8380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038480" y="4114440"/>
            <a:ext cx="1752840" cy="609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4724280"/>
            <a:ext cx="1600200" cy="381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3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 Learning Experiences and Instruc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on the activities to engage stud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eaching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nd of Direct Instruction, Constructivist Methods, Cooperative Learning Group Work, and Individual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sequence of less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What is a “unit”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Uni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ig enoug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help us avoid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-managing our les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looking complex performance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Uni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mall enoug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help us avoid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gue and unhelpful planning, typically ending in “coverag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3716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unit is a coherent set of lessons, organized around a theme, a performance, an idea, or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095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ubdexchange.org/user/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Overarching Unit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uring Understa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sential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brics or Scoring Gu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82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elements that cut across units, courses, subjects, and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095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ubdexchange.org/user/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ward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84836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1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ntify Desired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unit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content standards (national, state, distri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curriculum 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54200" y="754200"/>
            <a:ext cx="763416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g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 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ntify Desired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es the idea, topic, or process have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nduring value beyond the classroo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es the idea, topic, or process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reside at the heart of the discipli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what extent does the idea, topic, or process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require “uncoverage”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what extent does the idea, topic, or process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offer potential for engaging studen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Questions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orways to Understand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33520" y="2057400"/>
            <a:ext cx="7924320" cy="3886200"/>
            <a:chOff x="533520" y="2057400"/>
            <a:chExt cx="7924320" cy="3886200"/>
          </a:xfrm>
        </p:grpSpPr>
        <p:grpSp>
          <p:nvGrpSpPr>
            <p:cNvPr id="61" name=""/>
            <p:cNvGrpSpPr/>
            <p:nvPr/>
          </p:nvGrpSpPr>
          <p:grpSpPr>
            <a:xfrm>
              <a:off x="539640" y="2060640"/>
              <a:ext cx="7911000" cy="3878280"/>
              <a:chOff x="539640" y="2060640"/>
              <a:chExt cx="7911000" cy="387828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539640" y="2060640"/>
                <a:ext cx="3955320" cy="674280"/>
                <a:chOff x="539640" y="2060640"/>
                <a:chExt cx="3955320" cy="67428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631080" y="2060640"/>
                  <a:ext cx="377172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Essential Question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539640" y="2060640"/>
                  <a:ext cx="395532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4495320" y="2060640"/>
                <a:ext cx="3955320" cy="674280"/>
                <a:chOff x="4495320" y="2060640"/>
                <a:chExt cx="3955320" cy="67428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4586400" y="2060640"/>
                  <a:ext cx="377244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Unit/Lesson Question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495320" y="2060640"/>
                  <a:ext cx="395532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539640" y="2734920"/>
                <a:ext cx="3955320" cy="1254600"/>
                <a:chOff x="539640" y="2734920"/>
                <a:chExt cx="3955320" cy="1254600"/>
              </a:xfrm>
            </p:grpSpPr>
            <p:grpSp>
              <p:nvGrpSpPr>
                <p:cNvPr id="69" name=""/>
                <p:cNvGrpSpPr/>
                <p:nvPr/>
              </p:nvGrpSpPr>
              <p:grpSpPr>
                <a:xfrm>
                  <a:off x="631080" y="2734920"/>
                  <a:ext cx="3771360" cy="1119960"/>
                  <a:chOff x="631080" y="2734920"/>
                  <a:chExt cx="3771360" cy="11199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631080" y="2734920"/>
                    <a:ext cx="3771360" cy="61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Go to the heart of the disciplin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631080" y="3244680"/>
                    <a:ext cx="3771360" cy="61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" name=""/>
                <p:cNvSpPr/>
                <p:nvPr/>
              </p:nvSpPr>
              <p:spPr>
                <a:xfrm>
                  <a:off x="539640" y="2734920"/>
                  <a:ext cx="3955320" cy="125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4495320" y="2734920"/>
                <a:ext cx="3955320" cy="1254600"/>
                <a:chOff x="4495320" y="2734920"/>
                <a:chExt cx="3955320" cy="125460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4586400" y="2734920"/>
                  <a:ext cx="3772440" cy="125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vide subject and topic specific doorways to essential question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4495320" y="2734920"/>
                  <a:ext cx="3955320" cy="125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539640" y="3989520"/>
                <a:ext cx="3955320" cy="974880"/>
                <a:chOff x="539640" y="3989520"/>
                <a:chExt cx="3955320" cy="9748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31080" y="3989520"/>
                  <a:ext cx="3771720" cy="97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ur naturally throughout one’s learning and in the history of the disciplin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39640" y="3989520"/>
                  <a:ext cx="395532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4495320" y="3989520"/>
                <a:ext cx="3955320" cy="974880"/>
                <a:chOff x="4495320" y="3989520"/>
                <a:chExt cx="3955320" cy="97488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4586400" y="3989520"/>
                  <a:ext cx="3772440" cy="97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ave no obvious “right” answ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4495320" y="3989520"/>
                  <a:ext cx="395532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539640" y="4964400"/>
                <a:ext cx="3955320" cy="974520"/>
                <a:chOff x="539640" y="4964400"/>
                <a:chExt cx="3955320" cy="9745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631080" y="4964400"/>
                  <a:ext cx="3771720" cy="97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aise other important question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39640" y="4964400"/>
                  <a:ext cx="3955320" cy="97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4495320" y="4964400"/>
                <a:ext cx="3955320" cy="974520"/>
                <a:chOff x="4495320" y="4964400"/>
                <a:chExt cx="3955320" cy="9745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4586400" y="4964400"/>
                  <a:ext cx="3772440" cy="97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re deliberately framed to provide and sustain student interes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495320" y="4964400"/>
                  <a:ext cx="3955320" cy="97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" name=""/>
            <p:cNvSpPr/>
            <p:nvPr/>
          </p:nvSpPr>
          <p:spPr>
            <a:xfrm>
              <a:off x="533520" y="2057400"/>
              <a:ext cx="7924320" cy="38862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2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termine Acceptable Evi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in terms of the “collected assessment evidence needed to document and validate that the desired learning has been achieved”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.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like an assess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range of assessment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 evidence over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5:54:47Z</dcterms:created>
  <dc:creator>Mickey Caskey</dc:creator>
  <dc:description/>
  <dc:language>en-US</dc:language>
  <cp:lastModifiedBy>Gayle Thieman</cp:lastModifiedBy>
  <dcterms:modified xsi:type="dcterms:W3CDTF">2006-07-24T20:39:08Z</dcterms:modified>
  <cp:revision>33</cp:revision>
  <dc:subject/>
  <dc:title>Curriculum Design</dc:title>
</cp:coreProperties>
</file>