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340-9202-49ED-AD60-45698BDF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855-6FBA-4869-B7C8-04CB447B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658-0A92-4182-95EE-0421CF56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E11-0B64-4962-B60F-CC68121C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973-FDE3-49D3-925C-F9357D78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60B-C285-4D40-A939-582F35F8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0DC-6574-4A6C-A393-48365BC2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909-56C0-4840-A933-F9227658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005-8943-4C99-BFE8-83BED02A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159-1DA0-4E69-8232-B57DF8E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F8A-3086-4597-8E33-BC310584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926-B9A9-427A-8B59-6AB04EFE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45B3-1CFB-4341-8C35-952F8208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4200" y="754200"/>
            <a:ext cx="76341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like an asses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54:47Z</dcterms:created>
  <dc:creator>Mickey Caskey</dc:creator>
  <dc:description/>
  <dc:language>en-US</dc:language>
  <cp:lastModifiedBy>Gayle Thieman</cp:lastModifiedBy>
  <dcterms:modified xsi:type="dcterms:W3CDTF">2006-07-24T20:39:08Z</dcterms:modified>
  <cp:revision>33</cp:revision>
  <dc:subject/>
  <dc:title>Curriculum Design</dc:title>
</cp:coreProperties>
</file>