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41F3-7C77-43A0-8819-FC60B4315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36F0-DBBE-4999-96BC-E14F5108C3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7F90-7C46-4A2B-B69A-8D57B7E65E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FD41-FB95-451E-89CA-16B5CF4F6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0C46-60D4-48FD-A892-5AA80516D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7534-7FFF-409A-B57A-331E70E04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FCE5-B4DF-4EC2-A57C-2CB98D45A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CC53-9DB7-4B07-B4AA-E4182BE07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2449-EB24-481B-B898-E9508067D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42B2-2A81-4C31-AD8B-A27F82DA7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CFE2-01FA-46AA-B403-3140C5A7D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C8A8-F3B8-4701-8C19-D41BC2A4B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BA55-933C-4963-BFD9-B0A6E9CBC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AD34-D370-43EC-B324-C128AD4D8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D1B2-1326-4B98-8CFF-5C4C00DBD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A405-0607-404A-A14A-98CD392EDA7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939960" y="63723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910D-2D30-40E2-9F26-411AC8FD25D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022760" indent="-368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3B4-2990-4D13-BBB4-FE25429DFBA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28960" indent="-2275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31360" indent="-30132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41CB-62D8-483B-B34E-AA1E5F5B183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0B48-8DC4-4260-8E82-8132E02DFA2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B23A-8DDC-446B-B8D6-CEFD4F8A918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6B17-D01F-4C61-A367-38A6F8A12EF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9548-0968-4221-A25A-FAAAD7EDE62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DC1E-98D3-47C6-9143-B54C141D62D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2639-BE07-4D3C-A663-F8E2E4EF670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84A0-00F3-4779-8D22-C194E301CD1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CDE8-8EEB-419D-9E05-253D52B85B3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52A6-DE23-44FD-9CDF-FA7385CF4C1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0C67-B296-40C3-95B1-B422DB01937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4653-4E7B-4A7B-81D1-13CCB784D4A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E2A3-7CED-4162-9686-561D117CF55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BCCF-A11E-4796-93D6-72BCB1E3988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426-608C-4297-9B52-F2F43B77F8F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9T17:48:29Z</dcterms:modified>
  <cp:revision>291</cp:revision>
  <dc:subject/>
  <dc:title>Copyright Chaos</dc:title>
</cp:coreProperties>
</file>