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D14-8E9D-42B1-9BEA-D8ABD0D1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6394-F986-4349-8E03-84BEEA98D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8DA-585C-42B4-B4F6-53499E6FA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750E-2BF5-447D-8E36-E0D358C47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CE21-16DE-418B-9387-729EB0230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86B2-B0D9-47AC-AD7D-281AB21CE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A06A-68E5-47D1-9C39-D3DB957B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05AB-BEF9-42A3-8CB0-03A0F2C28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3C19-99A3-475C-88FB-DE137AF1C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A16E-697F-4D7C-A54D-36EF565C1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2A9B-59D8-4C2D-9D8D-B837042B9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3358-D95F-4DCE-AD25-05C43C26B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2A8B-AECE-40DB-99F9-F64B3090F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717-7A6B-4193-8D90-DC5056C44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2900-2302-446B-AFB5-E306A3C0D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37F-9DC5-493F-9596-16F068C1F9F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F0C5-8E14-460F-A8A6-7A77321B139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6D47-6C55-45AE-AD7E-B21F8BE12C8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AA0-2333-4D3F-8A1E-93C17486F8B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7D71-B58C-468F-9F70-E90953A434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836-3CF3-4056-A799-2B71F9F767D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02E-E27D-4E39-ADFC-D051044C0D5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BA77-0FA0-4067-8056-1924EE2466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6092-ED41-4FA8-B091-E9780067A8B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7EB6-4CBA-48FF-B37A-BE205E41B67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17D-EC65-4E12-9FA5-839838356BD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C4A6-A97D-4D30-B9A6-26C8EC2961B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18F6-ADA7-430D-A664-F2423DC378F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295-F6FA-494A-821D-F25D6C3CA5C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3100-4F48-47E5-BC1F-C778DF1C3B4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EA84-19C6-4B78-9A74-1387A131B13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BC3-1D5A-4960-ADCA-B57E40556F7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3AB0-C6D5-4E07-9D51-E41215EBD02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9T17:48:29Z</dcterms:modified>
  <cp:revision>291</cp:revision>
  <dc:subject/>
  <dc:title>Copyright Chaos</dc:title>
</cp:coreProperties>
</file>