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215C-EF9D-46DD-A2BD-2C9E3AAE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638E-6C03-40E9-9C1B-07A4148E3E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90B1-C29F-4198-9FC0-D416684545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C47F-C462-405B-98CD-6FBEC57A1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820D-6A3D-4E6B-811B-9BBAC1CEB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C465-2E58-466B-BE1E-5A6C82C71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113C-3145-45B9-A684-E5A47F620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F2A3-2B91-44B2-815B-FFA85FDFA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EE14-5D5E-4EE5-B657-9BA3DB356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F758-3E87-4B70-B070-3E813770D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E2D6-6547-40A7-A395-A4B4A5FFB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8F26-2976-4946-9C49-25CB81668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7FFA-E0D4-4607-A157-0C37E4989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CDA3-D536-44B9-812A-69CDF003E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505C-1F64-4845-8EEC-4B589E277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F90-19DB-44D3-9A22-A774B402542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67EF-95B4-451D-9A91-D0D1C1D4089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3E2-B2EE-48FD-A70F-4DECA21A8FC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198-E5FB-440B-9BCF-B8EDCBD6F92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37FA-5AD3-4318-A18C-2E288627C62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E1DB-BA19-4927-AA39-408F0BDEEDC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07F1-5443-4765-A636-C0B22F6662F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835-8BAE-4FF9-97E7-EE5BD5C6FF1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C673-E043-4934-B682-FAFCD76FA87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5D01-8D25-4408-9DA9-DDF328AFF0B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232D-9F20-4E34-A422-C578400CC7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7214-0085-4C85-95CE-96D3CCDDB66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D75-597D-4B84-80C4-3F69C0CC9EF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00F8-2264-49F8-83B6-AB5997560D4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D751-D603-414D-BF66-F7C8750A846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173A-44BB-475B-8AB5-E6AC6E25E18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D8C3-E73B-4219-83FC-8F815B051FF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A29E-2DFE-4C07-9404-915BE8CE642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9T17:48:29Z</dcterms:modified>
  <cp:revision>291</cp:revision>
  <dc:subject/>
  <dc:title>Copyright Chaos</dc:title>
</cp:coreProperties>
</file>