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68455-5608-48F4-B91F-13890FC26FE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36EAA-FB8C-480A-88F5-7A604F29B8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CD20B-5A17-4981-B3A4-0836E8E665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58D88-1380-4951-9E2C-4E821CCB6D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D9C44-EB92-49D2-919C-0A99E9FF4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FD2FB-F932-495E-8C48-2CBD264D6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09E1C-9734-4938-815C-99C0553C9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BC90F-E4D0-4A15-BB3D-6B962E6FE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3D043-7B33-4FFA-9323-880ECD8BF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696C6-0ADF-4C9F-9A7C-428CBB599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AFA9F-586D-41E1-BF0D-C074D431F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51255-8D48-4E7F-B400-2E1C3E4CC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66662-AF4B-4567-B63B-C49996CC0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86D39-4D84-47D3-BB2E-101C578A4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68A1B-1E7F-4499-AFA2-6404CF827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81DFF-BF13-4549-83F0-B24BC5431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FA181-0BD1-4BC0-A4FB-753082328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9C864-74F8-4668-8903-9D39AAE0C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A1B61-8BE4-4124-8883-6D3B3F73C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667AF-8170-478F-AB51-006F1FB19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B6AE7-86AA-492B-AD46-DA94D0928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631077-2B4D-4EE0-9FE2-9D46F51BC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9F4318-7EC8-4AEB-AA53-F543929E7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0092A4-E7CC-430C-95B5-1307F8778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AB4675-A521-4FBE-9EC7-07A104C03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398EF4-7BC1-4883-863F-DAEBA5FA7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9F9DA-6CA6-4EF7-B404-D1064E838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C49C20-F136-407D-B48C-044182B89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55FC06-9DCB-46BC-AB51-B9B974261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32C683-316C-4BD0-B687-C67C3C60E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8FF87D-7C2A-4160-91DC-CCF08163F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F5DFB8-08F0-4F27-B1A9-F13F0FB19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8CA6A8-754E-4ACB-82BC-2125BD284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67A4D9-00B6-4B4A-ADFE-21A8DD45C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010D11-F7F2-4DC9-9C73-BBD41E501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95599A-D26E-42F8-A552-7C4229208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1753BC-671A-46B4-B0BD-61D0D3FA2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B9D5D-828B-40E6-9815-E1B601C87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E7E6E5-CBE0-465D-B1D2-C39EA8426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A9F828-9CC9-4890-AAD6-79CF213A1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11B70D-D522-4212-B3FB-9E4ED6280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C9419C-3251-45AE-BBD4-128AABE33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56C18C-273E-4BB3-8E85-CF809E0DF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843632-BB1E-4C96-8BC5-8B8863D5A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E62582-0EAC-4FD0-8CD4-9F90701EB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D42FF1-47D5-40FB-9AE5-FA85921DC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D80515-D84B-43FB-AD0D-7E67254CE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6886C-CB87-4D72-B3EB-93254C723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12A92-C93A-4E34-833F-E5C288378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E97E3-5D41-4A47-8A17-92C901AC7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2A1DB-1290-4F71-91EE-0CE56A6E1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67D8C-56E5-4FDF-BC3F-7CDDEB373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01CC8-3836-49CE-8C3E-F614B2DDA842}" type="datetime">
              <a:rPr b="0" lang="en-US" sz="1200" spc="-1" strike="noStrike">
                <a:solidFill>
                  <a:srgbClr val="045c75"/>
                </a:solidFill>
                <a:latin typeface="Constanti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C53FB-9CE4-4B41-B96B-AE6B2352E1B8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1258F-6155-4B9E-B182-67BE19D59398}" type="datetime">
              <a:rPr b="0" lang="en-US" sz="1200" spc="-1" strike="noStrike">
                <a:solidFill>
                  <a:srgbClr val="d1eaee"/>
                </a:solidFill>
                <a:latin typeface="Constanti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37450-DFE3-4957-9E3B-9FCDE6048E30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E95F0-47F5-4C35-8795-C36BFA9BB9EF}" type="datetime">
              <a:rPr b="0" lang="en-US" sz="1200" spc="-1" strike="noStrike">
                <a:solidFill>
                  <a:srgbClr val="d1eaee"/>
                </a:solidFill>
                <a:latin typeface="Constanti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9C792-FD30-41AC-A81A-F0A385A7F0A5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80808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59579-0C5E-4CC5-AB03-178AA4E7A0A0}" type="datetime">
              <a:rPr b="0" lang="en-US" sz="1200" spc="-1" strike="noStrike">
                <a:solidFill>
                  <a:srgbClr val="045c75"/>
                </a:solidFill>
                <a:latin typeface="Constanti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8D398-0F78-49A1-AF87-445831849C35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Title 3" descr=""/>
          <p:cNvPicPr/>
          <p:nvPr/>
        </p:nvPicPr>
        <p:blipFill>
          <a:blip r:embed="rId2"/>
          <a:stretch/>
        </p:blipFill>
        <p:spPr>
          <a:xfrm>
            <a:off x="530280" y="974880"/>
            <a:ext cx="7858080" cy="231768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533160" y="4114800"/>
            <a:ext cx="78548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Gayle Thieman, Portland State University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Susan Lenski, Portland State University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National Council for Social Studies CUFA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December 1, 2011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0" y="9140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3941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teps of Analysis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eveloped a chart for each work sampl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nalyzed each literacy event: specific literacy activity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ummarized literacy activit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label countries on a map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dentified corresponding literacy term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Label map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ecided the DOK level of the  literacy activity  (1-4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  Recall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7430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Low DOK levels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190512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I Recal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Label map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Define vocabular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Recall informat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ake not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Draw representat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II Skill/Concept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dentify pattern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ummarize informat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ake prediction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Organize informat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ompare/contras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nterpret historical documen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High DOK Levels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III Strategic Thinking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nalyze consequenc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Evaluate policy proposal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Develop logical argumen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Debate merits of proposal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Draw conclusion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IV Extended Thinking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ynthesize information from multiple sourc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reate new understanding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pply concepts in novel way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ndings:  Number of Literacy Events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Number of literacy events increased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rom Student Teaching I to Student Teaching II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582120" indent="-22356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WS I:  mean 24;  range 11-40     (part-time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82120" indent="-22356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82120" indent="-22356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WS II:  mean 29; range 10-44     (full-time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82120" indent="-22356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82120" indent="-22356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Higher mean of literacy events in the ST II work sample may be due to increased number of lessons  or increased experience and confidence in lesson desig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3" marL="1080360" indent="-19044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ndings:  DOK Level of Literacy Strategies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12760" indent="-21276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12760" indent="-21276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Level 1 strategies decreased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 little from WS I to WS II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498960" indent="-19152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WS I Level 1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ean: 26%   range 6%-46%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498960" indent="-19152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WS II Level 1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ean: 23%   range 9%-33%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498960" indent="-19152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498960" indent="-19152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Level III, IV strategies increased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from WS I and WSII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498960" indent="-19152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498960" indent="-19152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WS I Level III, IV             Mean: 22%  range   0-60%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498960" indent="-19152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WS II   Level III,IV          Mean: 29%   range  15%-48%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498960" indent="-19152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498960" indent="-19152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12760" indent="-21276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ndings:  DOK Level varied with classroom contexts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7000"/>
          </a:bodyPr>
          <a:p>
            <a:pPr marL="155520" indent="-155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ome candidates teaching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n </a:t>
            </a: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high poverty schools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(&gt;40% FRL)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had higher percentages of Level 1 strategies  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(&gt; 30%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155520" indent="-155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 few candidates teaching in </a:t>
            </a: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high poverty schools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(&gt;40% FRL) </a:t>
            </a: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had higher percentages  of Level III,IV strategies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(&gt;40%)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520920" indent="-1400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Most capable graduate students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520920" indent="-1400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Higher level literacy strategies were more frequent in WS II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155520" indent="-155520">
              <a:spcBef>
                <a:spcPts val="649"/>
              </a:spcBef>
              <a:buClr>
                <a:srgbClr val="009d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ost candidates teaching in </a:t>
            </a: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low poverty schools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had </a:t>
            </a: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higher percentages of Level III, IV strategi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155520" indent="-155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155520" indent="-155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155520" indent="-155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155520" indent="-155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155520" indent="-1555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andidates who taught younger students used more Level 1 strategies &gt;30%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155520" indent="-155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155520" indent="-155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andidates who taught both Work Samples in the </a:t>
            </a: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same school decreased their percentages of Level 1 strategie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Implications for Further Research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evelop shared definitions of literacy and shared vocabulary of literacy strategie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ollaborate on common literacy assignment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Explicitly teach candidates how to incorporate higher level thinking and strategies, especially with students in high-poverty/high diversity classroom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ll of the Work Samples  included a variety of primary documents and texts. Teach candidates how to match text difficulty with student literacy ability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33520" y="6858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Research Questions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935000"/>
            <a:ext cx="8229600" cy="461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240120" indent="-240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How do secondary social studies pre-service teachers incorporate literacy strategies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n their student teaching Work Samples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0120" indent="-240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o what extent and under what conditions do secondary social studies pre-service teachers use </a:t>
            </a: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higher levels of literacy strategies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n their Work Samples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0120" indent="-240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What are the implications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of this research for teacher preparation that seeks to challenge the status quo of lowered literacy expectations for marginalized students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Literacy in social studies  (NCSS, 2010)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828440"/>
            <a:ext cx="403848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quence event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ifferentiate fact vs. opin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ompare similarities and differenc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nalyze cause and effec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xplore complex pattern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648320" y="1828440"/>
            <a:ext cx="396216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valuate sources for credibility and validity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Use variety of media to access, create, and present informa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nterpret and analyze diverse historical and contemporary perspectiv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Literacy Strategies (Lee &amp; Spratley, 2010)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ctivate prior knowledg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uild vocabular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Learn to deconstruct complex sentenc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Use knowledge of text structures and genres to predict main idea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ap graphic representations against explanation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ose relevant question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ompare claims across text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valuate evidence and claim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590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ontex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0880" y="15235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lvl="1" marL="248040" indent="-24804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Large Pacific Northwest university that prepares 120 secondary teachers yearly in a cohort-based post baccalaureate program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248040" indent="-24804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Fall term prior to student teaching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2" marL="831960" indent="-223920">
              <a:spcBef>
                <a:spcPts val="700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nstantia"/>
              </a:rPr>
              <a:t>Content area reading strategies clas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2" marL="831960" indent="-223920">
              <a:spcBef>
                <a:spcPts val="700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nstantia"/>
              </a:rPr>
              <a:t>Intro social studies methods clas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Winter term prior to student teaching II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248040" indent="-248040">
              <a:spcBef>
                <a:spcPts val="7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nstantia"/>
              </a:rPr>
              <a:t>Advanced social studies methods course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248040" indent="-24804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248040" indent="-24804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248040" indent="-24804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248040" indent="-24804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248040" indent="-2480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Data Sources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26440" indent="-22644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nstantia"/>
              </a:rPr>
              <a:t>16 secondary pre-service teacher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530640" indent="-203760">
              <a:lnSpc>
                <a:spcPct val="90000"/>
              </a:lnSpc>
              <a:spcBef>
                <a:spcPts val="700"/>
              </a:spcBef>
              <a:buClr>
                <a:srgbClr val="0f6fc6"/>
              </a:buClr>
              <a:buSzPct val="8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12 Work Sample I 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530640" indent="-203760">
              <a:lnSpc>
                <a:spcPct val="90000"/>
              </a:lnSpc>
              <a:spcBef>
                <a:spcPts val="700"/>
              </a:spcBef>
              <a:buClr>
                <a:srgbClr val="0f6fc6"/>
              </a:buClr>
              <a:buSzPct val="8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15 Work Sample II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530640" indent="-203760">
              <a:lnSpc>
                <a:spcPct val="90000"/>
              </a:lnSpc>
              <a:spcBef>
                <a:spcPts val="700"/>
              </a:spcBef>
              <a:buClr>
                <a:srgbClr val="0f6fc6"/>
              </a:buClr>
              <a:buSzPct val="8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nstantia"/>
              </a:rPr>
              <a:t>27 Work Samples Total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530640" indent="-203760">
              <a:lnSpc>
                <a:spcPct val="90000"/>
              </a:lnSpc>
              <a:spcBef>
                <a:spcPts val="700"/>
              </a:spcBef>
              <a:buClr>
                <a:srgbClr val="0f6fc6"/>
              </a:buClr>
              <a:buSzPct val="8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(classroom context, lesson plans, instructional materials, reflections on teaching the lessons, attention to literacy,)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530640" indent="-203760">
              <a:lnSpc>
                <a:spcPct val="90000"/>
              </a:lnSpc>
              <a:spcBef>
                <a:spcPts val="700"/>
              </a:spcBef>
              <a:buClr>
                <a:srgbClr val="0f6fc6"/>
              </a:buClr>
              <a:buSzPct val="8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Work Sample I:  2-3 weeks of lessons in ST I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530640" indent="-203760">
              <a:lnSpc>
                <a:spcPct val="90000"/>
              </a:lnSpc>
              <a:spcBef>
                <a:spcPts val="700"/>
              </a:spcBef>
              <a:buClr>
                <a:srgbClr val="0f6fc6"/>
              </a:buClr>
              <a:buSzPct val="8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Work Sample II: 4-5 weeks of lessons in ST II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000"/>
            </a:b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Qualitative document analysis (Altheide, Coyle, DeVriese, &amp; Schneider, 2010)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246816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468000" indent="-4680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onstant Comparative  (Corbin &amp; Strauss, 2007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68000" indent="-4680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Read and coded Work Samples individually, met weekly to compare coding, 95% agreement, came to consensus on differenc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68000" indent="-46800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Generated categories using open coding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68000" indent="-46800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lected categories within a literacy model (axial coding)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68000" indent="-46800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onnected the categories (selective coding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68000" indent="-46800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Analysis: What is literacy?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First, we had to agree on what is a literacy strateg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in social studies instruction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Used existing literature to develop list of 28 literacy strategi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pplied the strategies  to five modalities: reading (digital and print) writing, speaking, listening, viewing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Calibri"/>
              </a:rPr>
              <a:t>Higher level activities: Depth of Knowledge (Webb, 2005)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0" name="Picture 4" descr=""/>
          <p:cNvPicPr/>
          <p:nvPr/>
        </p:nvPicPr>
        <p:blipFill>
          <a:blip r:embed="rId2"/>
          <a:stretch/>
        </p:blipFill>
        <p:spPr>
          <a:xfrm>
            <a:off x="1336680" y="1935000"/>
            <a:ext cx="647064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1T01:16:17Z</dcterms:created>
  <dc:creator>sjlenski</dc:creator>
  <dc:description/>
  <dc:language>en-US</dc:language>
  <cp:lastModifiedBy>Gayle Thieman</cp:lastModifiedBy>
  <cp:lastPrinted>2011-11-30T03:54:54Z</cp:lastPrinted>
  <dcterms:modified xsi:type="dcterms:W3CDTF">2012-02-10T01:30:57Z</dcterms:modified>
  <cp:revision>40</cp:revision>
  <dc:subject/>
  <dc:title>What Work Samples Reveal  about Preservice Teachers’  Use of Literacy Strategies</dc:title>
</cp:coreProperties>
</file>