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26AF9-F7DB-4084-BCB9-18E2E24493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B99C4-4999-496E-AA6C-000D3BC7BF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5F8FB-1378-4890-8FAD-EB7E66A4D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3F794-066D-4AD1-B3C5-9FEDA3426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1211-2296-44C5-8F30-3BE9CAEAD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2ECD-F8A9-4117-8296-143012226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6693-B07A-4A94-80A2-33CBC6CF3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170F-3416-4BE5-BCDE-AF3E9D411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FB499-CE73-4051-9747-AB87C391D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2D097-A7D9-4701-B937-C45EC7FC8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775A7-1A68-4DF8-A483-6C7B1A9F9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0C142-9A6F-41FA-9E14-AB58AE982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552DA-4D68-4F26-8D66-7BE8A0899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22E91-74F4-459A-8CF1-162D5087E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6DD4A-13D4-44B5-BB9E-103020D1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4C14-A77F-498D-BC9E-EB3BA2833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012A4-8BF6-4ED9-B332-179A4540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1AB3B-232B-4DD1-A114-85C361A7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C2BD3-F223-4F8E-BBB1-BCF8C2D4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5EADD-E8C2-4380-841C-294ECEDEE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8199F-8F28-47A1-8DEB-6563753CD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18288-3C65-49FC-962F-E9F9FFED2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B73CB-CBE7-422C-86D3-F4ECD9B0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473A7-8C7A-4B89-97AA-1C09702BF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1DBC3-C344-4124-B58F-7969EBF91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4BB3C-E41B-48F1-8DEB-E7E1596A2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3F8D-2C9F-40AC-B35D-5B320DEC7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D9C66-A041-442D-AEB1-3F335D75E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13F84-8309-4E90-8433-42EAE96A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1FBD4-63B6-48B3-952A-EAC3CDE7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71585-8DD0-4480-A202-66674838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BEAE0-7F0A-4128-BC7E-3443CD39A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AD74B-660F-472A-A0FA-F841E5529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E509D-8ADA-4A9A-B734-FFC77B2E6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DCAD0-5237-4204-9B99-BE398D8D0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D82C9-5123-4C78-8245-A66D3D585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0B031-DD18-4894-B7C1-488B2DA0C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C998-573A-451F-B4BF-B9F68151E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F6AB3-BF73-4100-9BEB-0AB66A419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37915-B49C-4195-ABC1-B05DFCA4B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0ACBF-5CED-46CB-94D3-4B9522AFC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FFE82-DFC1-46C2-84FE-918E2264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33E67-E797-4D78-958C-A4035777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2AA25-E182-4B33-8213-BE763CFC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C579B-8C9D-489E-B1D1-27C10EA54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3CB19-17EB-4568-B341-B2EF85765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41D15-9F22-4FE9-B746-97FAE5C97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FE7F-3958-4C11-AC9D-737F75BDD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E23E-D98A-4A25-BEC5-3C0051C74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61DC-F310-4519-BE23-2970A716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6B95-1F75-4170-B9CA-28337B83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B787-E8DB-4FF9-898B-38190690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8090D-691E-4311-B628-6E91C85184C0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E1F86-8838-43B6-B00B-15CC5AEA905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8A216-D5E6-42EA-AEA9-70D2B2421E23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01C4E-CE56-45DC-A001-DA6DAD97DEAA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50B9-4B9A-4500-873A-D6A5882185D8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51AF5-D78A-42A4-81E6-59569C941213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A9C07-F54D-40D4-9A52-D383EE9E9165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F4834-EA55-440E-98E0-F82C2465A25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3" descr=""/>
          <p:cNvPicPr/>
          <p:nvPr/>
        </p:nvPicPr>
        <p:blipFill>
          <a:blip r:embed="rId2"/>
          <a:stretch/>
        </p:blipFill>
        <p:spPr>
          <a:xfrm>
            <a:off x="530280" y="974880"/>
            <a:ext cx="7858080" cy="23176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411480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Gayle Thieman, Portland State University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usan Lenski, Portland State University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National Council for Social Studies CUFA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December 1, 2011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3941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teps of Analysi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veloped a chart for each work samp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alyzed each literacy event: specific literacy activity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mmarized literacy activ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abel countries on a ma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dentified corresponding literacy ter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abel ma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cided the DOK level of the  literacy activity  (1-4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  Recal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Low DOK level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0512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I Recal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abel ma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fine vocabula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call inform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ake no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raw represent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II Skill/Concep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dentify patter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ummarize inform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ke predic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rganize inform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mpare/contras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terpret historical docu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High DOK Level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III Strategic Think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alyze consequenc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valuate policy proposa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velop logical argu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bate merits of propos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raw conclus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IV Extended Think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ynthesize information from multiple sourc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reate new understand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pply concepts in novel way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ndings:  Number of Literacy Event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Number of literacy events increased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rom Student Teaching I to Student Teaching I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S I:  mean 24;  range 11-40     (part-time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S II:  mean 29; range 10-44     (full-time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igher mean of literacy events in the ST II work sample may be due to increased number of lessons  or increased experience and confidence in lesson desig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3" marL="1080360" indent="-19044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ndings:  DOK Level of Literacy Strategie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12760" indent="-2127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Level 1 strategies decreased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little from WS I to WS I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498960" indent="-1915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S I Level 1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ean: 26%   range 6%-46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98960" indent="-1915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S II Level 1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ean: 23%   range 9%-33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98960" indent="-1915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98960" indent="-1915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Level III, IV strategies increased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rom WS I and WSI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98960" indent="-1915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98960" indent="-1915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S I Level III, IV             Mean: 22%  range   0-60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98960" indent="-1915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S II   Level III,IV          Mean: 29%   range  15%-48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98960" indent="-1915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98960" indent="-1915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ndings:  DOK Level varied with classroom context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marL="155520" indent="-15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me candidates teaching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high poverty school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&gt;40% FRL)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had higher percentages of Level 1 strategies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(&gt; 30%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55520" indent="-15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few candidates teaching in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high poverty school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&gt;40% FRL)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had higher percentages  of Level III,IV strategie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(&gt;40%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520920" indent="-1400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Most capable graduate student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520920" indent="-1400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Higher level literacy strategies were more frequent in WS II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155520" indent="-155520">
              <a:spcBef>
                <a:spcPts val="649"/>
              </a:spcBef>
              <a:buClr>
                <a:srgbClr val="009d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st candidates teaching in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low poverty school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ad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higher percentages of Level III, IV strateg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55520" indent="-15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55520" indent="-15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55520" indent="-15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55520" indent="-15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55520" indent="-1555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ndidates who taught younger students used more Level 1 strategies &gt;30%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55520" indent="-15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55520" indent="-15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ndidates who taught both Work Samples in the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same school decreased their percentages of Level 1 strategi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Implications for Further Research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velop shared definitions of literacy and shared vocabulary of literacy strategi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llaborate on common literacy assignment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Explicitly teach candidates how to incorporate higher level thinking and strategies, especially with students in high-poverty/high diversity classroom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ll of the Work Samples  included a variety of primary documents and texts. Teach candidates how to match text difficulty with student literacy abilit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Research Questio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5000"/>
            <a:ext cx="822960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How do secondary social studies pre-service teachers incorporate literacy strategie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 their student teaching Work Sample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what extent and under what conditions do secondary social studies pre-service teachers use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higher levels of literacy strategie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 their Work Sample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What are the implication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f this research for teacher preparation that seeks to challenge the status quo of lowered literacy expectations for marginalized student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Literacy in social studies  (NCSS, 2010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8284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quence ev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fferentiate fact vs. opin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pare similarities and differen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alyze cause and effec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plore complex patter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648320" y="1828440"/>
            <a:ext cx="396216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valuate sources for credibility and validity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 variety of media to access, create, and present inform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terpret and analyze diverse historical and contemporary perspectiv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Literacy Strategies (Lee &amp; Spratley, 2010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ctivate prior knowledg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uild vocabula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earn to deconstruct complex senten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 knowledge of text structures and genres to predict main ide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p graphic representations against explana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ose relevant ques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pare claims across tex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valuate evidence and claim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90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ontex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0880" y="1523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248040" indent="-2480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Large Pacific Northwest university that prepares 120 secondary teachers yearly in a cohort-based post baccalaureate program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248040" indent="-2480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all term prior to student teach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831960" indent="-223920"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nstantia"/>
              </a:rPr>
              <a:t>Content area reading strategies clas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831960" indent="-223920"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nstantia"/>
              </a:rPr>
              <a:t>Intro social studies methods clas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inter term prior to student teaching I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248040" indent="-24804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nstantia"/>
              </a:rPr>
              <a:t>Advanced social studies methods course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248040" indent="-2480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248040" indent="-2480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248040" indent="-2480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48040" indent="-2480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48040" indent="-248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Data Source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nstantia"/>
              </a:rPr>
              <a:t>16 secondary pre-service teach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530640" indent="-20376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12 Work Sample I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530640" indent="-20376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15 Work Sample I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530640" indent="-20376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nstantia"/>
              </a:rPr>
              <a:t>27 Work Samples Tota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530640" indent="-20376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(classroom context, lesson plans, instructional materials, reflections on teaching the lessons, attention to literacy,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530640" indent="-20376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ork Sample I:  2-3 weeks of lessons in ST 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530640" indent="-20376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ork Sample II: 4-5 weeks of lessons in ST I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Qualitative document analysis (Altheide, Coyle, DeVriese, &amp; Schneider, 2010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68000" indent="-468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stant Comparative  (Corbin &amp; Strauss, 2007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68000" indent="-468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ad and coded Work Samples individually, met weekly to compare coding, 95% agreement, came to consensus on differen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68000" indent="-46800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enerated categories using open cod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68000" indent="-46800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lected categories within a literacy model (axial coding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68000" indent="-46800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nected the categories (selective coding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68000" indent="-46800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Analysis: What is literacy?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First, we had to agree on what is a literacy strateg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in social studies instruct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d existing literature to develop list of 28 literacy strateg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pplied the strategies  to five modalities: reading (digital and print) writing, speaking, listening, viewing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Higher level activities: Depth of Knowledge (Webb, 2005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0" name="Picture 4" descr=""/>
          <p:cNvPicPr/>
          <p:nvPr/>
        </p:nvPicPr>
        <p:blipFill>
          <a:blip r:embed="rId2"/>
          <a:stretch/>
        </p:blipFill>
        <p:spPr>
          <a:xfrm>
            <a:off x="1336680" y="1935000"/>
            <a:ext cx="64706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1T01:16:17Z</dcterms:created>
  <dc:creator>sjlenski</dc:creator>
  <dc:description/>
  <dc:language>en-US</dc:language>
  <cp:lastModifiedBy>Gayle Thieman</cp:lastModifiedBy>
  <cp:lastPrinted>2011-11-30T03:54:54Z</cp:lastPrinted>
  <dcterms:modified xsi:type="dcterms:W3CDTF">2012-02-10T01:30:57Z</dcterms:modified>
  <cp:revision>40</cp:revision>
  <dc:subject/>
  <dc:title>What Work Samples Reveal  about Preservice Teachers’  Use of Literacy Strategies</dc:title>
</cp:coreProperties>
</file>