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2B76-EF43-40B2-8D0A-F028A0E7E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0A3-3202-4AA5-8472-5719E97F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8F9-9857-4BE8-9425-FC1D6AE9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FE12-2968-48BF-937C-9CA80A40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9F8-4E17-4368-9F59-41BCD35E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1AF-9F63-4476-A174-8B788C8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A30-3629-4CDB-B472-A9C11A5B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BB9-5B90-47A2-B450-C317BFC3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F160-FF23-4838-AB36-F4F4E6F0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5498-6DF2-4CF5-9988-ADA9E80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0431-D44E-4FC6-8394-27ECB30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5EC7-93CC-4FB9-8061-B023B02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4B9A-26AF-4968-A7A5-9AF87B14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432B-E748-46CA-A15C-645D7E7B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99EB-47B5-4624-92A0-ADA8D6B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EB4-0942-4014-9006-35FD141B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5193-3193-4226-8809-7BC14D4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686-8F0F-489B-A386-5EB9998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9A5-E66B-48E5-8DE9-1EC79E96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062D-3022-42F1-BD1A-9456181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CF95-0DD5-4056-AA53-98ABCF3A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C3D2-A92E-4C10-A1EC-E3C0C2A2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BB6BE-AFC8-4B1D-A5DC-DBE9F849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F1B2-21C5-4D44-BEC8-4560527C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72F7-8F26-4D4F-9B8D-2F31804C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19ED-3542-4268-A930-AB054D9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616-41AB-4515-9155-E36D2ACF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7F43-E658-4B90-A88A-A071778C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EE0D-2BDB-46ED-8775-979AD08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F31D-6D91-4EE9-BAF1-B8A203F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C03B-86A5-490B-96CE-BAD5CE2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9D82B-1613-45B1-A2F8-08DCD01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D290-C514-401D-AF57-A7B62A2E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8938-8877-470E-AC2D-D134AF03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349F-BF7F-4D15-B61A-DA2F4AD5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3774-05A0-493E-B272-D0118BBE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5EC57-F889-4C89-8703-0628894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AF7-90C6-419F-AFEC-BB654C3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73CF-929E-4803-A95A-7B4CBCD4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64F9-0D4F-40D6-B200-DC215119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FE0E-732B-4FE2-B0A7-4A700F6C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3F0A-5245-41BF-AA29-29C7A53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308A-DC4B-46C6-AAE4-FABBCF4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3E22-701C-4FD8-8113-1CC783E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825C-6458-4A44-BF6C-94B84C3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6E03B-5EFE-4612-96FC-51A00FDA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3608-7194-459F-913D-2AE71529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683-87EE-4A96-A50B-913B609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0F8-EBDF-40F1-B618-D878443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8F4-6440-4013-88E0-29C4D62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36F-9286-44B5-9F13-E7CB4A5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D7D-3EB1-4691-B2B9-594AC4B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C7D-124E-4E35-8A7C-F43C7AD3EB2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8080-9B55-48BA-9CB1-ACF1F1A28B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4BA9-CC95-4811-BAC2-74D65FD8365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B121-9D12-4A92-A116-689A2A6B21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33A5-0FBA-4A45-965A-A66E8278290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40E-8538-4E02-A0E8-4CBAB5C5F80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2536-DEE6-4234-B9DC-9D129439943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8A3F-FDD7-4952-928C-6C7E85A8CE3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2"/>
          <a:stretch/>
        </p:blipFill>
        <p:spPr>
          <a:xfrm>
            <a:off x="530280" y="974880"/>
            <a:ext cx="7858080" cy="2317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1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tional Council for Social Studies CUF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ecember 1,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394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eps of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a chart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ach literacy event: specific literacy activity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d literacy a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countries on a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corresponding literacy te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ided the DOK level of the  literacy activity  (1-4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 Rec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bate merits of propo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y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Number of Literacy Ev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Number of literacy events in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Student Teaching I to Student Teaching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:  mean 24;  range 11-40     (part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:  mean 29; range 10-44     (full-ti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er mean of literacy events in the ST II work sample may be due to increased number of lessons  or increased experience and confidence in lesson 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80360" indent="-190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of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 1 strategies decreased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little from WS I to WS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6%   range 6%-4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Level 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an: 23%   range 9%-3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evel III, IV strategies increased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WS I and WS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 Level III, IV             Mean: 22%  range   0-6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S II   Level III,IV          Mean: 29%   range  15%-4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98960" indent="-1915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ndings:  DOK Level varied with classroom contex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candidates teach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of Level 1 strategies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&gt; 30%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ew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&gt;40% FRL)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higher percentages  of Level III,IV strateg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&gt;40%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st capable graduate studen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520920" indent="-1400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igher level literacy strategies were more frequent in WS II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09d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candidates teaching in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ow poverty school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percentages of Level III, IV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younger students used more Level 1 strategies &gt;30%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55520" indent="-15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didates who taught both Work Samples in th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ame school decreased their percentages of Level 1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shared vocabulary of literacy strateg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do secondary social studies pre-service teachers incorporate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student teaching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what extent and under what conditions do secondary social studies pre-service teachers 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igher 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ir Work Samp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hat are the implicati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this research for teacher preparation that seeks to challenge the status quo of lowered literacy expectations for marginalized student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to deconstruct complex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p graphic representations against explan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 and clai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rge Pacific Northwest university that prepares 120 secondary teachers yearly in a cohort-based post baccalaureate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 term prior to student 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Content area reading strategie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2392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ntro social studies methods cla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nter term prior to student teaching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Advanced social studies methods course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16 secondary pre-service teach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2 Work Sample I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Work Sample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27 Work Samples To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classroom context, lesson plans, instructional materials, reflections on teaching the lessons, attention to literacy,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:  2-3 weeks of lessons in ST 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ork Sample II: 4-5 weeks of lessons in ST I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Qualitative document analysis (Altheide, Coyle, DeVriese, &amp; Schneider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 Comparative  (Corbin &amp; Strauss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and coded Work Samples individually, met weekly to compare coding, 95% agreement, came to consensus on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rated categories using open co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cted categories within a literacy model (axial coding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ed the categories (selective coding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8000" indent="-468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nalysis: What is literacy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rst, we had to agree on what is a literacy strate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 social studies instr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d existing literature to develop list of 28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ed the strategies  to five modalities: reading (digital and print) writing, speaking, listening, vie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1:16:17Z</dcterms:created>
  <dc:creator>sjlenski</dc:creator>
  <dc:description/>
  <dc:language>en-US</dc:language>
  <cp:lastModifiedBy>Gayle Thieman</cp:lastModifiedBy>
  <cp:lastPrinted>2011-11-30T03:54:54Z</cp:lastPrinted>
  <dcterms:modified xsi:type="dcterms:W3CDTF">2012-02-10T01:30:57Z</dcterms:modified>
  <cp:revision>40</cp:revision>
  <dc:subject/>
  <dc:title>What Work Samples Reveal  about Preservice Teachers’  Use of Literacy Strategies</dc:title>
</cp:coreProperties>
</file>