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4DEBA-6B49-4AE0-90DB-D40316CF57C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F4AC1-B554-42C8-8AA9-9EB0A01186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5B3CA-1332-4D06-BE65-4A4DAB9A82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1EF8D-CA19-4236-8F78-37CFB0308E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E56B-4049-40FC-8287-B6BE3E798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96C8-AA22-4E78-A5B9-9A42FDD90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1436-462B-432E-B50B-BAD668989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9EE5-951C-4F88-BE82-00942569B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30D37-7E91-4552-942F-775080502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3D9F7-8568-44E0-87D8-7F3A2A591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3446A-23AC-428B-BB38-C41FD6145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505E7-0CFF-49C5-9330-A72491747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C0832-7EE3-4C88-BC88-1DD10117B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32BD4-A8A1-46D3-8573-819DCEF7E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805EA-590A-4519-95DE-58133990B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5BC2-DC43-4C7B-B04F-BB6075613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F81C4-4D4D-42B5-BC2C-5A10ACC29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DC797-75BB-4DC1-B798-828AF5DB0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7AAF1-EE16-496E-8DB4-D4612F4C6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56BA6-7909-4E20-9CF3-ABB8832FE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02834-9491-4FBB-9364-CB5A600CC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17B33A-AE04-4906-A5B8-2EE154B4D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E74639-BCF9-49A8-BAF5-A243D7EAF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80E33C-DACC-491D-912E-E05574E0D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A0CAB1-F14A-4D44-872F-A51D07682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F48DE4-78A4-4C17-8FD6-D8D104A5A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44EC-F790-41E6-A09D-151381D36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354A15-63A2-4033-A087-E13C5DA1E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58C156-26E5-43BA-8FA7-AFA968B33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C455A8-B73C-4AFA-9237-9FCD039BF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F47E71-075D-448D-8E24-57B6208B5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07D38C-8E83-40E8-BB25-B91844DB0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7235A1-4708-4BD5-BA9A-F60AB5A48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B118C9-A44E-4AFC-9A21-A04E7872C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9133B1-9CBE-4B59-8670-5B8F5B7C6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3DA3EC-2672-427E-BB2B-5B8FC7AF5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952D61-C647-44E9-8C77-A016D6EBE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7A7F-67CB-4E42-B946-3652C93E7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4A5914-499F-4F66-A7F5-F85257673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AF3F15-96DE-4552-9360-C4B2382B0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D5D0F2-2A93-49BC-A8B1-DD63E9AB9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71E428-2D38-45AF-B1C0-EE6DB0606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C134A4-559B-42F1-B993-0FC0C7296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69C89A-02C8-4674-BB46-C0392EB90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153D45-61BD-4D6B-A22F-C702F23BE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C23B7D-7B33-47C1-94C4-ACED2DA31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8DEE08-41BA-47B7-B5D3-23C584BCE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E002-A99F-429F-9B7D-F03CD55CE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6FBA-01D1-4DC8-8C91-65021C430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E6D5-A8A9-4F55-9D97-5E57C8117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BC09-F933-4D8A-B05E-D7C0E40EB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2657-1FA7-49E8-9AA0-168108394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F8345-4E2A-408D-B38E-488DC868552B}" type="datetime">
              <a:rPr b="0" lang="en-US" sz="1200" spc="-1" strike="noStrike">
                <a:solidFill>
                  <a:srgbClr val="045c75"/>
                </a:solidFill>
                <a:latin typeface="Constanti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C3DCB-DC81-45BF-8721-AE883F35726C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9ED18-3F82-4F42-BF27-5D5BAA438C61}" type="datetime">
              <a:rPr b="0" lang="en-US" sz="1200" spc="-1" strike="noStrike">
                <a:solidFill>
                  <a:srgbClr val="d1eaee"/>
                </a:solidFill>
                <a:latin typeface="Constanti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B6EF0-048E-4233-A8E0-264E1D661932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4DCCF-030E-4CBD-9A8E-DFA479CAA167}" type="datetime">
              <a:rPr b="0" lang="en-US" sz="1200" spc="-1" strike="noStrike">
                <a:solidFill>
                  <a:srgbClr val="d1eaee"/>
                </a:solidFill>
                <a:latin typeface="Constanti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829D9-938C-42FE-B9C6-0388F8D1D8CC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80808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5ACE3-FBD8-4BF5-811D-029F2D0B231E}" type="datetime">
              <a:rPr b="0" lang="en-US" sz="1200" spc="-1" strike="noStrike">
                <a:solidFill>
                  <a:srgbClr val="045c75"/>
                </a:solidFill>
                <a:latin typeface="Constanti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42935-789F-4B2E-AA77-71A8D98147A8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Title 3" descr=""/>
          <p:cNvPicPr/>
          <p:nvPr/>
        </p:nvPicPr>
        <p:blipFill>
          <a:blip r:embed="rId2"/>
          <a:stretch/>
        </p:blipFill>
        <p:spPr>
          <a:xfrm>
            <a:off x="530280" y="974880"/>
            <a:ext cx="7858080" cy="23176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533160" y="4114800"/>
            <a:ext cx="78548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Gayle Thieman, Portland State University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Susan Lenski, Portland State University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National Council for Social Studies CUFA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December 1, 2011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0" y="9140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3941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teps of Analysi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eveloped a chart for each work sampl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nalyzed each literacy event: specific literacy activity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ummarized literacy activit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abel countries on a map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dentified corresponding literacy ter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abel map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ecided the DOK level of the  literacy activity  (1-4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  Recal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Low DOK level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90512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I Recal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abel map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efine vocabular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ecall informa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ake not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raw representa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II Skill/Concep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dentify patter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ummarize informa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ake predictio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Organize informa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ompare/contras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terpret historical documen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High DOK Level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III Strategic Think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nalyze consequenc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valuate policy proposa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evelop logical argumen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ebate merits of proposa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raw conclusio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IV Extended Think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ynthesize information from multiple sourc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reate new understandin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pply concepts in novel way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ndings:  Number of Literacy Event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Number of literacy events increased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rom Student Teaching I to Student Teaching I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82120" indent="-22356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S I:  mean 24;  range 11-40     (part-time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82120" indent="-22356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82120" indent="-22356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S II:  mean 29; range 10-44     (full-time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82120" indent="-22356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82120" indent="-22356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igher mean of literacy events in the ST II work sample may be due to increased number of lessons  or increased experience and confidence in lesson desig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3" marL="1080360" indent="-19044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ndings:  DOK Level of Literacy Strategie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12760" indent="-21276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Level 1 strategies decreased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 little from WS I to WS I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498960" indent="-19152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S I Level 1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ean: 26%   range 6%-46%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498960" indent="-19152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S II Level 1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ean: 23%   range 9%-33%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498960" indent="-19152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498960" indent="-19152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Level III, IV strategies increased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rom WS I and WSII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498960" indent="-19152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498960" indent="-19152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S I Level III, IV             Mean: 22%  range   0-60%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498960" indent="-19152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S II   Level III,IV          Mean: 29%   range  15%-48%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498960" indent="-19152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498960" indent="-19152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ndings:  DOK Level varied with classroom context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7000"/>
          </a:bodyPr>
          <a:p>
            <a:pPr marL="155520" indent="-155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ome candidates teaching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 </a:t>
            </a: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high poverty schools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(&gt;40% FRL)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had higher percentages of Level 1 strategies 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(&gt; 30%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55520" indent="-155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 few candidates teaching in </a:t>
            </a: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high poverty schools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(&gt;40% FRL) </a:t>
            </a: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had higher percentages  of Level III,IV strategies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(&gt;40%)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520920" indent="-1400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Most capable graduate student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520920" indent="-1400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Higher level literacy strategies were more frequent in WS II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155520" indent="-155520">
              <a:spcBef>
                <a:spcPts val="649"/>
              </a:spcBef>
              <a:buClr>
                <a:srgbClr val="009d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ost candidates teaching in </a:t>
            </a: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low poverty schools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ad </a:t>
            </a: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higher percentages of Level III, IV strategi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55520" indent="-155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55520" indent="-155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55520" indent="-155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55520" indent="-155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55520" indent="-1555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andidates who taught younger students used more Level 1 strategies &gt;30%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55520" indent="-155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55520" indent="-155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andidates who taught both Work Samples in the </a:t>
            </a: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same school decreased their percentages of Level 1 strategi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Implications for Further Research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evelop shared definitions of literacy and shared vocabulary of literacy strategi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llaborate on common literacy assignment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Explicitly teach candidates how to incorporate higher level thinking and strategies, especially with students in high-poverty/high diversity classroom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ll of the Work Samples  included a variety of primary documents and texts. Teach candidates how to match text difficulty with student literacy ability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33520" y="6858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Research Question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5000"/>
            <a:ext cx="8229600" cy="461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40120" indent="-240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How do secondary social studies pre-service teachers incorporate literacy strategies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 their student teaching Work Samples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o what extent and under what conditions do secondary social studies pre-service teachers use </a:t>
            </a: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higher levels of literacy strategies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 their Work Samples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What are the implications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f this research for teacher preparation that seeks to challenge the status quo of lowered literacy expectations for marginalized students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Literacy in social studies  (NCSS, 2010)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828440"/>
            <a:ext cx="403848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quence even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ifferentiate fact vs. opin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mpare similarities and differenc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nalyze cause and effec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xplore complex patter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648320" y="1828440"/>
            <a:ext cx="396216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valuate sources for credibility and validity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se variety of media to access, create, and present inform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terpret and analyze diverse historical and contemporary perspectiv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Literacy Strategies (Lee &amp; Spratley, 2010)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ctivate prior knowledg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uild vocabular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earn to deconstruct complex sentenc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se knowledge of text structures and genres to predict main idea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ap graphic representations against explanatio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ose relevant questio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mpare claims across tex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valuate evidence and claim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590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ontex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0880" y="15235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lvl="1" marL="248040" indent="-24804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Large Pacific Northwest university that prepares 120 secondary teachers yearly in a cohort-based post baccalaureate program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248040" indent="-24804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Fall term prior to student teach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831960" indent="-223920">
              <a:spcBef>
                <a:spcPts val="700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nstantia"/>
              </a:rPr>
              <a:t>Content area reading strategies clas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831960" indent="-223920">
              <a:spcBef>
                <a:spcPts val="700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nstantia"/>
              </a:rPr>
              <a:t>Intro social studies methods clas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Winter term prior to student teaching II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248040" indent="-248040"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nstantia"/>
              </a:rPr>
              <a:t>Advanced social studies methods course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248040" indent="-24804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248040" indent="-24804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248040" indent="-24804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248040" indent="-24804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248040" indent="-248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Data Source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26440" indent="-22644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nstantia"/>
              </a:rPr>
              <a:t>16 secondary pre-service teache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530640" indent="-203760">
              <a:lnSpc>
                <a:spcPct val="90000"/>
              </a:lnSpc>
              <a:spcBef>
                <a:spcPts val="700"/>
              </a:spcBef>
              <a:buClr>
                <a:srgbClr val="0f6fc6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12 Work Sample I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530640" indent="-203760">
              <a:lnSpc>
                <a:spcPct val="90000"/>
              </a:lnSpc>
              <a:spcBef>
                <a:spcPts val="700"/>
              </a:spcBef>
              <a:buClr>
                <a:srgbClr val="0f6fc6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15 Work Sample II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530640" indent="-203760">
              <a:lnSpc>
                <a:spcPct val="90000"/>
              </a:lnSpc>
              <a:spcBef>
                <a:spcPts val="700"/>
              </a:spcBef>
              <a:buClr>
                <a:srgbClr val="0f6fc6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nstantia"/>
              </a:rPr>
              <a:t>27 Work Samples Total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530640" indent="-203760">
              <a:lnSpc>
                <a:spcPct val="90000"/>
              </a:lnSpc>
              <a:spcBef>
                <a:spcPts val="700"/>
              </a:spcBef>
              <a:buClr>
                <a:srgbClr val="0f6fc6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(classroom context, lesson plans, instructional materials, reflections on teaching the lessons, attention to literacy,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530640" indent="-203760">
              <a:lnSpc>
                <a:spcPct val="90000"/>
              </a:lnSpc>
              <a:spcBef>
                <a:spcPts val="700"/>
              </a:spcBef>
              <a:buClr>
                <a:srgbClr val="0f6fc6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Work Sample I:  2-3 weeks of lessons in ST I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530640" indent="-203760">
              <a:lnSpc>
                <a:spcPct val="90000"/>
              </a:lnSpc>
              <a:spcBef>
                <a:spcPts val="700"/>
              </a:spcBef>
              <a:buClr>
                <a:srgbClr val="0f6fc6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Work Sample II: 4-5 weeks of lessons in ST II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000"/>
            </a:b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Qualitative document analysis (Altheide, Coyle, DeVriese, &amp; Schneider, 2010)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24681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68000" indent="-4680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nstant Comparative  (Corbin &amp; Strauss, 2007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68000" indent="-4680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ead and coded Work Samples individually, met weekly to compare coding, 95% agreement, came to consensus on differenc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68000" indent="-46800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Generated categories using open cod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68000" indent="-46800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lected categories within a literacy model (axial coding)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68000" indent="-46800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nnected the categories (selective coding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68000" indent="-46800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Analysis: What is literacy?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First, we had to agree on what is a literacy strateg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in social studies instructio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sed existing literature to develop list of 28 literacy strategi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pplied the strategies  to five modalities: reading (digital and print) writing, speaking, listening, viewing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Higher level activities: Depth of Knowledge (Webb, 2005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0" name="Picture 4" descr=""/>
          <p:cNvPicPr/>
          <p:nvPr/>
        </p:nvPicPr>
        <p:blipFill>
          <a:blip r:embed="rId2"/>
          <a:stretch/>
        </p:blipFill>
        <p:spPr>
          <a:xfrm>
            <a:off x="1336680" y="1935000"/>
            <a:ext cx="647064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1T01:16:17Z</dcterms:created>
  <dc:creator>sjlenski</dc:creator>
  <dc:description/>
  <dc:language>en-US</dc:language>
  <cp:lastModifiedBy>Gayle Thieman</cp:lastModifiedBy>
  <cp:lastPrinted>2011-11-30T03:54:54Z</cp:lastPrinted>
  <dcterms:modified xsi:type="dcterms:W3CDTF">2012-02-10T01:30:57Z</dcterms:modified>
  <cp:revision>40</cp:revision>
  <dc:subject/>
  <dc:title>What Work Samples Reveal  about Preservice Teachers’  Use of Literacy Strategies</dc:title>
</cp:coreProperties>
</file>