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50B99-6B6C-4A86-AEC9-E85CA9BB683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DE5B0-D6D7-4A66-8A00-D1090085DA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digital archives to organize re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web-quests to assist with students’ research</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8094E-0C23-49C0-93CC-6F5DED95D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ternational Society for Technology in Education (ISTE) developed technology standards for teachers and students which inform expectations for citizenship skills in a digital age.  The National Educational Technology Standards for Students: The Next Generation (ISTE 2007) reflect a growing consensus that the digital world requires students who can use technology as a tool for research, to think critically and creatively, construct knowledge, communicate and work collaboratively, and use information to problem solve and make decisio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2007) also developed student outcomes, which represent the skills, knowledge, and expertise students should master for success in 21</a:t>
            </a:r>
            <a:r>
              <a:rPr b="0" lang="en-US" sz="1200" spc="-1" strike="noStrike" baseline="30000">
                <a:solidFill>
                  <a:srgbClr val="000000"/>
                </a:solidFill>
                <a:latin typeface="Calibri"/>
              </a:rPr>
              <a:t>st</a:t>
            </a:r>
            <a:r>
              <a:rPr b="0" lang="en-US" sz="1200" spc="-1" strike="noStrike">
                <a:solidFill>
                  <a:srgbClr val="000000"/>
                </a:solidFill>
                <a:latin typeface="Calibri"/>
              </a:rPr>
              <a:t> century work and life.  In addition to core academic subject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also incorporates technology into “Learning and Innovation Skill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vic Mission of Schools (2003) describes goals for civic education. These goals suggest that competent and responsible citizens are informed and thoughtful. Citizens also understand public and community issues, are able to obtain information, think critically, and are willing to enter into dialogue with others and understand diverse perspectives.  Citizens act politically by organizing to address social issues, solve problems in groups, speak in public, petition, protest, and vote. Furthermor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eing an engaged and effective citizen today requires reading, writing, and mathematical skills; the ability to understand complex issues (which sometimes have scientific or economic dimensions); </a:t>
            </a:r>
            <a:r>
              <a:rPr b="0" i="1" lang="en-US" sz="1200" spc="-1" strike="noStrike">
                <a:solidFill>
                  <a:srgbClr val="000000"/>
                </a:solidFill>
                <a:latin typeface="Calibri"/>
              </a:rPr>
              <a:t>knowledge of computers and the Internet</a:t>
            </a:r>
            <a:r>
              <a:rPr b="0" lang="en-US" sz="1200" spc="-1" strike="noStrike">
                <a:solidFill>
                  <a:srgbClr val="000000"/>
                </a:solidFill>
                <a:latin typeface="Calibri"/>
              </a:rPr>
              <a:t> [italics added]; and the ability to talk with people from different background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artnership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Skills (2007) also developed student outcomes, which represent the skills, knowledge, and expertise students should master for success in 21</a:t>
            </a:r>
            <a:r>
              <a:rPr b="0" lang="en-US" sz="1800" spc="-1" strike="noStrike" baseline="30000">
                <a:solidFill>
                  <a:srgbClr val="000000"/>
                </a:solidFill>
                <a:latin typeface="Calibri"/>
              </a:rPr>
              <a:t>st</a:t>
            </a:r>
            <a:r>
              <a:rPr b="0" lang="en-US" sz="1800" spc="-1" strike="noStrike">
                <a:solidFill>
                  <a:srgbClr val="000000"/>
                </a:solidFill>
                <a:latin typeface="Calibri"/>
              </a:rPr>
              <a:t> century work and life.  In addition to core academic subject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also incorporates technology into “Learning and Innovation Skills” </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74FD4-BEA9-488B-8CA2-B11006D99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live in a global age of accelerating change, exponential information growth, and evolving technologies.  While these changes are enabling many youth to become more civically engaged and raising questions about the nature of citizenship and civic participation in a digital age, social studies educators are slow to recognize and respond to such chang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SS Technology Position Statement and Guidelines  (2006) provide a rationale for integrating technology into social studies i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CSS Position Statement on Media Literacy (NCSS, 2009) advocates:  “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9B118-761F-4A9B-AEFA-C6AC43EB3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66584-D93B-4997-B1FA-E81DAE3C3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s the cohort leader for 5 of the eight cohorts (2 elementary, 3 secondar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rvice teachers were encouraged but not required to implement technology enriched lessons in both their half-time Student Teaching I and subsequent full-time Student Teaching II field experiences. During both field experiences, pre-service teachers completed a work sample which included the classroom context, unit rationale, detailed lesson plans, sample instructional materials, and pre and post K-12 student assessment dat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ined work samples and reflections from part time Student Teaching I and full time Student Teaching II.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7E159-772E-498B-B859-E7F81B25A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ated innovative products</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unicated and collaborated</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earch &amp; information fluency</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itical Thinking and problem-solv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per examines how pre-service teachers and their secondary students use technology to support five aspects of digital citizenshi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7 work samples from Student Teaching in 2008 and 2009.  13—grades 6-8  and 34—grades 9-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c secondary schools in medium sized metropolitan area  including urban, suburban, semi-rural districts.  All urban and many suburban districts have high populations of students who are poor, linguistically and racially diverse, and who qualify for special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indicates continuing emphasis on research and information fluency.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89099-11CC-4716-B872-8B93AFBF5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ccess to information was greatly enhanced by the variety of digital tools which were not readily available when this study began in 2002.  While the digital divide of technology rich and technology poor schools continues to exist within and across the districts in this study, pre-service teachers overcame limitations to engage their students in research.  For many of the topics, the Internet was the only source of information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4DA9A-4530-4EAB-9B89-9F0A882F3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42A6C-9EB7-4801-8EB7-7E647AABC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268C0-D27F-4FEC-961F-29BBBBBE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88985-EF92-4078-88C5-6AFEF9D96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5C7C5-0B09-4EDD-ACC8-4428820DD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F6486-5AC8-419A-9B0F-B7769A0F9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FB546-6EBD-473E-8590-FF9862406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E726A-33B1-44E4-9AC7-76FC7E4C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2D00-F08C-48D8-96FA-A6303EE6B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98CBD-27BB-4B32-86A6-F50087B70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A24AA-DF4D-42C5-B238-16470F28D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7437-868E-41E0-B5BA-7AB769633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2E06-40F2-4FBA-91C5-A8D4F6F29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A6A0D-FFE8-48F0-904A-1DBDC0C0D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75E6-7681-437F-BF72-FD299BBBC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FCC72-1DA8-4EAD-9A12-E011314D7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769E2-43BD-4B5B-B4D7-AB81D79F9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006F9-BA9A-42EA-8D4A-2D0EBA20A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68FC63-4C41-4596-B8DB-24F49DBCD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5D0D7-B178-47D1-BFC4-2F71E09E9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52FE17-6989-4060-B8DF-D37059ED8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CE18B-8E1A-4317-A54A-48C5D74BD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BDD82-96D9-4E12-8408-9454F5C3EA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3022-90EC-48AA-BFE8-A5D0D7A7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74673E-9CEE-4CB0-B2A0-1BA2B5241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C7745-8A59-46C8-B926-49D2C6538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FED1C-A405-414C-8986-7D5933164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F7A60-A2B3-4CD9-B34A-6643B5623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B1708-AE63-4532-B2BF-827CA0C0F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EF469F-8EC4-4708-BB95-EB13CB45D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032634-00EB-49E1-9B59-2AA9FA201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A868F6-437C-497A-BBD1-6DB4245392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1F758-6145-474F-A11B-AF7DA4781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00B6C0-CBE0-4F8C-8FB3-471C9014C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55A54-3B48-4BB7-A8CA-B851D5615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96DFD-A9DC-40BA-8C86-6E1CA2908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B2B18-157B-4ED3-A74A-62429DF65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D68A8A-A0F3-459D-9802-BB9F48B60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7FCA1-A611-4006-8D12-6E8F58D90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113CF-8354-4A1D-BAFA-904F791AE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D1C66-4C4C-440C-A8F3-322480495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24A63-C358-41AD-99F8-E82DD01CC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30F35D-3641-44CF-AF02-0D6B16A68F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14BF7-F93D-45E0-A559-68B90815CD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A7D6D1-BE3B-4559-B748-8BDC1167A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0F7C-5ABE-4008-8455-520F036F7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82F3E-E5F9-4EFB-B448-A054EF400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E0AA8-D0DB-48D3-B343-B49006140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023E82-A97E-46A4-8C78-1AAF18379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130D2-3EEF-4A40-8DD2-CCC599F1D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CDF6F-6CB9-4944-AC6C-5E3C0EB14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5EDE3-F26E-4226-B807-CC8C50C31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4820E-A144-4F10-9A9E-4C1616F20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20891-FBEF-4427-A1E3-5D2579304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4AA402-DE8A-4395-8F6C-507EFCFB5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1147A-D96F-4682-9653-4882FF3C5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2BEB8-9CCF-4B75-9FF6-C2D188E84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A64B49-1D51-4083-A7A9-DED82726B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3973CA-09DC-4583-9C63-49F71F1FA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8C341-DFBA-420D-B141-89ED6FACEC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7371A-4CB9-485A-85AB-9BAF1807F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A1F1CF-D9C8-4F7E-9DF5-8ADA3FEF74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D99129-38F5-4787-9B05-574F7F73A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12ADE-5898-4D18-8C9B-6E6AA9188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27811-3BF9-469A-8852-6899BDBF9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5CC11-FA21-4C93-91C6-75248AC7A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7BC63-CC3B-4E9B-9819-DF05683BE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168B-F4DE-4125-92B7-0E0A4A02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2538B-C941-42C9-AFB3-2B1E0B6501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2C5D20-E102-4DEC-9DE0-202F828655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CBB3F0-8371-4458-86DA-3EBAC2B7D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04B63-157D-4C6E-8FEB-9330B8CE3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8468D-B088-4B6E-8EAF-B606A8EC2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08931-E530-4887-80CC-AC56EA8AC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EB37D4-62CF-44DD-8182-EE3979FCC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80D9F-6688-4316-BDA1-268429A9A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C76261-DA35-437E-BC8E-9B2B8BA53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EA6977-EB45-42FC-9B52-D47769B0F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040E-1D48-432E-AC0A-4AE4F374D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8C36A-8D73-4BDD-AFC5-446D0519F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F3D48-BD30-4627-83A9-E01CAD4A1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A5A9B-1BB9-497D-BF51-894EEA92C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7D141E-F48D-4D25-B470-38415AED36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36E224-777C-49FF-9772-6A4085EFE8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7DB8-EDA0-40FB-BF11-4C2867B7D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CCF36-31B6-44A1-A8CF-7791C3378731}"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08105-9550-4A71-977F-609A18D0F9D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3CF86-28AF-44E0-9E02-C7A5B1750FC3}"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5E109-8349-49F0-BE80-87875C4C3F8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D4182-CB6D-4158-9AF1-D5074F115CF2}"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F83CD-A735-4C27-B566-0A9904F5022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E172F-C29E-463E-98C8-BE72D5863849}"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62650-2ABA-45AB-8BF1-E533682ECC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5201F-4401-41E1-AEC5-0458A838AB82}"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E5B7E-90A4-4444-B1A3-40F6842F1A0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148A5-E51F-4AD0-99B9-94B18B2479C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CDDBB-404F-4E0B-AF19-05106DC1FFC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39720" y="884160"/>
            <a:ext cx="7821720" cy="3389400"/>
          </a:xfrm>
          <a:prstGeom prst="rect">
            <a:avLst/>
          </a:prstGeom>
          <a:ln w="0">
            <a:noFill/>
          </a:ln>
        </p:spPr>
      </p:pic>
      <p:sp>
        <p:nvSpPr>
          <p:cNvPr id="353" name="PlaceHolder 1"/>
          <p:cNvSpPr>
            <a:spLocks noGrp="1"/>
          </p:cNvSpPr>
          <p:nvPr>
            <p:ph type="subTitle"/>
          </p:nvPr>
        </p:nvSpPr>
        <p:spPr>
          <a:xfrm>
            <a:off x="533160" y="4766760"/>
            <a:ext cx="7854840" cy="131940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ayle Y. Thieman, Ed. D.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rtland State University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CSS-CUFA  11/11/09</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880"/>
            <a:ext cx="8229600" cy="1208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2. Informed citizens understand complex public issues and diverse perspectives</a:t>
            </a:r>
            <a:endParaRPr b="0" lang="en-US" sz="2800" spc="-1" strike="noStrike">
              <a:solidFill>
                <a:srgbClr val="04617b"/>
              </a:solidFill>
              <a:latin typeface="Calibri"/>
            </a:endParaRPr>
          </a:p>
        </p:txBody>
      </p:sp>
      <p:sp>
        <p:nvSpPr>
          <p:cNvPr id="376" name=""/>
          <p:cNvSpPr txBox="1"/>
          <p:nvPr/>
        </p:nvSpPr>
        <p:spPr>
          <a:xfrm>
            <a:off x="457200" y="1912680"/>
            <a:ext cx="8229600" cy="465300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ison and contrast, multiple perspectives</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ama economic stimulus plan &amp; New Deal polici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amp; U.S.S.R. Cold War propaganda</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xis versus Allied perspectives during World War II</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LK “I Have a Dream Speech” &amp; Obama speech on race</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thern and southern perspectives prior to Civil War—quotes from former slaves, historic figures &amp; legislation</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a Portal accounts to organize digital resources &amp; facilitate students’ researc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Quests on abolitionist movement &amp; contemporary social justice issu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3. Competent citizens think critically &amp; creatively, evaluate &amp; make informed decisions</a:t>
            </a:r>
            <a:endParaRPr b="0" lang="en-US" sz="3200" spc="-1" strike="noStrike">
              <a:solidFill>
                <a:srgbClr val="04617b"/>
              </a:solidFill>
              <a:latin typeface="Calibri"/>
            </a:endParaRPr>
          </a:p>
        </p:txBody>
      </p:sp>
      <p:sp>
        <p:nvSpPr>
          <p:cNvPr id="3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 Chinese government policy over time  to illustrate ideological vs. pragmatic orient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I am from” poems from African American perspective—GI returning home to Jim Crow and racism; female  Liberty Ship worker fired to make way for returning soldi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ined digital photos of historic sites &amp; created dough art replica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newsletter, artwork, poetry from perspective of Japanese interne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civil war personality and “My America Facepage” from avatar’s perspecti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4. Effective Citizens Communicate with Diverse Audiences</a:t>
            </a:r>
            <a:endParaRPr b="0" lang="en-US" sz="32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interviews and  traditional letters to digital emails &amp; wiki posting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viewed family members about reform move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Presidents Bush &amp; Fox re: problems in Mex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Senators re:  US immigration policy; Representatives re: Economic Stimulus Ac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reated wiki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5. Committed citizens work collaboratively to solve problems.</a:t>
            </a:r>
            <a:endParaRPr b="0" lang="en-US" sz="32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perative learning groups on a variety of topic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red their knowledge through role plays, skits, simulations, multimedia presentations, web-quest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 students used collaborative digital tools, e.g., Google docs or international projects,  I-Ear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selected problems or issues to reflect state or district curriculum standard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udents’ conclusions communicated only to the teacher or fellow classma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52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ontinuing Challenges</a:t>
            </a:r>
            <a:endParaRPr b="0" lang="en-US" sz="3200" spc="-1" strike="noStrike">
              <a:solidFill>
                <a:srgbClr val="04617b"/>
              </a:solidFill>
              <a:latin typeface="Calibri"/>
            </a:endParaRPr>
          </a:p>
        </p:txBody>
      </p:sp>
      <p:sp>
        <p:nvSpPr>
          <p:cNvPr id="384" name=""/>
          <p:cNvSpPr txBox="1"/>
          <p:nvPr/>
        </p:nvSpPr>
        <p:spPr>
          <a:xfrm>
            <a:off x="457200" y="1398600"/>
            <a:ext cx="8229600" cy="46944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ore adept at social use of emerging technologies than for academic or civic purpos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vide between technologically rich and poor schools and student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sconnect between  tech savvy students and tech phobic teachers (Friedman and Hicks, 200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required to “power down” when they  enter the classroom (O’Brien 2008)</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w connections between students’ online activity and civic matt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better integrate social and public worlds of young people online  (Bennett,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re-service teachers in a graduate teacher education program engage secondary students in digital citizenship to support critical thinking, communication, collaboration, and creative problem solv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 year study of student teaching work sampl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ined lessons through lens of National Educational Technology Standards-Students (ISTE, 2007) Partnership for 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 (2007), and Civic Mission of Schools  (200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gital Divide vs. Digital Disconnect</a:t>
            </a:r>
            <a:endParaRPr b="0" lang="en-US" sz="4500" spc="-1" strike="noStrike">
              <a:solidFill>
                <a:srgbClr val="04617b"/>
              </a:solidFill>
              <a:latin typeface="Calibri"/>
            </a:endParaRPr>
          </a:p>
        </p:txBody>
      </p:sp>
      <p:sp>
        <p:nvSpPr>
          <p:cNvPr id="357" name=""/>
          <p:cNvSpPr txBox="1"/>
          <p:nvPr/>
        </p:nvSpPr>
        <p:spPr>
          <a:xfrm>
            <a:off x="533520" y="1980720"/>
            <a:ext cx="4038480" cy="2590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ite K-12 students’ lack of technology at home or schools as a barrier to incorporating technology into their lessons</a:t>
            </a:r>
            <a:endParaRPr b="0" lang="en-US" sz="2600" spc="-1" strike="noStrike">
              <a:solidFill>
                <a:srgbClr val="000000"/>
              </a:solidFill>
              <a:latin typeface="Constantia"/>
            </a:endParaRPr>
          </a:p>
        </p:txBody>
      </p:sp>
      <p:sp>
        <p:nvSpPr>
          <p:cNvPr id="358" name=""/>
          <p:cNvSpPr txBox="1"/>
          <p:nvPr/>
        </p:nvSpPr>
        <p:spPr>
          <a:xfrm>
            <a:off x="4648320" y="1934640"/>
            <a:ext cx="4038480" cy="2117880"/>
          </a:xfrm>
          <a:prstGeom prst="rect">
            <a:avLst/>
          </a:prstGeom>
          <a:noFill/>
          <a:ln w="0">
            <a:noFill/>
          </a:ln>
        </p:spPr>
        <p:txBody>
          <a:bodyPr lIns="90000" rIns="90000" tIns="46800" bIns="46800"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Yet more students are coming to school with cell phones, media players, game devices, and laptops</a:t>
            </a:r>
            <a:endParaRPr b="0" lang="en-US" sz="2700" spc="-1" strike="noStrike">
              <a:solidFill>
                <a:srgbClr val="000000"/>
              </a:solidFill>
              <a:latin typeface="Constantia"/>
            </a:endParaRPr>
          </a:p>
        </p:txBody>
      </p:sp>
      <p:sp>
        <p:nvSpPr>
          <p:cNvPr id="359" name="TextBox 5"/>
          <p:cNvSpPr/>
          <p:nvPr/>
        </p:nvSpPr>
        <p:spPr>
          <a:xfrm>
            <a:off x="762120" y="5029200"/>
            <a:ext cx="8001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tudents need to learn how to use multiple technologies as tools for learning, communication, and participation, both locally and globally.</a:t>
            </a:r>
            <a:endParaRPr b="0" lang="en-US" sz="2600" spc="-1" strike="noStrike">
              <a:solidFill>
                <a:srgbClr val="000000"/>
              </a:solidFill>
              <a:latin typeface="Arial"/>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880"/>
            <a:ext cx="8229600" cy="696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CSS Members Support</a:t>
            </a:r>
            <a:endParaRPr b="0" lang="en-US" sz="3200" spc="-1" strike="noStrike">
              <a:solidFill>
                <a:srgbClr val="04617b"/>
              </a:solidFill>
              <a:latin typeface="Calibri"/>
            </a:endParaRPr>
          </a:p>
        </p:txBody>
      </p:sp>
      <p:sp>
        <p:nvSpPr>
          <p:cNvPr id="361" name=""/>
          <p:cNvSpPr txBox="1"/>
          <p:nvPr/>
        </p:nvSpPr>
        <p:spPr>
          <a:xfrm>
            <a:off x="457200" y="704520"/>
            <a:ext cx="8229600" cy="542124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ttention to studying controversial issues, multicultural and global issu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ater emphasis on integrating technology into the curriculum</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nger linkages of social studies learning to social responsibility and civic action</a:t>
            </a:r>
            <a:endParaRPr b="0" lang="en-US" sz="2400" spc="-1" strike="noStrike">
              <a:solidFill>
                <a:srgbClr val="000000"/>
              </a:solidFill>
              <a:latin typeface="Constantia"/>
            </a:endParaRPr>
          </a:p>
          <a:p>
            <a:pPr marL="272880" indent="-272880">
              <a:lnSpc>
                <a:spcPct val="80000"/>
              </a:lnSpc>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Curriculum Standards Revision Committee hearings, NCSS, Houston, 2008)</a:t>
            </a:r>
            <a:endParaRPr b="0" lang="en-US" sz="13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2400" spc="-1" strike="noStrike">
                <a:solidFill>
                  <a:srgbClr val="000000"/>
                </a:solidFill>
                <a:latin typeface="Constantia"/>
              </a:rPr>
              <a:t>“</a:t>
            </a:r>
            <a:r>
              <a:rPr b="0" lang="en-US" sz="2400" spc="-1" strike="noStrike">
                <a:solidFill>
                  <a:srgbClr val="000000"/>
                </a:solidFill>
                <a:latin typeface="Constantia"/>
              </a:rPr>
              <a:t>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Position Statement on Media Literacy (NCSS, 2009)</a:t>
            </a:r>
            <a:endParaRPr b="0" lang="en-US" sz="13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480"/>
            <a:ext cx="777240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ethodology</a:t>
            </a:r>
            <a:endParaRPr b="0" lang="en-US" sz="2900" spc="-1" strike="noStrike">
              <a:solidFill>
                <a:srgbClr val="04617b"/>
              </a:solidFill>
              <a:latin typeface="Calibri"/>
            </a:endParaRPr>
          </a:p>
        </p:txBody>
      </p:sp>
      <p:pic>
        <p:nvPicPr>
          <p:cNvPr id="363" name="Picture 6" descr="ElemOrigamiWebsite"/>
          <p:cNvPicPr/>
          <p:nvPr/>
        </p:nvPicPr>
        <p:blipFill>
          <a:blip r:embed="rId2"/>
          <a:stretch/>
        </p:blipFill>
        <p:spPr>
          <a:xfrm>
            <a:off x="685800" y="2343240"/>
            <a:ext cx="3809880" cy="2855880"/>
          </a:xfrm>
          <a:prstGeom prst="rect">
            <a:avLst/>
          </a:prstGeom>
          <a:ln w="0">
            <a:noFill/>
          </a:ln>
        </p:spPr>
      </p:pic>
      <p:sp>
        <p:nvSpPr>
          <p:cNvPr id="364" name="PlaceHolder 2"/>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l study of 223 elementary and secondary pre-service teachers in graduate teacher education program (2002-2007)</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up study of 35 secondary social studies pre-service teachers (2008-2009)</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pre-service teachers took Instruction/Technology course prior to Student Teach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838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Initial Findings: K-12 students’ use of technology </a:t>
            </a:r>
            <a:endParaRPr b="0" lang="en-US" sz="2900" spc="-1" strike="noStrike">
              <a:solidFill>
                <a:srgbClr val="04617b"/>
              </a:solidFill>
              <a:latin typeface="Calibri"/>
            </a:endParaRPr>
          </a:p>
        </p:txBody>
      </p:sp>
      <p:sp>
        <p:nvSpPr>
          <p:cNvPr id="366"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fontScale="98000"/>
          </a:bodyPr>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090b"/>
                </a:solidFill>
                <a:latin typeface="Constantia"/>
              </a:rPr>
              <a:t>50% of work samples and reflections documented K-12 students’ use of technology</a:t>
            </a:r>
            <a:r>
              <a:rPr b="0" lang="en-US" sz="1800" spc="-1" strike="noStrike">
                <a:solidFill>
                  <a:srgbClr val="000000"/>
                </a:solidFill>
                <a:latin typeface="Constantia"/>
              </a:rPr>
              <a:t> in creativity and innovation, communication and collaboration, and research and information fluency.  (2002-2007)</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tle evidence that K-12 students used technology to support critical thinking, problem solving, and decision-making. </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chest examples of digital citizenship were seen in social studies work samples  (N=42)</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7" name="Picture 6" descr=""/>
          <p:cNvPicPr/>
          <p:nvPr/>
        </p:nvPicPr>
        <p:blipFill>
          <a:blip r:embed="rId2"/>
          <a:stretch/>
        </p:blipFill>
        <p:spPr>
          <a:xfrm>
            <a:off x="4897440" y="1600200"/>
            <a:ext cx="353844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636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llow-up Study Examines Social Studies Work Samples for  Secondary Students’ Demonstration of </a:t>
            </a:r>
            <a:br>
              <a:rPr sz="2800"/>
            </a:br>
            <a:r>
              <a:rPr b="0" lang="en-US" sz="2800" spc="-1" strike="noStrike">
                <a:solidFill>
                  <a:srgbClr val="04617b"/>
                </a:solidFill>
                <a:latin typeface="Calibri"/>
              </a:rPr>
              <a:t>Digital Citizenship  (2008-2009)</a:t>
            </a:r>
            <a:endParaRPr b="0" lang="en-US" sz="2800" spc="-1" strike="noStrike">
              <a:solidFill>
                <a:srgbClr val="04617b"/>
              </a:solidFill>
              <a:latin typeface="Calibri"/>
            </a:endParaRPr>
          </a:p>
        </p:txBody>
      </p:sp>
      <p:sp>
        <p:nvSpPr>
          <p:cNvPr id="369" name=""/>
          <p:cNvSpPr txBox="1"/>
          <p:nvPr/>
        </p:nvSpPr>
        <p:spPr>
          <a:xfrm>
            <a:off x="457200" y="1911240"/>
            <a:ext cx="8229600" cy="4214880"/>
          </a:xfrm>
          <a:prstGeom prst="rect">
            <a:avLst/>
          </a:prstGeom>
          <a:noFill/>
          <a:ln w="0">
            <a:noFill/>
          </a:ln>
        </p:spPr>
        <p:txBody>
          <a:bodyPr lIns="90000" rIns="90000" tIns="46800" bIns="46800" anchor="t">
            <a:normAutofit fontScale="92000"/>
          </a:bodyPr>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0" lang="en-US" sz="2800" spc="-1" strike="noStrike">
                <a:solidFill>
                  <a:srgbClr val="000000"/>
                </a:solidFill>
                <a:latin typeface="Constantia"/>
              </a:rPr>
              <a:t>) Responsible citizens are informed; they are able to access, research, manage, evaluate and use information.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 Informed citizens understand complex public issues and diverse perspectiv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 Competent citizens think critically and creatively, evaluate and make informed decision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 Effective citizens communicate with diverse audienc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5) Committed citizens work collaboratively to solve problems.</a:t>
            </a:r>
            <a:endParaRPr b="0" lang="en-US" sz="2800" spc="-1" strike="noStrike">
              <a:solidFill>
                <a:srgbClr val="000000"/>
              </a:solidFill>
              <a:latin typeface="Constantia"/>
            </a:endParaRPr>
          </a:p>
          <a:p>
            <a:pPr marL="250920" indent="-250920">
              <a:lnSpc>
                <a:spcPct val="8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Findings from Secondary Social Studies Work Samples (N=47)</a:t>
            </a:r>
            <a:endParaRPr b="0" lang="en-US" sz="32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	</a:t>
            </a:r>
            <a:r>
              <a:rPr b="1" lang="en-US" sz="2600" spc="-1" strike="noStrike">
                <a:solidFill>
                  <a:srgbClr val="04617b"/>
                </a:solidFill>
                <a:latin typeface="Constantia"/>
              </a:rPr>
              <a:t>1. Responsible citizens are informed: able to access, research, manage, evaluate &amp; us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primary 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women in ancient Ro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ratic Seminar on revolu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torical data on lynch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oral college map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8906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4617b"/>
              </a:solidFill>
              <a:latin typeface="Calibri"/>
            </a:endParaRPr>
          </a:p>
        </p:txBody>
      </p:sp>
      <p:sp>
        <p:nvSpPr>
          <p:cNvPr id="373" name=""/>
          <p:cNvSpPr txBox="1"/>
          <p:nvPr/>
        </p:nvSpPr>
        <p:spPr>
          <a:xfrm>
            <a:off x="457200" y="1797120"/>
            <a:ext cx="8229600" cy="4309920"/>
          </a:xfrm>
          <a:prstGeom prst="rect">
            <a:avLst/>
          </a:prstGeom>
          <a:noFill/>
          <a:ln w="0">
            <a:noFill/>
          </a:ln>
        </p:spPr>
        <p:txBody>
          <a:bodyPr lIns="90000" rIns="90000" tIns="46800" bIns="46800" anchor="t">
            <a:normAutofit fontScale="96000"/>
          </a:bodyPr>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 and Video Clip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lyrics from 1920’s, 1960’s, contemporary rap</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ss online digital video libraries: Kennedy-Nixon debates, Harlem Renaissance, New deal, election campaigns of 1964-2004.</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dcast on 19</a:t>
            </a:r>
            <a:r>
              <a:rPr b="0" lang="en-US" sz="2400" spc="-1" strike="noStrike" baseline="30000">
                <a:solidFill>
                  <a:srgbClr val="000000"/>
                </a:solidFill>
                <a:latin typeface="Constantia"/>
              </a:rPr>
              <a:t>th</a:t>
            </a:r>
            <a:r>
              <a:rPr b="0" lang="en-US" sz="2400" spc="-1" strike="noStrike">
                <a:solidFill>
                  <a:srgbClr val="000000"/>
                </a:solidFill>
                <a:latin typeface="Constantia"/>
              </a:rPr>
              <a:t> century reform movements</a:t>
            </a:r>
            <a:endParaRPr b="0" lang="en-US" sz="2400" spc="-1" strike="noStrike">
              <a:solidFill>
                <a:srgbClr val="000000"/>
              </a:solidFill>
              <a:latin typeface="Constantia"/>
            </a:endParaRPr>
          </a:p>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age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photos of U.S. southwest, Central American cultures; political and historical cartoons, consumer ads, interactive map activities—Google Earth</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4" name="Rectangle 3"/>
          <p:cNvSpPr/>
          <p:nvPr/>
        </p:nvSpPr>
        <p:spPr>
          <a:xfrm>
            <a:off x="768240" y="873000"/>
            <a:ext cx="751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4617b"/>
                </a:solidFill>
                <a:latin typeface="Arial"/>
              </a:rPr>
              <a:t>1. Responsible citizens are informed: able to access, research, manage, evaluate, and use in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3:03:59Z</dcterms:created>
  <dc:creator>Gayle Thieman</dc:creator>
  <dc:description/>
  <dc:language>en-US</dc:language>
  <cp:lastModifiedBy>Gayle Thieman</cp:lastModifiedBy>
  <dcterms:modified xsi:type="dcterms:W3CDTF">2009-11-19T23:18:13Z</dcterms:modified>
  <cp:revision>32</cp:revision>
  <dc:subject/>
  <dc:title>Emerging Trends in Digital Citizenship &amp; Web 2.0 in Pre-Service Teacher Education</dc:title>
</cp:coreProperties>
</file>