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B18CE-FD82-4CC5-A701-A8A2E783DEAE}"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ADB5C5-A094-48D2-87C5-80E05832F03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s created digital archives to organize resour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s created web-quests to assist with students’ research</a:t>
            </a: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D4E663-6EB7-4FB5-8125-F6B29E7FA9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nternational Society for Technology in Education (ISTE) developed technology standards for teachers and students which inform expectations for citizenship skills in a digital age.  The National Educational Technology Standards for Students: The Next Generation (ISTE 2007) reflect a growing consensus that the digital world requires students who can use technology as a tool for research, to think critically and creatively, construct knowledge, communicate and work collaboratively, and use information to problem solve and make decisions.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rtnership for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s (2007) also developed student outcomes, which represent the skills, knowledge, and expertise students should master for success in 21</a:t>
            </a:r>
            <a:r>
              <a:rPr b="0" lang="en-US" sz="1200" spc="-1" strike="noStrike" baseline="30000">
                <a:solidFill>
                  <a:srgbClr val="000000"/>
                </a:solidFill>
                <a:latin typeface="Calibri"/>
              </a:rPr>
              <a:t>st</a:t>
            </a:r>
            <a:r>
              <a:rPr b="0" lang="en-US" sz="1200" spc="-1" strike="noStrike">
                <a:solidFill>
                  <a:srgbClr val="000000"/>
                </a:solidFill>
                <a:latin typeface="Calibri"/>
              </a:rPr>
              <a:t> century work and life.  In addition to core academic subjects, the Framework for 21</a:t>
            </a:r>
            <a:r>
              <a:rPr b="0" lang="en-US" sz="1200" spc="-1" strike="noStrike" baseline="30000">
                <a:solidFill>
                  <a:srgbClr val="000000"/>
                </a:solidFill>
                <a:latin typeface="Calibri"/>
              </a:rPr>
              <a:t>st</a:t>
            </a:r>
            <a:r>
              <a:rPr b="0" lang="en-US" sz="1200" spc="-1" strike="noStrike">
                <a:solidFill>
                  <a:srgbClr val="000000"/>
                </a:solidFill>
                <a:latin typeface="Calibri"/>
              </a:rPr>
              <a:t> Century Learning suggests interdisciplinary themes, which are especially relevant for citizenship skills. Civic Literacy emphasizes effective participation in civic life by staying informed and understanding governmental processes, exercising the rights and obligations of citizenship at local, state, national and global levels, and understanding the local and global implications of civic decisions.  The Framework for 21</a:t>
            </a:r>
            <a:r>
              <a:rPr b="0" lang="en-US" sz="1200" spc="-1" strike="noStrike" baseline="30000">
                <a:solidFill>
                  <a:srgbClr val="000000"/>
                </a:solidFill>
                <a:latin typeface="Calibri"/>
              </a:rPr>
              <a:t>st</a:t>
            </a:r>
            <a:r>
              <a:rPr b="0" lang="en-US" sz="1200" spc="-1" strike="noStrike">
                <a:solidFill>
                  <a:srgbClr val="000000"/>
                </a:solidFill>
                <a:latin typeface="Calibri"/>
              </a:rPr>
              <a:t> Century Learning also incorporates technology into “Learning and Innovation Skills”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vic Mission of Schools (2003) describes goals for civic education. These goals suggest that competent and responsible citizens are informed and thoughtful. Citizens also understand public and community issues, are able to obtain information, think critically, and are willing to enter into dialogue with others and understand diverse perspectives.  Citizens act politically by organizing to address social issues, solve problems in groups, speak in public, petition, protest, and vote. Furthermore,</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being an engaged and effective citizen today requires reading, writing, and mathematical skills; the ability to understand complex issues (which sometimes have scientific or economic dimensions); </a:t>
            </a:r>
            <a:r>
              <a:rPr b="0" i="1" lang="en-US" sz="1200" spc="-1" strike="noStrike">
                <a:solidFill>
                  <a:srgbClr val="000000"/>
                </a:solidFill>
                <a:latin typeface="Calibri"/>
              </a:rPr>
              <a:t>knowledge of computers and the Internet</a:t>
            </a:r>
            <a:r>
              <a:rPr b="0" lang="en-US" sz="1200" spc="-1" strike="noStrike">
                <a:solidFill>
                  <a:srgbClr val="000000"/>
                </a:solidFill>
                <a:latin typeface="Calibri"/>
              </a:rPr>
              <a:t> [italics added]; and the ability to talk with people from different backgrounds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Partnership for 21</a:t>
            </a:r>
            <a:r>
              <a:rPr b="0" lang="en-US" sz="1800" spc="-1" strike="noStrike" baseline="30000">
                <a:solidFill>
                  <a:srgbClr val="000000"/>
                </a:solidFill>
                <a:latin typeface="Calibri"/>
              </a:rPr>
              <a:t>st</a:t>
            </a:r>
            <a:r>
              <a:rPr b="0" lang="en-US" sz="1800" spc="-1" strike="noStrike">
                <a:solidFill>
                  <a:srgbClr val="000000"/>
                </a:solidFill>
                <a:latin typeface="Calibri"/>
              </a:rPr>
              <a:t> Century Skills (2007) also developed student outcomes, which represent the skills, knowledge, and expertise students should master for success in 21</a:t>
            </a:r>
            <a:r>
              <a:rPr b="0" lang="en-US" sz="1800" spc="-1" strike="noStrike" baseline="30000">
                <a:solidFill>
                  <a:srgbClr val="000000"/>
                </a:solidFill>
                <a:latin typeface="Calibri"/>
              </a:rPr>
              <a:t>st</a:t>
            </a:r>
            <a:r>
              <a:rPr b="0" lang="en-US" sz="1800" spc="-1" strike="noStrike">
                <a:solidFill>
                  <a:srgbClr val="000000"/>
                </a:solidFill>
                <a:latin typeface="Calibri"/>
              </a:rPr>
              <a:t> century work and life.  In addition to core academic subjects, the Framework for 21</a:t>
            </a:r>
            <a:r>
              <a:rPr b="0" lang="en-US" sz="1800" spc="-1" strike="noStrike" baseline="30000">
                <a:solidFill>
                  <a:srgbClr val="000000"/>
                </a:solidFill>
                <a:latin typeface="Calibri"/>
              </a:rPr>
              <a:t>st</a:t>
            </a:r>
            <a:r>
              <a:rPr b="0" lang="en-US" sz="1800" spc="-1" strike="noStrike">
                <a:solidFill>
                  <a:srgbClr val="000000"/>
                </a:solidFill>
                <a:latin typeface="Calibri"/>
              </a:rPr>
              <a:t> Century Learning suggests interdisciplinary themes, which are especially relevant for citizenship skills. Civic Literacy emphasizes effective participation in civic life by staying informed and understanding governmental processes, exercising the rights and obligations of citizenship at local, state, national and global levels, and understanding the local and global implications of civic decisions.  The Framework for 21</a:t>
            </a:r>
            <a:r>
              <a:rPr b="0" lang="en-US" sz="1800" spc="-1" strike="noStrike" baseline="30000">
                <a:solidFill>
                  <a:srgbClr val="000000"/>
                </a:solidFill>
                <a:latin typeface="Calibri"/>
              </a:rPr>
              <a:t>st</a:t>
            </a:r>
            <a:r>
              <a:rPr b="0" lang="en-US" sz="1800" spc="-1" strike="noStrike">
                <a:solidFill>
                  <a:srgbClr val="000000"/>
                </a:solidFill>
                <a:latin typeface="Calibri"/>
              </a:rPr>
              <a:t> Century Learning also incorporates technology into “Learning and Innovation Skills” </a:t>
            </a:r>
            <a:endParaRPr b="0" lang="en-US" sz="18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C62CEF-9181-4D66-80D5-D68105246F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live in a global age of accelerating change, exponential information growth, and evolving technologies.  While these changes are enabling many youth to become more civically engaged and raising questions about the nature of citizenship and civic participation in a digital age, social studies educators are slow to recognize and respond to such chang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CSS Technology Position Statement and Guidelines  (2006) provide a rationale for integrating technology into social studies instru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CSS Position Statement on Media Literacy (NCSS, 2009) advocates:  “Social studies educators must provide young people with the awareness and abilities to critically question and create new media and technology, as well as the digital, democratic experiences, necessary to become active participants in the shaping of democrac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CBBDD5-DD93-47BB-87D3-ABA84F6771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42E7D2-B2C0-457D-8E76-F99132441E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 was the cohort leader for 5 of the eight cohorts (2 elementary, 3 secondary)</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ervice teachers were encouraged but not required to implement technology enriched lessons in both their half-time Student Teaching I and subsequent full-time Student Teaching II field experiences. During both field experiences, pre-service teachers completed a work sample which included the classroom context, unit rationale, detailed lesson plans, sample instructional materials, and pre and post K-12 student assessment data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ined work samples and reflections from part time Student Teaching I and full time Student Teaching II.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2BE644-45EA-4154-AFB0-183F29052D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reated innovative products</a:t>
            </a:r>
            <a:endParaRPr b="0" lang="en-US" sz="1200" spc="-1" strike="noStrike">
              <a:solidFill>
                <a:srgbClr val="000000"/>
              </a:solidFill>
              <a:latin typeface="Calibri"/>
            </a:endParaRPr>
          </a:p>
          <a:p>
            <a:pPr marL="228600" indent="-22860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mmunicated and collaborated</a:t>
            </a:r>
            <a:endParaRPr b="0" lang="en-US" sz="1200" spc="-1" strike="noStrike">
              <a:solidFill>
                <a:srgbClr val="000000"/>
              </a:solidFill>
              <a:latin typeface="Calibri"/>
            </a:endParaRPr>
          </a:p>
          <a:p>
            <a:pPr marL="228600" indent="-22860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search &amp; information fluency</a:t>
            </a:r>
            <a:endParaRPr b="0" lang="en-US" sz="1200" spc="-1" strike="noStrike">
              <a:solidFill>
                <a:srgbClr val="000000"/>
              </a:solidFill>
              <a:latin typeface="Calibri"/>
            </a:endParaRPr>
          </a:p>
          <a:p>
            <a:pPr marL="228600" indent="-22860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ritical Thinking and problem-solving</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per examines how pre-service teachers and their secondary students use technology to support five aspects of digital citizenship.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7 work samples from Student Teaching in 2008 and 2009.  13—grades 6-8  and 34—grades 9-1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c secondary schools in medium sized metropolitan area  including urban, suburban, semi-rural districts.  All urban and many suburban districts have high populations of students who are poor, linguistically and racially diverse, and who qualify for special servi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liminary analysis  indicates continuing emphasis on research and information fluency. </a:t>
            </a: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D5D253-50D3-4B50-9462-98D099E9D8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access to information was greatly enhanced by the variety of digital tools which were not readily available when this study began in 2002.  While the digital divide of technology rich and technology poor schools continues to exist within and across the districts in this study, pre-service teachers overcame limitations to engage their students in research.  For many of the topics, the Internet was the only source of information </a:t>
            </a: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1E49FF-BB4B-4B07-9A65-658991FD29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526D9-5D5B-4DCC-9AC4-FBC4195ED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D4F6A-C691-4679-BF0A-B7676D90D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F199A-062E-442B-A306-9E5615A22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5790D-D517-4F73-9ECA-A6942D99F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D83F3-D2D8-4DE8-815E-964007DEA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B3DC8-A923-4918-A9E6-508F4E3B5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7BFCC-4EEB-4C4E-B965-0EBFF217B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561C9-7E63-4085-92E1-BB8456661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004DF-2DC2-4898-90CF-1460EE9A0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14A6C-5B5A-4338-AF55-6198EE2EF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49C19-28F8-4053-A8A9-98190DA11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0CBA3-6945-4E5A-B557-927A310F7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76D9B-1E44-4B11-93AA-1A56FE9A8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768EA-AA32-4FA5-9B19-9F4CAFBB5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FD51C-CAFD-4F05-BF0C-F8A59DA8A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4B9CF2-5E73-42E5-9FE4-B5EB763958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9148AE-FB9B-472C-807B-27048C5ACD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7EFC2A-A3B3-4F01-8834-F32059F27B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A96FB0-90C3-445F-90E4-F38B5D651B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4259F8-AEA7-45B8-A581-96E03ABD23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B5604C-C888-444D-993B-E2D695512F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2015BA-67D4-40C1-8470-79C0615512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C72C2-CD9A-40AE-ACCE-C563C28EC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6EEAE8-B01D-4E23-B8C3-7CEB78AB6F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608C5E-0AE3-4822-8990-3AD17CED9C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32D008-54B6-401F-8A63-82B58F52C4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0F74FC-08F7-4C54-8602-19FAE58A09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58C5E5-2E06-469A-BD8D-2C7657E14E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3577F6-4A4E-4E77-B097-DA596D0788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6E932C-9CB3-46A9-8134-C9490382C8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C032F3-B177-490F-BAEC-70252C49B1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ED9B03-BC0B-4B63-92F6-741C042E81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FAF831-980F-49AA-9F5C-A1E276C784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EB71D-2D1A-48DE-B217-30198B416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A0C1A4-0B9C-4F4A-99E2-6561F62FB2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5C5F76-DAB3-4A1A-B793-005E7B17F6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C7AFD5-6EF7-48B3-99D5-CACBCC491C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8F737E-2434-426F-ABFC-F4C5EA14C6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F97558-2B98-48E4-81A6-DC0EE9CFB9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4317B7-8D11-44EE-8382-50C547F5C7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048008-C82A-428A-8425-380258E5BA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7C287D-775E-4208-B4F4-C520BF2D58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57D656-3C7B-439B-AE47-9DDC63EF02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7317B5-7B17-466F-A08C-39DD954FF1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FA79F-B89E-41A3-8D5E-26A64457C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24EEAC-DC34-4896-8E3A-2A0FA93597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DEF53B-FBEF-4700-B025-E8E17E995A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2112CD-114B-497C-AE59-2F8A9D0810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9D846F-F271-4118-9F09-9AD20FC03B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6A9480-2228-4856-9002-1991A48B03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BA607F-E53E-42A9-A5DE-81E794C1AF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2D8246-EFCA-423A-961D-20D7D0A646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7A5198-D8CA-4BF5-8BC6-C7A1852901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53DD4F-6A4B-4BBF-A178-34416F63DE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D20AD5-DB1F-4811-8D2C-FE2F6B16EF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580D9-CCBE-4BFC-BDD5-FD2A2EC10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41BC00-54D6-44D1-AFCB-F50B075EDB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9268A4-9F62-43FB-A287-BD1507F5DE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70B68C-C91E-4DE7-82BF-3692B7C726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623104-72AA-47D8-B5B0-78EB9790C1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4ECBCB-3D04-4B3C-9F4D-E8336DF32C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A68320-9007-4CBC-B57A-7AEF53D850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09D1D5-B76A-49F3-AB2D-D5AD1B0F00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469D80-6048-49A9-B669-820ECD3625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B433D4-3029-430C-BC1E-5FA96E4D4D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B47D8C-AE95-4822-A3BA-1BF1829AD6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6D91D-1D11-4668-BFD0-67006E076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F04AED-E50A-4DAA-B3DA-972F9382E2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4CF7DE-50E8-47DF-A8D8-97E0C2628E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E7A7F3-5AEE-49A2-9258-3D2779460E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3ECE9B-2881-4C6D-999E-6E16D0F7E5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CE96B1-FF18-415A-8E6B-129067B005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F9555B-0BF9-4EDE-A72B-20578F5591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1E2BF3-55AB-49EE-9871-79308F8E62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99AA15-9E4D-4BFC-85E2-68BDF9ED06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BF5469-343F-4E54-A8A1-AFF83882AB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88206A-F19D-4AA1-ACF3-7E03B1F132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F062B-96A5-47E7-8A2F-AB627F9A0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A9317C-B44C-4BAA-BF6D-0C5CBD3A6B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521094-AEF2-4690-B076-6E9C7BA58D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EEC7F9-D80C-4C96-A19C-8EF4109251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584F03-9958-4EAD-BCEC-F174FA29E1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D112CF-208B-4E90-8BBB-B29AC32DD8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182B9-03A6-4EE9-88C9-E3C3FE680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FAA9F5-5D6A-47AB-B02A-AE420EE44C19}"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A292E3-8A83-40BF-BC45-2790E8658FD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D1C65F-C740-4C4B-9147-FDDA542A7EE0}"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5CF2B0-0AD0-410F-A3DC-918F1DC48CD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4E54AA-BE5B-4C70-A168-006C31669AB3}"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089FE1-2A68-4C3A-85C0-39C0156C71F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3A41E-4F21-4319-8BCA-17A4F766D69A}"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58A555-1DA4-4B00-AD30-8CE4F3F19D9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201" name="Freeform 12"/>
            <p:cNvGrpSpPr/>
            <p:nvPr/>
          </p:nvGrpSpPr>
          <p:grpSpPr>
            <a:xfrm>
              <a:off x="-19080" y="248040"/>
              <a:ext cx="9181080" cy="565200"/>
              <a:chOff x="-19080" y="248040"/>
              <a:chExt cx="9181080" cy="565200"/>
            </a:xfrm>
          </p:grpSpPr>
          <p:pic>
            <p:nvPicPr>
              <p:cNvPr id="202" name="Freeform 12" descr=""/>
              <p:cNvPicPr/>
              <p:nvPr/>
            </p:nvPicPr>
            <p:blipFill>
              <a:blip r:embed="rId4"/>
              <a:stretch/>
            </p:blipFill>
            <p:spPr>
              <a:xfrm>
                <a:off x="-3240" y="248040"/>
                <a:ext cx="9165240" cy="565200"/>
              </a:xfrm>
              <a:prstGeom prst="rect">
                <a:avLst/>
              </a:prstGeom>
              <a:ln w="0">
                <a:noFill/>
              </a:ln>
            </p:spPr>
          </p:pic>
          <p:sp>
            <p:nvSpPr>
              <p:cNvPr id="2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2B677E-901A-4616-A7CF-7867DE47D04E}"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143CE5-0655-47A3-BB16-42D29082A29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62720" cy="648000"/>
              <a:chOff x="-19080" y="203040"/>
              <a:chExt cx="9162720" cy="648000"/>
            </a:xfrm>
          </p:grpSpPr>
          <p:pic>
            <p:nvPicPr>
              <p:cNvPr id="249" name="Freeform 11"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251" name="Freeform 12"/>
            <p:cNvGrpSpPr/>
            <p:nvPr/>
          </p:nvGrpSpPr>
          <p:grpSpPr>
            <a:xfrm>
              <a:off x="-19080" y="248040"/>
              <a:ext cx="9181080" cy="565200"/>
              <a:chOff x="-19080" y="248040"/>
              <a:chExt cx="9181080" cy="565200"/>
            </a:xfrm>
          </p:grpSpPr>
          <p:pic>
            <p:nvPicPr>
              <p:cNvPr id="252" name="Freeform 12" descr=""/>
              <p:cNvPicPr/>
              <p:nvPr/>
            </p:nvPicPr>
            <p:blipFill>
              <a:blip r:embed="rId4"/>
              <a:stretch/>
            </p:blipFill>
            <p:spPr>
              <a:xfrm>
                <a:off x="-3240" y="248040"/>
                <a:ext cx="9165240" cy="565200"/>
              </a:xfrm>
              <a:prstGeom prst="rect">
                <a:avLst/>
              </a:prstGeom>
              <a:ln w="0">
                <a:noFill/>
              </a:ln>
            </p:spPr>
          </p:pic>
          <p:sp>
            <p:nvSpPr>
              <p:cNvPr id="25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DC61FA-B179-4583-B6E2-84D52783269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97" name="Group 1"/>
          <p:cNvGrpSpPr/>
          <p:nvPr/>
        </p:nvGrpSpPr>
        <p:grpSpPr>
          <a:xfrm>
            <a:off x="-19080" y="203040"/>
            <a:ext cx="9181080" cy="648000"/>
            <a:chOff x="-19080" y="203040"/>
            <a:chExt cx="9181080" cy="648000"/>
          </a:xfrm>
        </p:grpSpPr>
        <p:grpSp>
          <p:nvGrpSpPr>
            <p:cNvPr id="298" name="Freeform 11"/>
            <p:cNvGrpSpPr/>
            <p:nvPr/>
          </p:nvGrpSpPr>
          <p:grpSpPr>
            <a:xfrm>
              <a:off x="-19080" y="203040"/>
              <a:ext cx="9162720" cy="648000"/>
              <a:chOff x="-19080" y="203040"/>
              <a:chExt cx="9162720" cy="648000"/>
            </a:xfrm>
          </p:grpSpPr>
          <p:pic>
            <p:nvPicPr>
              <p:cNvPr id="299" name="Freeform 11" descr=""/>
              <p:cNvPicPr/>
              <p:nvPr/>
            </p:nvPicPr>
            <p:blipFill>
              <a:blip r:embed="rId3"/>
              <a:stretch/>
            </p:blipFill>
            <p:spPr>
              <a:xfrm>
                <a:off x="3960" y="203040"/>
                <a:ext cx="9139680" cy="648000"/>
              </a:xfrm>
              <a:prstGeom prst="rect">
                <a:avLst/>
              </a:prstGeom>
              <a:ln w="0">
                <a:noFill/>
              </a:ln>
            </p:spPr>
          </p:pic>
          <p:sp>
            <p:nvSpPr>
              <p:cNvPr id="3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301" name="Freeform 12"/>
            <p:cNvGrpSpPr/>
            <p:nvPr/>
          </p:nvGrpSpPr>
          <p:grpSpPr>
            <a:xfrm>
              <a:off x="-19080" y="248040"/>
              <a:ext cx="9181080" cy="565200"/>
              <a:chOff x="-19080" y="248040"/>
              <a:chExt cx="9181080" cy="565200"/>
            </a:xfrm>
          </p:grpSpPr>
          <p:pic>
            <p:nvPicPr>
              <p:cNvPr id="302" name="Freeform 12" descr=""/>
              <p:cNvPicPr/>
              <p:nvPr/>
            </p:nvPicPr>
            <p:blipFill>
              <a:blip r:embed="rId4"/>
              <a:stretch/>
            </p:blipFill>
            <p:spPr>
              <a:xfrm>
                <a:off x="-3240" y="248040"/>
                <a:ext cx="9165240" cy="565200"/>
              </a:xfrm>
              <a:prstGeom prst="rect">
                <a:avLst/>
              </a:prstGeom>
              <a:ln w="0">
                <a:noFill/>
              </a:ln>
            </p:spPr>
          </p:pic>
          <p:sp>
            <p:nvSpPr>
              <p:cNvPr id="3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8"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6FCD17-D45A-4744-A963-70B0B26D105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Title 1" descr=""/>
          <p:cNvPicPr/>
          <p:nvPr/>
        </p:nvPicPr>
        <p:blipFill>
          <a:blip r:embed="rId2"/>
          <a:stretch/>
        </p:blipFill>
        <p:spPr>
          <a:xfrm>
            <a:off x="639720" y="884160"/>
            <a:ext cx="7821720" cy="3389400"/>
          </a:xfrm>
          <a:prstGeom prst="rect">
            <a:avLst/>
          </a:prstGeom>
          <a:ln w="0">
            <a:noFill/>
          </a:ln>
        </p:spPr>
      </p:pic>
      <p:sp>
        <p:nvSpPr>
          <p:cNvPr id="353" name="PlaceHolder 1"/>
          <p:cNvSpPr>
            <a:spLocks noGrp="1"/>
          </p:cNvSpPr>
          <p:nvPr>
            <p:ph type="subTitle"/>
          </p:nvPr>
        </p:nvSpPr>
        <p:spPr>
          <a:xfrm>
            <a:off x="533160" y="4766760"/>
            <a:ext cx="7854840" cy="1319400"/>
          </a:xfrm>
          <a:prstGeom prst="rect">
            <a:avLst/>
          </a:prstGeom>
          <a:noFill/>
          <a:ln w="0">
            <a:noFill/>
          </a:ln>
        </p:spPr>
        <p:txBody>
          <a:bodyPr lIns="0" rIns="1836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Gayle Y. Thieman, Ed. D. </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ortland State University  </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NCSS-CUFA  11/11/09</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880"/>
            <a:ext cx="8229600" cy="1208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2. Informed citizens understand complex public issues and diverse perspectives</a:t>
            </a:r>
            <a:endParaRPr b="0" lang="en-US" sz="2800" spc="-1" strike="noStrike">
              <a:solidFill>
                <a:srgbClr val="04617b"/>
              </a:solidFill>
              <a:latin typeface="Calibri"/>
            </a:endParaRPr>
          </a:p>
        </p:txBody>
      </p:sp>
      <p:sp>
        <p:nvSpPr>
          <p:cNvPr id="376" name=""/>
          <p:cNvSpPr txBox="1"/>
          <p:nvPr/>
        </p:nvSpPr>
        <p:spPr>
          <a:xfrm>
            <a:off x="457200" y="1912680"/>
            <a:ext cx="8229600" cy="4653000"/>
          </a:xfrm>
          <a:prstGeom prst="rect">
            <a:avLst/>
          </a:prstGeom>
          <a:noFill/>
          <a:ln w="0">
            <a:noFill/>
          </a:ln>
        </p:spPr>
        <p:txBody>
          <a:bodyPr lIns="90000" rIns="90000" tIns="46800" bIns="46800" anchor="t">
            <a:normAutofit fontScale="93000"/>
          </a:bodyPr>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parison and contrast, multiple perspectives</a:t>
            </a:r>
            <a:endParaRPr b="0" lang="en-US" sz="28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bama economic stimulus plan &amp; New Deal policies</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 &amp; U.S.S.R. Cold War propaganda</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xis versus Allied perspectives during World War II</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LK “I Have a Dream Speech” &amp; Obama speech on race</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rthern and southern perspectives prior to Civil War—quotes from former slaves, historic figures &amp; legislation</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rta Portal accounts to organize digital resources &amp; facilitate students’ research</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Web-Quests on abolitionist movement &amp; contemporary social justice issues</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3. Competent citizens think critically &amp; creatively, evaluate &amp; make informed decisions</a:t>
            </a:r>
            <a:endParaRPr b="0" lang="en-US" sz="3200" spc="-1" strike="noStrike">
              <a:solidFill>
                <a:srgbClr val="04617b"/>
              </a:solidFill>
              <a:latin typeface="Calibri"/>
            </a:endParaRPr>
          </a:p>
        </p:txBody>
      </p:sp>
      <p:sp>
        <p:nvSpPr>
          <p:cNvPr id="37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aph Chinese government policy over time  to illustrate ideological vs. pragmatic orientation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ite “I am from” poems from African American perspective—GI returning home to Jim Crow and racism; female  Liberty Ship worker fired to make way for returning soldier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ined digital photos of historic sites &amp; created dough art replica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ed newsletter, artwork, poetry from perspective of Japanese interne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ed civil war personality and “My America Facepage” from avatar’s perspectiv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4. Effective Citizens Communicate with Diverse Audiences</a:t>
            </a:r>
            <a:endParaRPr b="0" lang="en-US" sz="3200" spc="-1" strike="noStrike">
              <a:solidFill>
                <a:srgbClr val="04617b"/>
              </a:solidFill>
              <a:latin typeface="Calibri"/>
            </a:endParaRPr>
          </a:p>
        </p:txBody>
      </p:sp>
      <p:sp>
        <p:nvSpPr>
          <p:cNvPr id="38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om interviews and  traditional letters to digital emails &amp; wiki posting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viewed family members about reform move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ote letters to Presidents Bush &amp; Fox re: problems in Mexic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ote letters to Senators re:  US immigration policy; Representatives re: Economic Stimulus Ac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s created wiki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5. Committed citizens work collaboratively to solve problems.</a:t>
            </a:r>
            <a:endParaRPr b="0" lang="en-US" sz="3200" spc="-1" strike="noStrike">
              <a:solidFill>
                <a:srgbClr val="04617b"/>
              </a:solidFill>
              <a:latin typeface="Calibri"/>
            </a:endParaRPr>
          </a:p>
        </p:txBody>
      </p:sp>
      <p:sp>
        <p:nvSpPr>
          <p:cNvPr id="382"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operative learning groups on a variety of topics</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hared their knowledge through role plays, skits, simulations, multimedia presentations, web-quests.</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No students used collaborative digital tools, e.g., Google docs or international projects,  I-Earn</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eachers selected problems or issues to reflect state or district curriculum standards</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tudents’ conclusions communicated only to the teacher or fellow classmat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680"/>
            <a:ext cx="8229600" cy="752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Continuing Challenges</a:t>
            </a:r>
            <a:endParaRPr b="0" lang="en-US" sz="3200" spc="-1" strike="noStrike">
              <a:solidFill>
                <a:srgbClr val="04617b"/>
              </a:solidFill>
              <a:latin typeface="Calibri"/>
            </a:endParaRPr>
          </a:p>
        </p:txBody>
      </p:sp>
      <p:sp>
        <p:nvSpPr>
          <p:cNvPr id="384" name=""/>
          <p:cNvSpPr txBox="1"/>
          <p:nvPr/>
        </p:nvSpPr>
        <p:spPr>
          <a:xfrm>
            <a:off x="457200" y="1398600"/>
            <a:ext cx="8229600" cy="469440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more adept at social use of emerging technologies than for academic or civic purpos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gital divide between technologically rich and poor schools and student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gital disconnect between  tech savvy students and tech phobic teachers (Friedman and Hicks, 2006)</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required to “power down” when they  enter the classroom (O’Brien 2008)</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ew connections between students’ online activity and civic matter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eed to better integrate social and public worlds of young people online  (Bennett, 2008)</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urpose</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do pre-service teachers in a graduate teacher education program engage secondary students in digital citizenship to support critical thinking, communication, collaboration, and creative problem solving?</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 year study of student teaching work sample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xamined lessons through lens of National Educational Technology Standards-Students (ISTE, 2007) Partnership for 21</a:t>
            </a:r>
            <a:r>
              <a:rPr b="0" lang="en-US" sz="2600" spc="-1" strike="noStrike" baseline="30000">
                <a:solidFill>
                  <a:srgbClr val="000000"/>
                </a:solidFill>
                <a:latin typeface="Constantia"/>
              </a:rPr>
              <a:t>st</a:t>
            </a:r>
            <a:r>
              <a:rPr b="0" lang="en-US" sz="2600" spc="-1" strike="noStrike">
                <a:solidFill>
                  <a:srgbClr val="000000"/>
                </a:solidFill>
                <a:latin typeface="Constantia"/>
              </a:rPr>
              <a:t> Century Skills (2007), and Civic Mission of Schools  (2003)</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971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Digital Divide vs. Digital Disconnect</a:t>
            </a:r>
            <a:endParaRPr b="0" lang="en-US" sz="4500" spc="-1" strike="noStrike">
              <a:solidFill>
                <a:srgbClr val="04617b"/>
              </a:solidFill>
              <a:latin typeface="Calibri"/>
            </a:endParaRPr>
          </a:p>
        </p:txBody>
      </p:sp>
      <p:sp>
        <p:nvSpPr>
          <p:cNvPr id="357" name=""/>
          <p:cNvSpPr txBox="1"/>
          <p:nvPr/>
        </p:nvSpPr>
        <p:spPr>
          <a:xfrm>
            <a:off x="533520" y="1980720"/>
            <a:ext cx="4038480" cy="259092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achers cite K-12 students’ lack of technology at home or schools as a barrier to incorporating technology into their lessons</a:t>
            </a:r>
            <a:endParaRPr b="0" lang="en-US" sz="2600" spc="-1" strike="noStrike">
              <a:solidFill>
                <a:srgbClr val="000000"/>
              </a:solidFill>
              <a:latin typeface="Constantia"/>
            </a:endParaRPr>
          </a:p>
        </p:txBody>
      </p:sp>
      <p:sp>
        <p:nvSpPr>
          <p:cNvPr id="358" name=""/>
          <p:cNvSpPr txBox="1"/>
          <p:nvPr/>
        </p:nvSpPr>
        <p:spPr>
          <a:xfrm>
            <a:off x="4648320" y="1934640"/>
            <a:ext cx="4038480" cy="2117880"/>
          </a:xfrm>
          <a:prstGeom prst="rect">
            <a:avLst/>
          </a:prstGeom>
          <a:noFill/>
          <a:ln w="0">
            <a:noFill/>
          </a:ln>
        </p:spPr>
        <p:txBody>
          <a:bodyPr lIns="90000" rIns="90000" tIns="46800" bIns="46800" anchor="t">
            <a:normAutofit/>
          </a:bodyPr>
          <a:p>
            <a:pPr marL="272880" indent="-27288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Yet more students are coming to school with cell phones, media players, game devices, and laptops</a:t>
            </a:r>
            <a:endParaRPr b="0" lang="en-US" sz="2700" spc="-1" strike="noStrike">
              <a:solidFill>
                <a:srgbClr val="000000"/>
              </a:solidFill>
              <a:latin typeface="Constantia"/>
            </a:endParaRPr>
          </a:p>
        </p:txBody>
      </p:sp>
      <p:sp>
        <p:nvSpPr>
          <p:cNvPr id="359" name="TextBox 5"/>
          <p:cNvSpPr/>
          <p:nvPr/>
        </p:nvSpPr>
        <p:spPr>
          <a:xfrm>
            <a:off x="762120" y="5029200"/>
            <a:ext cx="80010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nstantia"/>
              </a:rPr>
              <a:t>Students need to learn how to use multiple technologies as tools for learning, communication, and participation, both locally and globally.</a:t>
            </a:r>
            <a:endParaRPr b="0" lang="en-US" sz="2600" spc="-1" strike="noStrike">
              <a:solidFill>
                <a:srgbClr val="000000"/>
              </a:solidFill>
              <a:latin typeface="Arial"/>
            </a:endParaRPr>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704880"/>
            <a:ext cx="8229600" cy="696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NCSS Members Support</a:t>
            </a:r>
            <a:endParaRPr b="0" lang="en-US" sz="3200" spc="-1" strike="noStrike">
              <a:solidFill>
                <a:srgbClr val="04617b"/>
              </a:solidFill>
              <a:latin typeface="Calibri"/>
            </a:endParaRPr>
          </a:p>
        </p:txBody>
      </p:sp>
      <p:sp>
        <p:nvSpPr>
          <p:cNvPr id="361" name=""/>
          <p:cNvSpPr txBox="1"/>
          <p:nvPr/>
        </p:nvSpPr>
        <p:spPr>
          <a:xfrm>
            <a:off x="457200" y="704520"/>
            <a:ext cx="8229600" cy="542124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 attention to studying controversial issues, multicultural and global issue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eater emphasis on integrating technology into the curriculum</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ronger linkages of social studies learning to social responsibility and civic action</a:t>
            </a:r>
            <a:endParaRPr b="0" lang="en-US" sz="2400" spc="-1" strike="noStrike">
              <a:solidFill>
                <a:srgbClr val="000000"/>
              </a:solidFill>
              <a:latin typeface="Constantia"/>
            </a:endParaRPr>
          </a:p>
          <a:p>
            <a:pPr marL="272880" indent="-272880">
              <a:lnSpc>
                <a:spcPct val="80000"/>
              </a:lnSpc>
              <a:spcBef>
                <a:spcPts val="2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r>
              <a:rPr b="0" lang="en-US" sz="1300" spc="-1" strike="noStrike">
                <a:solidFill>
                  <a:srgbClr val="000000"/>
                </a:solidFill>
                <a:latin typeface="Constantia"/>
              </a:rPr>
              <a:t>(NCSS Curriculum Standards Revision Committee hearings, NCSS, Houston, 2008)</a:t>
            </a:r>
            <a:endParaRPr b="0" lang="en-US" sz="1300" spc="-1" strike="noStrike">
              <a:solidFill>
                <a:srgbClr val="000000"/>
              </a:solidFill>
              <a:latin typeface="Constantia"/>
            </a:endParaRPr>
          </a:p>
          <a:p>
            <a:pPr marL="272880" indent="-2728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	</a:t>
            </a:r>
            <a:r>
              <a:rPr b="0" lang="en-US" sz="2400" spc="-1" strike="noStrike">
                <a:solidFill>
                  <a:srgbClr val="000000"/>
                </a:solidFill>
                <a:latin typeface="Constantia"/>
              </a:rPr>
              <a:t>“</a:t>
            </a:r>
            <a:r>
              <a:rPr b="0" lang="en-US" sz="2400" spc="-1" strike="noStrike">
                <a:solidFill>
                  <a:srgbClr val="000000"/>
                </a:solidFill>
                <a:latin typeface="Constantia"/>
              </a:rPr>
              <a:t>Social studies educators must provide young people with the awareness and abilities to critically question and create new media and technology, as well as the digital, democratic experiences, necessary to become active participants in the shaping of democracy”. </a:t>
            </a:r>
            <a:endParaRPr b="0" lang="en-US" sz="24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r>
              <a:rPr b="0" lang="en-US" sz="1300" spc="-1" strike="noStrike">
                <a:solidFill>
                  <a:srgbClr val="000000"/>
                </a:solidFill>
                <a:latin typeface="Constantia"/>
              </a:rPr>
              <a:t>NCSS Position Statement on Media Literacy (NCSS, 2009)</a:t>
            </a:r>
            <a:endParaRPr b="0" lang="en-US" sz="1300" spc="-1" strike="noStrike">
              <a:solidFill>
                <a:srgbClr val="000000"/>
              </a:solidFill>
              <a:latin typeface="Constant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480"/>
            <a:ext cx="777240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Methodology</a:t>
            </a:r>
            <a:endParaRPr b="0" lang="en-US" sz="2900" spc="-1" strike="noStrike">
              <a:solidFill>
                <a:srgbClr val="04617b"/>
              </a:solidFill>
              <a:latin typeface="Calibri"/>
            </a:endParaRPr>
          </a:p>
        </p:txBody>
      </p:sp>
      <p:pic>
        <p:nvPicPr>
          <p:cNvPr id="363" name="Picture 6" descr="ElemOrigamiWebsite"/>
          <p:cNvPicPr/>
          <p:nvPr/>
        </p:nvPicPr>
        <p:blipFill>
          <a:blip r:embed="rId2"/>
          <a:stretch/>
        </p:blipFill>
        <p:spPr>
          <a:xfrm>
            <a:off x="685800" y="2343240"/>
            <a:ext cx="3809880" cy="2855880"/>
          </a:xfrm>
          <a:prstGeom prst="rect">
            <a:avLst/>
          </a:prstGeom>
          <a:ln w="0">
            <a:noFill/>
          </a:ln>
        </p:spPr>
      </p:pic>
      <p:sp>
        <p:nvSpPr>
          <p:cNvPr id="364" name="PlaceHolder 2"/>
          <p:cNvSpPr>
            <a:spLocks noGrp="1"/>
          </p:cNvSpPr>
          <p:nvPr>
            <p:ph/>
          </p:nvPr>
        </p:nvSpPr>
        <p:spPr>
          <a:xfrm>
            <a:off x="4647960" y="1294920"/>
            <a:ext cx="3809880" cy="48006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itial study of 223 elementary and secondary pre-service teachers in graduate teacher education program (2002-2007)</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llow up study of 35 secondary social studies pre-service teachers (2008-2009)</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 pre-service teachers took Instruction/Technology course prior to Student Teachi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8384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4617b"/>
                </a:solidFill>
                <a:latin typeface="Calibri"/>
              </a:rPr>
              <a:t>Initial Findings: K-12 students’ use of technology </a:t>
            </a:r>
            <a:endParaRPr b="0" lang="en-US" sz="2900" spc="-1" strike="noStrike">
              <a:solidFill>
                <a:srgbClr val="04617b"/>
              </a:solidFill>
              <a:latin typeface="Calibri"/>
            </a:endParaRPr>
          </a:p>
        </p:txBody>
      </p:sp>
      <p:sp>
        <p:nvSpPr>
          <p:cNvPr id="366"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fontScale="98000"/>
          </a:bodyPr>
          <a:p>
            <a:pPr marL="267120" indent="-2671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090b"/>
                </a:solidFill>
                <a:latin typeface="Constantia"/>
              </a:rPr>
              <a:t>50% of work samples and reflections documented K-12 students’ use of technology</a:t>
            </a:r>
            <a:r>
              <a:rPr b="0" lang="en-US" sz="1800" spc="-1" strike="noStrike">
                <a:solidFill>
                  <a:srgbClr val="000000"/>
                </a:solidFill>
                <a:latin typeface="Constantia"/>
              </a:rPr>
              <a:t> in creativity and innovation, communication and collaboration, and research and information fluency.  (2002-2007)</a:t>
            </a:r>
            <a:endParaRPr b="0" lang="en-US" sz="1800" spc="-1" strike="noStrike">
              <a:solidFill>
                <a:srgbClr val="000000"/>
              </a:solidFill>
              <a:latin typeface="Constantia"/>
            </a:endParaRPr>
          </a:p>
          <a:p>
            <a:pPr marL="26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ittle evidence that K-12 students used technology to support critical thinking, problem solving, and decision-making. </a:t>
            </a:r>
            <a:endParaRPr b="0" lang="en-US" sz="1800" spc="-1" strike="noStrike">
              <a:solidFill>
                <a:srgbClr val="000000"/>
              </a:solidFill>
              <a:latin typeface="Constantia"/>
            </a:endParaRPr>
          </a:p>
          <a:p>
            <a:pPr marL="26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ichest examples of digital citizenship were seen in social studies work samples  (N=42)</a:t>
            </a:r>
            <a:endParaRPr b="0" lang="en-US" sz="1800" spc="-1" strike="noStrike">
              <a:solidFill>
                <a:srgbClr val="000000"/>
              </a:solidFill>
              <a:latin typeface="Constantia"/>
            </a:endParaRPr>
          </a:p>
          <a:p>
            <a:pPr marL="26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67" name="Picture 6" descr=""/>
          <p:cNvPicPr/>
          <p:nvPr/>
        </p:nvPicPr>
        <p:blipFill>
          <a:blip r:embed="rId2"/>
          <a:stretch/>
        </p:blipFill>
        <p:spPr>
          <a:xfrm>
            <a:off x="4897440" y="1600200"/>
            <a:ext cx="353844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680"/>
            <a:ext cx="8229600" cy="16365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Follow-up Study Examines Social Studies Work Samples for  Secondary Students’ Demonstration of </a:t>
            </a:r>
            <a:br>
              <a:rPr sz="2800"/>
            </a:br>
            <a:r>
              <a:rPr b="0" lang="en-US" sz="2800" spc="-1" strike="noStrike">
                <a:solidFill>
                  <a:srgbClr val="04617b"/>
                </a:solidFill>
                <a:latin typeface="Calibri"/>
              </a:rPr>
              <a:t>Digital Citizenship  (2008-2009)</a:t>
            </a:r>
            <a:endParaRPr b="0" lang="en-US" sz="2800" spc="-1" strike="noStrike">
              <a:solidFill>
                <a:srgbClr val="04617b"/>
              </a:solidFill>
              <a:latin typeface="Calibri"/>
            </a:endParaRPr>
          </a:p>
        </p:txBody>
      </p:sp>
      <p:sp>
        <p:nvSpPr>
          <p:cNvPr id="369" name=""/>
          <p:cNvSpPr txBox="1"/>
          <p:nvPr/>
        </p:nvSpPr>
        <p:spPr>
          <a:xfrm>
            <a:off x="457200" y="1911240"/>
            <a:ext cx="8229600" cy="4214880"/>
          </a:xfrm>
          <a:prstGeom prst="rect">
            <a:avLst/>
          </a:prstGeom>
          <a:noFill/>
          <a:ln w="0">
            <a:noFill/>
          </a:ln>
        </p:spPr>
        <p:txBody>
          <a:bodyPr lIns="90000" rIns="90000" tIns="46800" bIns="46800" anchor="t">
            <a:normAutofit fontScale="92000"/>
          </a:bodyPr>
          <a:p>
            <a:pPr marL="250920" indent="-250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a:t>
            </a:r>
            <a:r>
              <a:rPr b="0" lang="en-US" sz="2800" spc="-1" strike="noStrike">
                <a:solidFill>
                  <a:srgbClr val="000000"/>
                </a:solidFill>
                <a:latin typeface="Constantia"/>
              </a:rPr>
              <a:t>) Responsible citizens are informed; they are able to access, research, manage, evaluate and use information. </a:t>
            </a:r>
            <a:endParaRPr b="0" lang="en-US" sz="2800" spc="-1" strike="noStrike">
              <a:solidFill>
                <a:srgbClr val="000000"/>
              </a:solidFill>
              <a:latin typeface="Constantia"/>
            </a:endParaRPr>
          </a:p>
          <a:p>
            <a:pPr marL="250920" indent="-250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2) Informed citizens understand complex public issues and diverse perspectives. </a:t>
            </a:r>
            <a:endParaRPr b="0" lang="en-US" sz="2800" spc="-1" strike="noStrike">
              <a:solidFill>
                <a:srgbClr val="000000"/>
              </a:solidFill>
              <a:latin typeface="Constantia"/>
            </a:endParaRPr>
          </a:p>
          <a:p>
            <a:pPr marL="250920" indent="-250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 Competent citizens think critically and creatively, evaluate and make informed decisions. </a:t>
            </a:r>
            <a:endParaRPr b="0" lang="en-US" sz="2800" spc="-1" strike="noStrike">
              <a:solidFill>
                <a:srgbClr val="000000"/>
              </a:solidFill>
              <a:latin typeface="Constantia"/>
            </a:endParaRPr>
          </a:p>
          <a:p>
            <a:pPr marL="250920" indent="-250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4) Effective citizens communicate with diverse audiences. </a:t>
            </a:r>
            <a:endParaRPr b="0" lang="en-US" sz="2800" spc="-1" strike="noStrike">
              <a:solidFill>
                <a:srgbClr val="000000"/>
              </a:solidFill>
              <a:latin typeface="Constantia"/>
            </a:endParaRPr>
          </a:p>
          <a:p>
            <a:pPr marL="250920" indent="-250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5) Committed citizens work collaboratively to solve problems.</a:t>
            </a:r>
            <a:endParaRPr b="0" lang="en-US" sz="2800" spc="-1" strike="noStrike">
              <a:solidFill>
                <a:srgbClr val="000000"/>
              </a:solidFill>
              <a:latin typeface="Constantia"/>
            </a:endParaRPr>
          </a:p>
          <a:p>
            <a:pPr marL="250920" indent="-250920">
              <a:lnSpc>
                <a:spcPct val="80000"/>
              </a:lnSpc>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Findings from Secondary Social Studies Work Samples (N=47)</a:t>
            </a:r>
            <a:endParaRPr b="0" lang="en-US" sz="3200" spc="-1" strike="noStrike">
              <a:solidFill>
                <a:srgbClr val="04617b"/>
              </a:solidFill>
              <a:latin typeface="Calibri"/>
            </a:endParaRPr>
          </a:p>
        </p:txBody>
      </p:sp>
      <p:sp>
        <p:nvSpPr>
          <p:cNvPr id="37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Constantia"/>
              </a:rPr>
              <a:t>	</a:t>
            </a:r>
            <a:r>
              <a:rPr b="1" lang="en-US" sz="2600" spc="-1" strike="noStrike">
                <a:solidFill>
                  <a:srgbClr val="04617b"/>
                </a:solidFill>
                <a:latin typeface="Constantia"/>
              </a:rPr>
              <a:t>1. Responsible citizens are informed: able to access, research, manage, evaluate &amp; use inform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Online primary sourc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ole of women in ancient Rom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cratic Seminar on revolu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torical data on lynching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ectoral college maps</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890640"/>
            <a:ext cx="8229600" cy="64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4617b"/>
              </a:solidFill>
              <a:latin typeface="Calibri"/>
            </a:endParaRPr>
          </a:p>
        </p:txBody>
      </p:sp>
      <p:sp>
        <p:nvSpPr>
          <p:cNvPr id="373" name=""/>
          <p:cNvSpPr txBox="1"/>
          <p:nvPr/>
        </p:nvSpPr>
        <p:spPr>
          <a:xfrm>
            <a:off x="457200" y="1797120"/>
            <a:ext cx="8229600" cy="4309920"/>
          </a:xfrm>
          <a:prstGeom prst="rect">
            <a:avLst/>
          </a:prstGeom>
          <a:noFill/>
          <a:ln w="0">
            <a:noFill/>
          </a:ln>
        </p:spPr>
        <p:txBody>
          <a:bodyPr lIns="90000" rIns="90000" tIns="46800" bIns="46800" anchor="t">
            <a:normAutofit fontScale="96000"/>
          </a:bodyPr>
          <a:p>
            <a:pPr marL="261720" indent="-2617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usic and Video Clips</a:t>
            </a:r>
            <a:endParaRPr b="0" lang="en-US" sz="28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alyze lyrics from 1920’s, 1960’s, contemporary rap</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cess online digital video libraries: Kennedy-Nixon debates, Harlem Renaissance, New deal, election campaigns of 1964-2004.</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dcast on 19</a:t>
            </a:r>
            <a:r>
              <a:rPr b="0" lang="en-US" sz="2400" spc="-1" strike="noStrike" baseline="30000">
                <a:solidFill>
                  <a:srgbClr val="000000"/>
                </a:solidFill>
                <a:latin typeface="Constantia"/>
              </a:rPr>
              <a:t>th</a:t>
            </a:r>
            <a:r>
              <a:rPr b="0" lang="en-US" sz="2400" spc="-1" strike="noStrike">
                <a:solidFill>
                  <a:srgbClr val="000000"/>
                </a:solidFill>
                <a:latin typeface="Constantia"/>
              </a:rPr>
              <a:t> century reform movements</a:t>
            </a:r>
            <a:endParaRPr b="0" lang="en-US" sz="2400" spc="-1" strike="noStrike">
              <a:solidFill>
                <a:srgbClr val="000000"/>
              </a:solidFill>
              <a:latin typeface="Constantia"/>
            </a:endParaRPr>
          </a:p>
          <a:p>
            <a:pPr marL="261720" indent="-2617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mages</a:t>
            </a:r>
            <a:endParaRPr b="0" lang="en-US" sz="28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gital photos of U.S. southwest, Central American cultures; political and historical cartoons, consumer ads, interactive map activities—Google Earth</a:t>
            </a:r>
            <a:endParaRPr b="0" lang="en-US" sz="24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74" name="Rectangle 3"/>
          <p:cNvSpPr/>
          <p:nvPr/>
        </p:nvSpPr>
        <p:spPr>
          <a:xfrm>
            <a:off x="768240" y="873000"/>
            <a:ext cx="7512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4617b"/>
                </a:solidFill>
                <a:latin typeface="Arial"/>
              </a:rPr>
              <a:t>1. Responsible citizens are informed: able to access, research, manage, evaluate, and use inform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23:03:59Z</dcterms:created>
  <dc:creator>Gayle Thieman</dc:creator>
  <dc:description/>
  <dc:language>en-US</dc:language>
  <cp:lastModifiedBy>Gayle Thieman</cp:lastModifiedBy>
  <dcterms:modified xsi:type="dcterms:W3CDTF">2009-11-19T23:18:13Z</dcterms:modified>
  <cp:revision>32</cp:revision>
  <dc:subject/>
  <dc:title>Emerging Trends in Digital Citizenship &amp; Web 2.0 in Pre-Service Teacher Education</dc:title>
</cp:coreProperties>
</file>