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4A91-F660-4CA4-8F18-2C637A99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50C-BE0F-4170-9396-0EA89CBA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BB1-3AF9-4F23-BF29-88D12A5F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590-C9E1-40DF-A85C-B771C375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1D0-6CB3-405C-872C-74E572B4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1C9-CA93-41F8-91AD-A4B18C55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D06-261C-4D05-8A11-E495F37D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6C3-E9B2-4091-820A-4E61AAAA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DAE-C704-47DB-98B0-30F12FA6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8C8-AEB8-4E7E-94FC-BA16C37F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3A2-CA63-4165-821F-FDC99139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183-DB97-42DC-BE1D-2B853042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7E56-4CB4-42F2-B12F-D479A6129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ggins, G. &amp; McTighe, J.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rstanding b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544680"/>
            <a:ext cx="326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Assess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Checks for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 and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observation of studen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se with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 an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paper and pencil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-response or Constructed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-ended prompts that require critical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Tasks and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, open-ended, and authentic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 Priorities and Assess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quizzes and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/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 and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494160" cy="4276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3048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04812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38480" y="4114440"/>
            <a:ext cx="175284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72428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Learning Experiences and In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activities to engage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eaching methods,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 of Direct Instruction, Constructivist Methods, Cooperative Learning Group Work, and Individual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sequence of 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What is a “unit”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g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-managing our les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oking complex performanc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gue and unhelpful planning, typically ending in “cover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371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unit is a coherent set of lessons, organized around a theme, a performance, an idea, or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verarching Unit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ics or Scoring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8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lements that cut across units, courses, subjects, an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ward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1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Desired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uni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content standards (national, state, distri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tify Desired Outcomes (Enduring Understand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have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enduring value beyond the classro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side at the heart of the discip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quire “uncoverage”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fer potential for engaging stud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orways to Understand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2057400"/>
            <a:ext cx="7924320" cy="3886200"/>
            <a:chOff x="533520" y="2057400"/>
            <a:chExt cx="7924320" cy="3886200"/>
          </a:xfrm>
        </p:grpSpPr>
        <p:grpSp>
          <p:nvGrpSpPr>
            <p:cNvPr id="61" name=""/>
            <p:cNvGrpSpPr/>
            <p:nvPr/>
          </p:nvGrpSpPr>
          <p:grpSpPr>
            <a:xfrm>
              <a:off x="539640" y="2060640"/>
              <a:ext cx="7911000" cy="3878280"/>
              <a:chOff x="539640" y="2060640"/>
              <a:chExt cx="7911000" cy="38782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539640" y="2060640"/>
                <a:ext cx="3955320" cy="674280"/>
                <a:chOff x="539640" y="2060640"/>
                <a:chExt cx="3955320" cy="674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631080" y="2060640"/>
                  <a:ext cx="37717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Essential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964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4495320" y="2060640"/>
                <a:ext cx="3955320" cy="674280"/>
                <a:chOff x="4495320" y="2060640"/>
                <a:chExt cx="3955320" cy="674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586400" y="2060640"/>
                  <a:ext cx="37724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Unit/Lesson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49532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39640" y="2734920"/>
                <a:ext cx="3955320" cy="1254600"/>
                <a:chOff x="539640" y="2734920"/>
                <a:chExt cx="3955320" cy="12546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631080" y="2734920"/>
                  <a:ext cx="3771360" cy="1119960"/>
                  <a:chOff x="631080" y="2734920"/>
                  <a:chExt cx="3771360" cy="11199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631080" y="273492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o to the heart of the discipl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31080" y="324468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53964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495320" y="2734920"/>
                <a:ext cx="3955320" cy="1254600"/>
                <a:chOff x="4495320" y="2734920"/>
                <a:chExt cx="3955320" cy="12546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586400" y="2734920"/>
                  <a:ext cx="3772440" cy="12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vide subject and topic specific doorways to essential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49532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39640" y="3989520"/>
                <a:ext cx="3955320" cy="974880"/>
                <a:chOff x="539640" y="3989520"/>
                <a:chExt cx="3955320" cy="974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31080" y="3989520"/>
                  <a:ext cx="377172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 naturally throughout one’s learning and in the history of the discipl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964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495320" y="3989520"/>
                <a:ext cx="3955320" cy="974880"/>
                <a:chOff x="4495320" y="3989520"/>
                <a:chExt cx="3955320" cy="974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586400" y="3989520"/>
                  <a:ext cx="377244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ve no obvious “right” answ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49532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9640" y="4964400"/>
                <a:ext cx="3955320" cy="974520"/>
                <a:chOff x="539640" y="4964400"/>
                <a:chExt cx="3955320" cy="974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31080" y="4964400"/>
                  <a:ext cx="377172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ise other important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3964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495320" y="4964400"/>
                <a:ext cx="3955320" cy="974520"/>
                <a:chOff x="4495320" y="4964400"/>
                <a:chExt cx="3955320" cy="9745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86400" y="4964400"/>
                  <a:ext cx="377244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re deliberately framed to provide and sustain student inter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49532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533520" y="2057400"/>
              <a:ext cx="792432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2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Acceptable Ev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in terms of the “collected assessment evidence needed to document and validate that the desired learning has been achieved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.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evidence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range of assessmen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21:27:39Z</dcterms:created>
  <dc:creator>Gayle Y. Thieman</dc:creator>
  <dc:description/>
  <dc:language>en-US</dc:language>
  <cp:lastModifiedBy>Gayle Thieman</cp:lastModifiedBy>
  <cp:lastPrinted>2003-04-02T20:43:05Z</cp:lastPrinted>
  <dcterms:modified xsi:type="dcterms:W3CDTF">2007-04-12T22:26:59Z</dcterms:modified>
  <cp:revision>2</cp:revision>
  <dc:subject/>
  <dc:title>Curriculum Design</dc:title>
</cp:coreProperties>
</file>