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57D-C590-4F10-B89E-AFF05530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722-2C34-448C-A818-5D8CCE86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132-4159-4C23-84DC-DA54DA26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E15-B516-4A54-AD1C-87924891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DA3-5241-419E-AD92-3D7869F3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9C4-1628-4118-8FF8-98D06599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63C-9028-4A07-B5A0-7CEE55E7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67D-3A44-4AA3-A6B3-1B7E367E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A81-52B6-4297-9251-7602E8F7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1E7-DCE8-4919-A8D0-725F9DD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41F-6A3E-42BF-A52C-52BCFF2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2E8-9D29-469D-ABF2-7815C2E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6024-DCCC-4A9A-AFE5-BB4FB97C2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ggins, G. &amp; McTighe, J.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erstanding by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544680"/>
            <a:ext cx="326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Assess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Checks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 and 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 observation of studen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se with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 an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paper and pencil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-response or Constructed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m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ended prompts that require critic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Tasks and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, open-ended, and authentic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iculum Priorities and Assess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quizzes and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/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 and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494160" cy="4276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30481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048120"/>
            <a:ext cx="160020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038480" y="4114440"/>
            <a:ext cx="1752840" cy="609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72428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Learning Experiences and Instr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activities to 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eaching methods,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 of Direct Instruction, Constructivist Methods, Cooperative Learning Group Work, and Individual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sequence of les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What is a “unit”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g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-managing our 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looking complex performanc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all enou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help us avoid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gue and unhelpful planning, typically ending in “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is a coherent set of lessons, organized around a theme, a performance, an idea, or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Book Antiqua"/>
              </a:rPr>
              <a:t>Overarching Uni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uring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rics or Scoring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8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lements that cut across units, courses, subjects, an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58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bdexchange.org/user/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1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uni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content standards (national, state, distri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24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tify Desired Outcomes (Enduring Understa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have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enduring value beyond the classro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side at the heart of the discipl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require “uncoverage”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61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what extent does the idea, topic, or process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fer potential for engaging stud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uestions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orways to Understand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2057400"/>
            <a:ext cx="7924320" cy="3886200"/>
            <a:chOff x="533520" y="2057400"/>
            <a:chExt cx="7924320" cy="3886200"/>
          </a:xfrm>
        </p:grpSpPr>
        <p:grpSp>
          <p:nvGrpSpPr>
            <p:cNvPr id="61" name=""/>
            <p:cNvGrpSpPr/>
            <p:nvPr/>
          </p:nvGrpSpPr>
          <p:grpSpPr>
            <a:xfrm>
              <a:off x="539640" y="2060640"/>
              <a:ext cx="7911000" cy="3878280"/>
              <a:chOff x="539640" y="2060640"/>
              <a:chExt cx="7911000" cy="38782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539640" y="2060640"/>
                <a:ext cx="3955320" cy="674280"/>
                <a:chOff x="539640" y="2060640"/>
                <a:chExt cx="3955320" cy="674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631080" y="2060640"/>
                  <a:ext cx="377172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Essential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964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95320" y="2060640"/>
                <a:ext cx="3955320" cy="674280"/>
                <a:chOff x="4495320" y="2060640"/>
                <a:chExt cx="3955320" cy="674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586400" y="2060640"/>
                  <a:ext cx="3772440" cy="67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Unit/Lesson Ques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95320" y="2060640"/>
                  <a:ext cx="3955320" cy="67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39640" y="2734920"/>
                <a:ext cx="3955320" cy="1254600"/>
                <a:chOff x="539640" y="2734920"/>
                <a:chExt cx="3955320" cy="12546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631080" y="2734920"/>
                  <a:ext cx="3771360" cy="1119960"/>
                  <a:chOff x="631080" y="2734920"/>
                  <a:chExt cx="3771360" cy="1119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31080" y="273492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 to the heart of the discipl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31080" y="3244680"/>
                    <a:ext cx="3771360" cy="61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" name=""/>
                <p:cNvSpPr/>
                <p:nvPr/>
              </p:nvSpPr>
              <p:spPr>
                <a:xfrm>
                  <a:off x="53964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495320" y="2734920"/>
                <a:ext cx="3955320" cy="1254600"/>
                <a:chOff x="4495320" y="2734920"/>
                <a:chExt cx="3955320" cy="12546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586400" y="2734920"/>
                  <a:ext cx="3772440" cy="125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vide subject and topic specific doorways to essential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95320" y="2734920"/>
                  <a:ext cx="3955320" cy="125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39640" y="3989520"/>
                <a:ext cx="3955320" cy="974880"/>
                <a:chOff x="539640" y="3989520"/>
                <a:chExt cx="3955320" cy="974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31080" y="3989520"/>
                  <a:ext cx="377172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 naturally throughout one’s learning and in the history of the discipl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964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495320" y="3989520"/>
                <a:ext cx="3955320" cy="974880"/>
                <a:chOff x="4495320" y="3989520"/>
                <a:chExt cx="3955320" cy="974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86400" y="3989520"/>
                  <a:ext cx="377244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ve no obvious “right” answ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95320" y="3989520"/>
                  <a:ext cx="395532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9640" y="4964400"/>
                <a:ext cx="3955320" cy="974520"/>
                <a:chOff x="539640" y="4964400"/>
                <a:chExt cx="3955320" cy="974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31080" y="4964400"/>
                  <a:ext cx="377172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ise other important ques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3964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495320" y="4964400"/>
                <a:ext cx="3955320" cy="974520"/>
                <a:chOff x="4495320" y="4964400"/>
                <a:chExt cx="3955320" cy="974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586400" y="4964400"/>
                  <a:ext cx="3772440" cy="97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re deliberately framed to provide and sustain student inter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495320" y="4964400"/>
                  <a:ext cx="3955320" cy="97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533520" y="2057400"/>
              <a:ext cx="79243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2: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e Acceptable Ev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n terms of the “collected assessment evidence needed to document and validate that the desired learning has been achieved”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videnc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ange of assessm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7:39Z</dcterms:created>
  <dc:creator>Gayle Y. Thieman</dc:creator>
  <dc:description/>
  <dc:language>en-US</dc:language>
  <cp:lastModifiedBy>Gayle Thieman</cp:lastModifiedBy>
  <cp:lastPrinted>2003-04-02T20:43:05Z</cp:lastPrinted>
  <dcterms:modified xsi:type="dcterms:W3CDTF">2007-04-12T22:26:59Z</dcterms:modified>
  <cp:revision>2</cp:revision>
  <dc:subject/>
  <dc:title>Curriculum Design</dc:title>
</cp:coreProperties>
</file>