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D01-0693-4034-B8CC-8A54C20E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591-F470-42CA-ADFA-DB41E0C0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DF6-2CA3-49D8-9439-DDB487E5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A74-FC81-4424-B325-C9F23F59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0BF-CA61-44EE-A536-C05FEDD0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A27-90BC-4E7F-9833-C9D11F2E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8BF-5A74-4787-880E-0F13229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96C-9F84-4ACC-8EAA-98FCA095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E65-A7FE-484F-909A-29626F18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6B4-65DF-425E-AB8F-673C9042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DCA-85A5-443B-8BC0-3B747608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DB5-DBDB-4AF7-BA52-90336401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EBC5-A2AE-4911-8748-FAA416D37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Gayle Thieman</cp:lastModifiedBy>
  <cp:lastPrinted>2003-04-02T20:43:05Z</cp:lastPrinted>
  <dcterms:modified xsi:type="dcterms:W3CDTF">2007-04-12T22:26:59Z</dcterms:modified>
  <cp:revision>2</cp:revision>
  <dc:subject/>
  <dc:title>Curriculum Design</dc:title>
</cp:coreProperties>
</file>