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ACA-D0AD-4EE4-95D8-C9E48AB0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FA1-C7B6-48A0-A784-9BCEA754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EB4-B9FD-47F7-B769-327D9F90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5A7-50F0-495C-93B3-A7BF2013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0CA-BFFB-42FB-BB03-BCBE52C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BEC-8AA3-4403-87D6-FE7B4846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CC1-1266-4DBA-BA43-B37C518A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C43-EF28-49B3-89DE-967724F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B93-E71F-4213-A096-07678305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F94-DD3B-4FEE-A442-27B2E74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FEA-47DB-473E-9AA7-31A44F61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444-D98D-4096-B67D-0779438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BBB1-6973-4C2A-BD09-339BDC14B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Gayle Thieman</cp:lastModifiedBy>
  <cp:lastPrinted>2003-04-02T20:43:05Z</cp:lastPrinted>
  <dcterms:modified xsi:type="dcterms:W3CDTF">2007-04-12T22:26:59Z</dcterms:modified>
  <cp:revision>2</cp:revision>
  <dc:subject/>
  <dc:title>Curriculum Design</dc:title>
</cp:coreProperties>
</file>