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031-32AE-4DCA-A76E-0518C5AC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BE4-466A-4ACF-BC2A-D8BA1F75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2073-E0BF-4C06-9A29-36AC3E72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7F6E-0300-4411-A4E1-00ADD457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AD6-57BF-45AC-BB0E-7CC470AC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B8F-D1FB-43D5-B6B8-F03FC5146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5673-67C3-4C51-B02B-272096591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E50-0958-40CF-8243-B9C5B8D6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7590-0184-407B-9D69-F63B8229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00B2-F60C-4105-97FD-44EE7A84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EB32-1D45-44A4-BDC2-08ACD399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AB4-62EB-4AEB-B6B3-DFC79F74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3ED-53FB-4988-A853-30355722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E4E-321F-41F3-A294-43BFCF37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05B-5ACA-4DDE-B425-1318DBC2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F3D6-186D-4061-8572-DCCB847C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C87A-A4CC-446B-9EBB-7A6CC4A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41F4-BFB1-4E7D-A696-019BF9BB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17B2-0984-46F6-B507-5067DA4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3068-5BD2-4380-BEB5-70135382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9806-E0C6-4675-AB27-ECE09FAC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FB5-904B-4F44-AEA9-DF524EE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4EF-7081-4E2F-AFB8-D06FB07E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E00D-850B-4423-9DD0-E15AFF3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8BA-CD55-4644-9973-29784D8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894-9547-493E-8E4D-5782C0E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6E5A-85D6-4034-9C5D-4170473D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0C8-04D6-48CD-B53B-1727DD89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F4D-4C92-491F-8165-0B22809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8F2-17BA-4469-A5C3-BD3B12C3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10E-1669-494E-AA82-81A6D91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2A1-4171-4F00-80FC-93093345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B2A-5D8E-4107-A663-5C5EFA9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90B-021A-442C-954B-4D72E4F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66B-88C8-437A-A6CD-0BE352F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7CF-B1EE-4195-8AE9-A9C29A82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59C-B3DF-4DD4-8575-E9AB0B13116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berreview.com/wp-content/uploads/600_transformers_pillows.jpg&amp;imgrefurl=http://www.uberreview.com/2007/09/transformers-pillows-geeky-plushness.htm&amp;usg=__b_ujA2VpHVDG_QK46_W6smSEUdA=&amp;h=430&amp;w=600&amp;sz=45&amp;hl=en&amp;start=270&amp;tbnid=o3Agrr-ll1KqKM:&amp;tbnh=97&amp;tbnw=135&amp;prev=/images?q=transformers&amp;gbv=2&amp;ndsp=21&amp;hl=en&amp;sa=N&amp;start=25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dult Learner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nces Boza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chael Dellerb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athy Mal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cy Sherr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MPj04394530000[1]"/>
          <p:cNvPicPr/>
          <p:nvPr/>
        </p:nvPicPr>
        <p:blipFill>
          <a:blip r:embed="rId1"/>
          <a:stretch/>
        </p:blipFill>
        <p:spPr>
          <a:xfrm>
            <a:off x="5562720" y="990720"/>
            <a:ext cx="3200400" cy="213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ing aware of on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own tacit assumptions and expectations and those of others and assessing their relevance for making an interpretation (Mezirow, 2000, p.4).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600_transformers_pill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724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vides a structure and process through which to better understand adult growth and developmen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6" descr="Structure"/>
          <p:cNvPicPr/>
          <p:nvPr/>
        </p:nvPicPr>
        <p:blipFill>
          <a:blip r:embed="rId1"/>
          <a:stretch/>
        </p:blipFill>
        <p:spPr>
          <a:xfrm>
            <a:off x="37339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follows some variation of the following phases of mean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rienting Di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loss of job, divorce, marriage, back to school, or moving to a new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elf-exa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feelings of fear, anger, guilt, or sh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ritical assessment of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gn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discontent and transformation are re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ploration of op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new roles, relationships and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ning 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urse of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cquiring knowledge and skil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implementing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ying on new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uilding competence and self-confid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new roles and 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integ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life on the basis of conditions dictated by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new perspective (Mezirow, 2000, p.2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to teachers helping effect transformative learning in adult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safe and supportive system of teachers and other significant people may greatly facilitate the student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 willingness to move forward with transformative learning.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6" descr="SafeZone"/>
          <p:cNvPicPr/>
          <p:nvPr/>
        </p:nvPicPr>
        <p:blipFill>
          <a:blip r:embed="rId1"/>
          <a:stretch/>
        </p:blipFill>
        <p:spPr>
          <a:xfrm>
            <a:off x="7391520" y="1219320"/>
            <a:ext cx="150336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-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971800" y="3124080"/>
            <a:ext cx="3352680" cy="3048120"/>
            <a:chOff x="2971800" y="3124080"/>
            <a:chExt cx="3352680" cy="3048120"/>
          </a:xfrm>
        </p:grpSpPr>
        <p:pic>
          <p:nvPicPr>
            <p:cNvPr id="145" name="Picture 5" descr="MPj04090090000[1]"/>
            <p:cNvPicPr/>
            <p:nvPr/>
          </p:nvPicPr>
          <p:blipFill>
            <a:blip r:embed="rId1"/>
            <a:stretch/>
          </p:blipFill>
          <p:spPr>
            <a:xfrm>
              <a:off x="3352680" y="3505320"/>
              <a:ext cx="2656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"/>
            <p:cNvSpPr/>
            <p:nvPr/>
          </p:nvSpPr>
          <p:spPr>
            <a:xfrm>
              <a:off x="2971800" y="3124080"/>
              <a:ext cx="33526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minute power wri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33520" y="2851200"/>
            <a:ext cx="83055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dentify a piece of valuable information you learned and describe how you can apply it in your prof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: To develop an awareness of adult learning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Seven Adult Learning Principles with application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write 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7" descr="MCj01975660000[1]"/>
          <p:cNvPicPr/>
          <p:nvPr/>
        </p:nvPicPr>
        <p:blipFill>
          <a:blip r:embed="rId1"/>
          <a:stretch/>
        </p:blipFill>
        <p:spPr>
          <a:xfrm>
            <a:off x="6705720" y="304920"/>
            <a:ext cx="18288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Learning is collaborativ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7" descr="MCBD19801_0000[1]"/>
          <p:cNvPicPr/>
          <p:nvPr/>
        </p:nvPicPr>
        <p:blipFill>
          <a:blip r:embed="rId1"/>
          <a:stretch/>
        </p:blipFill>
        <p:spPr>
          <a:xfrm>
            <a:off x="6248520" y="3886200"/>
            <a:ext cx="2506680" cy="2643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own se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fortabl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 and Tal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Warm-ups and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Link past to pres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iv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ing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pictur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ne Squar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MCBD04929_0000[1]"/>
          <p:cNvPicPr/>
          <p:nvPr/>
        </p:nvPicPr>
        <p:blipFill>
          <a:blip r:embed="rId1"/>
          <a:stretch/>
        </p:blipFill>
        <p:spPr>
          <a:xfrm rot="20363400">
            <a:off x="5181120" y="2057400"/>
            <a:ext cx="3732480" cy="2979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447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s &amp; Stress ca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learnin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712600"/>
            <a:ext cx="76201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 environment = hig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 thinking/crea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 &amp; Flight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ic, breathing exercises, personal connections, and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MCPE01496_0000[1]"/>
          <p:cNvPicPr/>
          <p:nvPr/>
        </p:nvPicPr>
        <p:blipFill>
          <a:blip r:embed="rId1"/>
          <a:stretch/>
        </p:blipFill>
        <p:spPr>
          <a:xfrm>
            <a:off x="6400800" y="1312920"/>
            <a:ext cx="20397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146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Conscious and  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Unconscious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t brea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ids :  posters, maps and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in breaks every 20 - 30 minutes using strategies from principl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using different mod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4-48-72 Review ses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ames, flash cards, teach a peer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s: Quick write on first 4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Multiple memory pathw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48-72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Q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WH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7" descr="MPj04387270000[1]"/>
          <p:cNvPicPr/>
          <p:nvPr/>
        </p:nvPicPr>
        <p:blipFill>
          <a:blip r:embed="rId1"/>
          <a:stretch/>
        </p:blipFill>
        <p:spPr>
          <a:xfrm>
            <a:off x="5181480" y="365760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Adult brain is u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stops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a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al pathways are created every time we challenge our mi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 Learning Streng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ory, visual, kinesth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MPj04387460000[1]"/>
          <p:cNvPicPr/>
          <p:nvPr/>
        </p:nvPicPr>
        <p:blipFill>
          <a:blip r:embed="rId1"/>
          <a:stretch/>
        </p:blipFill>
        <p:spPr>
          <a:xfrm>
            <a:off x="6781680" y="39625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 Healthy Lifesty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s mental sharp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ily Rout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 up Sit 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MPj04276300000[1]"/>
          <p:cNvPicPr/>
          <p:nvPr/>
        </p:nvPicPr>
        <p:blipFill>
          <a:blip r:embed="rId1"/>
          <a:stretch/>
        </p:blipFill>
        <p:spPr>
          <a:xfrm>
            <a:off x="5105520" y="2971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38:08Z</dcterms:created>
  <dc:creator>BSD</dc:creator>
  <dc:description/>
  <dc:language>en-US</dc:language>
  <cp:lastModifiedBy>Gayle Thieman</cp:lastModifiedBy>
  <dcterms:modified xsi:type="dcterms:W3CDTF">2014-05-15T16:17:27Z</dcterms:modified>
  <cp:revision>10</cp:revision>
  <dc:subject/>
  <dc:title>Adult Learners</dc:title>
</cp:coreProperties>
</file>