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F5CC-2730-4006-AC63-991914F8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2D8C-4243-4A6C-8426-C4912F44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264-9A5D-4EC7-AD80-2B3407C0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D52C-9882-41E6-A237-EB8FE463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81D1-5924-4050-9B63-C2E50179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8E1D-77BC-4BDC-91A4-6195AA5C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D20-1108-443E-BB77-C134F89B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E40-18FE-4D00-8CFD-79831526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755-10ED-4BDF-9340-70FEC8F78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0DE-4EE6-446A-A1D6-CEAED1D8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A3B-AD89-4456-9E3C-DB4E5CA1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E87-D686-48F5-B53F-B845FE27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403-1483-4431-9EBB-6DEE2A4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BB4-784D-4D41-AD0E-D604A905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8EB-6857-4543-A90B-3533D962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FBA7-7EE4-4676-98A7-674388B6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50E0-DACC-41EF-A188-B2B322B2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5C5D-505A-4D75-B33B-36DEFD16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4044-64EA-4B14-936F-36443E2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8B0C-52A5-48E7-8C6C-F0DAF0DB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CE2B-E580-4B7D-B94A-290331E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A9E2-14D3-4AA1-A9A9-30CF4D5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DB5-A579-47A5-AC36-CBB1E2D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6E5C-08CC-4244-A744-F6FD1A6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6C9F-1529-4B00-9557-FFEFBC5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068E-A601-4739-BB06-E604107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45A-0689-453D-9D0F-8E7A2FDD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91D-3275-4FDF-B36C-35A87DCB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745-B613-4196-9FE2-8963718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406-9858-4EBD-A45D-8E18CFD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428-43EE-4F0B-A779-4959F1A5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E3A-DE8F-483A-BF13-05C44471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297-89F3-43F8-BDBC-2043442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66F-02C1-4474-9248-D6A147E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7CF-A54F-4450-977D-1F9A7A0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E053-943A-41C3-9FCC-ACC5FAB41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B610-23A1-4FCF-A0AB-88B4E2CE84A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berreview.com/wp-content/uploads/600_transformers_pillows.jpg&amp;imgrefurl=http://www.uberreview.com/2007/09/transformers-pillows-geeky-plushness.htm&amp;usg=__b_ujA2VpHVDG_QK46_W6smSEUdA=&amp;h=430&amp;w=600&amp;sz=45&amp;hl=en&amp;start=270&amp;tbnid=o3Agrr-ll1KqKM:&amp;tbnh=97&amp;tbnw=135&amp;prev=/images?q=transformers&amp;gbv=2&amp;ndsp=21&amp;hl=en&amp;sa=N&amp;start=25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dult Learner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nces Boza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ichael Dellerb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athy Mal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cy Sherr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MPj04394530000[1]"/>
          <p:cNvPicPr/>
          <p:nvPr/>
        </p:nvPicPr>
        <p:blipFill>
          <a:blip r:embed="rId1"/>
          <a:stretch/>
        </p:blipFill>
        <p:spPr>
          <a:xfrm>
            <a:off x="5562720" y="990720"/>
            <a:ext cx="3200400" cy="213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ing aware of one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own tacit assumptions and expectations and those of others and assessing their relevance for making an interpretation (Mezirow, 2000, p.4).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600_transformers_pill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724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vides a structure and process through which to better understand adult growth and developmen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6" descr="Structure"/>
          <p:cNvPicPr/>
          <p:nvPr/>
        </p:nvPicPr>
        <p:blipFill>
          <a:blip r:embed="rId1"/>
          <a:stretch/>
        </p:blipFill>
        <p:spPr>
          <a:xfrm>
            <a:off x="37339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follows some variation of the following phases of mean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rienting Dilem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loss of job, divorce, marriage, back to school, or moving to a new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elf-exa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feelings of fear, anger, guilt, or sh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ritical assessment of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gn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discontent and transformation are re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ploration of op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new roles, relationships and 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ning 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urse of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cquiring knowledge and skil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implementing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ying on new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uilding competence and self-confid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new roles and relationshi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integ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life on the basis of conditions dictated by on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new perspective (Mezirow, 2000, p.2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to teachers helping effect transformative learning in adult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safe and supportive system of teachers and other significant people may greatly facilitate the student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 willingness to move forward with transformative learning.</a:t>
            </a:r>
            <a:r>
              <a:rPr b="0" lang="ja-JP" sz="32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ativ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6" descr="SafeZone"/>
          <p:cNvPicPr/>
          <p:nvPr/>
        </p:nvPicPr>
        <p:blipFill>
          <a:blip r:embed="rId1"/>
          <a:stretch/>
        </p:blipFill>
        <p:spPr>
          <a:xfrm>
            <a:off x="7391520" y="1219320"/>
            <a:ext cx="150336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-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2971800" y="3124080"/>
            <a:ext cx="3352680" cy="3048120"/>
            <a:chOff x="2971800" y="3124080"/>
            <a:chExt cx="3352680" cy="3048120"/>
          </a:xfrm>
        </p:grpSpPr>
        <p:pic>
          <p:nvPicPr>
            <p:cNvPr id="145" name="Picture 5" descr="MPj04090090000[1]"/>
            <p:cNvPicPr/>
            <p:nvPr/>
          </p:nvPicPr>
          <p:blipFill>
            <a:blip r:embed="rId1"/>
            <a:stretch/>
          </p:blipFill>
          <p:spPr>
            <a:xfrm>
              <a:off x="3352680" y="3505320"/>
              <a:ext cx="2656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6"/>
            <p:cNvSpPr/>
            <p:nvPr/>
          </p:nvSpPr>
          <p:spPr>
            <a:xfrm>
              <a:off x="2971800" y="3124080"/>
              <a:ext cx="33526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minute power wri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7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33520" y="2851200"/>
            <a:ext cx="83055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dentify a piece of valuable information you learned and describe how you can apply it in your prof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ose: To develop an awareness of adult learning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Seven Adult Learning Principles with application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write 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7" descr="MCj01975660000[1]"/>
          <p:cNvPicPr/>
          <p:nvPr/>
        </p:nvPicPr>
        <p:blipFill>
          <a:blip r:embed="rId1"/>
          <a:stretch/>
        </p:blipFill>
        <p:spPr>
          <a:xfrm>
            <a:off x="6705720" y="304920"/>
            <a:ext cx="18288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Learning is collaborativ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7" descr="MCBD19801_0000[1]"/>
          <p:cNvPicPr/>
          <p:nvPr/>
        </p:nvPicPr>
        <p:blipFill>
          <a:blip r:embed="rId1"/>
          <a:stretch/>
        </p:blipFill>
        <p:spPr>
          <a:xfrm>
            <a:off x="6248520" y="3886200"/>
            <a:ext cx="2506680" cy="2643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own se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fortable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 and Tal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p Warm-ups and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in Du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Link past to pres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iv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assum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ing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pictur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ne Squar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MCBD04929_0000[1]"/>
          <p:cNvPicPr/>
          <p:nvPr/>
        </p:nvPicPr>
        <p:blipFill>
          <a:blip r:embed="rId1"/>
          <a:stretch/>
        </p:blipFill>
        <p:spPr>
          <a:xfrm rot="20363400">
            <a:off x="5181120" y="2057400"/>
            <a:ext cx="3732480" cy="2979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447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s &amp; Stress ca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learnin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712600"/>
            <a:ext cx="76201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 environment = high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 thinking/crea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ht &amp; Flight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ic, breathing exercises, personal connections, and m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MCPE01496_0000[1]"/>
          <p:cNvPicPr/>
          <p:nvPr/>
        </p:nvPicPr>
        <p:blipFill>
          <a:blip r:embed="rId1"/>
          <a:stretch/>
        </p:blipFill>
        <p:spPr>
          <a:xfrm>
            <a:off x="6400800" y="1312920"/>
            <a:ext cx="20397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146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Conscious and               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Unconscious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t brea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ids :  posters, maps and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ain breaks every 20 - 30 minutes using strategies from principle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using different mod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4-48-72 Review ses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ames, flash cards, teach a peer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ions: Quick write on first 4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Multiple memory pathw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icit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48-72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Q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WH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7" descr="MPj04387270000[1]"/>
          <p:cNvPicPr/>
          <p:nvPr/>
        </p:nvPicPr>
        <p:blipFill>
          <a:blip r:embed="rId1"/>
          <a:stretch/>
        </p:blipFill>
        <p:spPr>
          <a:xfrm>
            <a:off x="5181480" y="365760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Adult brain is u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stops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a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ral pathways are created every time we challenge our mi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 Learning Streng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ory, visual, kinesth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MPj04387460000[1]"/>
          <p:cNvPicPr/>
          <p:nvPr/>
        </p:nvPicPr>
        <p:blipFill>
          <a:blip r:embed="rId1"/>
          <a:stretch/>
        </p:blipFill>
        <p:spPr>
          <a:xfrm>
            <a:off x="6781680" y="39625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 Healthy Lifesty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tes mental sharp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ily Rout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 up Sit 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MPj04276300000[1]"/>
          <p:cNvPicPr/>
          <p:nvPr/>
        </p:nvPicPr>
        <p:blipFill>
          <a:blip r:embed="rId1"/>
          <a:stretch/>
        </p:blipFill>
        <p:spPr>
          <a:xfrm>
            <a:off x="5105520" y="2971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0:38:08Z</dcterms:created>
  <dc:creator>BSD</dc:creator>
  <dc:description/>
  <dc:language>en-US</dc:language>
  <cp:lastModifiedBy>Gayle Thieman</cp:lastModifiedBy>
  <dcterms:modified xsi:type="dcterms:W3CDTF">2014-05-15T16:17:27Z</dcterms:modified>
  <cp:revision>10</cp:revision>
  <dc:subject/>
  <dc:title>Adult Learners</dc:title>
</cp:coreProperties>
</file>