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401C-5510-4322-9409-AD857A6A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53CD-1CF8-4469-B196-AD38C84ED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5031-D92F-47EB-9063-B4CCCD641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244E-BAD5-42A5-B6DC-7824A5045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E2F-1A3D-4CCB-A646-D735BA493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141D-25F1-4675-AB7D-D3A12F0B7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A088-EF04-4F25-AB94-23C1AC78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BBB2-AB4C-4A45-AF46-2A2A01391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8EFB-D429-4BCD-B8A2-A1B86239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34D1-D884-4246-85C8-65A9B41C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CC6C-818C-4CA9-A2B4-1E4EF569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963-C230-4F0C-8F99-5FB2B751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A41-4081-4081-825B-818C656A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721-2152-4BBE-98A0-71CB8413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C70-4D23-4064-8AC0-2AA094B5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19B1-E623-410F-A1E2-C493BF2F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241A-D13F-4A04-B7EF-426E2BCA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44F8-6055-48D7-B0EE-6B6B466C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B265-9593-4FD7-A599-B56F2F0C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20D6-AFC1-4738-B627-9B967F3F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BF99-9856-4059-A436-4E8D9788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632E-D56D-482D-B522-6DC3E497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871-3F65-49FF-B60C-F6A24A7D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FBC4-0C50-4233-AFA7-D2538378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E80E-036E-4061-965E-508C0EDA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2C75-1E1E-432C-9E27-7A4F35F9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D9E1-B216-45D3-889C-A5E0C230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FF47-C975-4F8F-BA81-32FE0081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3AE-37DD-4262-BF1D-2F4FA6C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EB6-241E-4A17-9F50-8628011C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FBF-5D8E-4ABD-A735-1AD4956A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62C-8B55-45E0-864A-7F98D284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7C8-9FF6-4B0C-BCE9-CDB649B1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136-6C36-44E4-BE53-0E19702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434-5615-44B8-B89D-58583BF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920F-7911-43D5-AF69-0A6AE70CB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C3C-CC4E-4CB1-8C94-FBF1A37AEE0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berreview.com/wp-content/uploads/600_transformers_pillows.jpg&amp;imgrefurl=http://www.uberreview.com/2007/09/transformers-pillows-geeky-plushness.htm&amp;usg=__b_ujA2VpHVDG_QK46_W6smSEUdA=&amp;h=430&amp;w=600&amp;sz=45&amp;hl=en&amp;start=270&amp;tbnid=o3Agrr-ll1KqKM:&amp;tbnh=97&amp;tbnw=135&amp;prev=/images?q=transformers&amp;gbv=2&amp;ndsp=21&amp;hl=en&amp;sa=N&amp;start=25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dult Learner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rances Boza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chael Dellerb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athy Malo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cy Sherr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MPj04394530000[1]"/>
          <p:cNvPicPr/>
          <p:nvPr/>
        </p:nvPicPr>
        <p:blipFill>
          <a:blip r:embed="rId1"/>
          <a:stretch/>
        </p:blipFill>
        <p:spPr>
          <a:xfrm>
            <a:off x="5562720" y="990720"/>
            <a:ext cx="3200400" cy="213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oming aware of one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own tacit assumptions and expectations and those of others and assessing their relevance for making an interpretation (Mezirow, 2000, p.4).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600_transformers_pill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724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vides a structure and process through which to better understand adult growth and developmen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6" descr="Structure"/>
          <p:cNvPicPr/>
          <p:nvPr/>
        </p:nvPicPr>
        <p:blipFill>
          <a:blip r:embed="rId1"/>
          <a:stretch/>
        </p:blipFill>
        <p:spPr>
          <a:xfrm>
            <a:off x="37339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follows some variation of the following phases of mean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orienting Dilem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loss of job, divorce, marriage, back to school, or moving to a new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elf-examin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feelings of fear, anger, guilt, or sh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ritical assessment of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gn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discontent and transformation are rel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xploration of op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new roles, relationships and 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ning 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urse of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cquiring knowledge and skil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implementing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ying on new ro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uilding competence and self-confid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new roles and relationshi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integ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o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life on the basis of conditions dictated by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new perspective (Mezirow, 2000, p.2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to teachers helping effect transformative learning in adult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 safe and supportive system of teachers and other significant people may greatly facilitate the student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 willingness to move forward with transformative learning.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6" descr="SafeZone"/>
          <p:cNvPicPr/>
          <p:nvPr/>
        </p:nvPicPr>
        <p:blipFill>
          <a:blip r:embed="rId1"/>
          <a:stretch/>
        </p:blipFill>
        <p:spPr>
          <a:xfrm>
            <a:off x="7391520" y="1219320"/>
            <a:ext cx="150336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-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2971800" y="3124080"/>
            <a:ext cx="3352680" cy="3048120"/>
            <a:chOff x="2971800" y="3124080"/>
            <a:chExt cx="3352680" cy="3048120"/>
          </a:xfrm>
        </p:grpSpPr>
        <p:pic>
          <p:nvPicPr>
            <p:cNvPr id="145" name="Picture 5" descr="MPj04090090000[1]"/>
            <p:cNvPicPr/>
            <p:nvPr/>
          </p:nvPicPr>
          <p:blipFill>
            <a:blip r:embed="rId1"/>
            <a:stretch/>
          </p:blipFill>
          <p:spPr>
            <a:xfrm>
              <a:off x="3352680" y="3505320"/>
              <a:ext cx="26560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6"/>
            <p:cNvSpPr/>
            <p:nvPr/>
          </p:nvSpPr>
          <p:spPr>
            <a:xfrm>
              <a:off x="2971800" y="3124080"/>
              <a:ext cx="33526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0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minute power wri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33520" y="2851200"/>
            <a:ext cx="83055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dentify a piece of valuable information you learned and describe how you can apply it in your prof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: To develop an awareness of adult learning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Du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Seven Adult Learning Principles with application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write ref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7" descr="MCj01975660000[1]"/>
          <p:cNvPicPr/>
          <p:nvPr/>
        </p:nvPicPr>
        <p:blipFill>
          <a:blip r:embed="rId1"/>
          <a:stretch/>
        </p:blipFill>
        <p:spPr>
          <a:xfrm>
            <a:off x="6705720" y="304920"/>
            <a:ext cx="182880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Learning is collaborativ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7" descr="MCBD19801_0000[1]"/>
          <p:cNvPicPr/>
          <p:nvPr/>
        </p:nvPicPr>
        <p:blipFill>
          <a:blip r:embed="rId1"/>
          <a:stretch/>
        </p:blipFill>
        <p:spPr>
          <a:xfrm>
            <a:off x="6248520" y="3886200"/>
            <a:ext cx="2506680" cy="2643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own se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fortabl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 and Tal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 Warm-ups and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Du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Link past to pres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iv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assum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ing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 pictur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ne Squar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MCBD04929_0000[1]"/>
          <p:cNvPicPr/>
          <p:nvPr/>
        </p:nvPicPr>
        <p:blipFill>
          <a:blip r:embed="rId1"/>
          <a:stretch/>
        </p:blipFill>
        <p:spPr>
          <a:xfrm rot="20363400">
            <a:off x="5181120" y="2057400"/>
            <a:ext cx="3732480" cy="2979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447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otions &amp; Stress ca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learnin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2712600"/>
            <a:ext cx="76201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 environment = high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 thinking/crea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ht &amp; Flight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ic, breathing exercises, personal connections, and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MCPE01496_0000[1]"/>
          <p:cNvPicPr/>
          <p:nvPr/>
        </p:nvPicPr>
        <p:blipFill>
          <a:blip r:embed="rId1"/>
          <a:stretch/>
        </p:blipFill>
        <p:spPr>
          <a:xfrm>
            <a:off x="6400800" y="1312920"/>
            <a:ext cx="20397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696080" cy="146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Conscious and  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Unconscious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t brea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aids :  posters, maps and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in breaks every 20 - 30 minutes using strategies from principl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using different mod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4-48-72 Review ses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ames, flash cards, teach a peer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ions: Quick write on first 4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Multiple memory pathw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icit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icit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-48-72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Q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WH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7" descr="MPj04387270000[1]"/>
          <p:cNvPicPr/>
          <p:nvPr/>
        </p:nvPicPr>
        <p:blipFill>
          <a:blip r:embed="rId1"/>
          <a:stretch/>
        </p:blipFill>
        <p:spPr>
          <a:xfrm>
            <a:off x="5181480" y="365760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 Adult brain is u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stops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ll a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ral pathways are created every time we challenge our mi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 Learning Streng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ory, visual, kinesth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MPj04387460000[1]"/>
          <p:cNvPicPr/>
          <p:nvPr/>
        </p:nvPicPr>
        <p:blipFill>
          <a:blip r:embed="rId1"/>
          <a:stretch/>
        </p:blipFill>
        <p:spPr>
          <a:xfrm>
            <a:off x="6781680" y="39625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  Healthy Lifesty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s mental sharp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ily Rout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 up Sit 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MPj04276300000[1]"/>
          <p:cNvPicPr/>
          <p:nvPr/>
        </p:nvPicPr>
        <p:blipFill>
          <a:blip r:embed="rId1"/>
          <a:stretch/>
        </p:blipFill>
        <p:spPr>
          <a:xfrm>
            <a:off x="5105520" y="2971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0:38:08Z</dcterms:created>
  <dc:creator>BSD</dc:creator>
  <dc:description/>
  <dc:language>en-US</dc:language>
  <cp:lastModifiedBy>Gayle Thieman</cp:lastModifiedBy>
  <dcterms:modified xsi:type="dcterms:W3CDTF">2014-05-15T16:17:27Z</dcterms:modified>
  <cp:revision>10</cp:revision>
  <dc:subject/>
  <dc:title>Adult Learners</dc:title>
</cp:coreProperties>
</file>