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CC4A-A3F6-463C-B463-4C05E843E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EA80-797F-495B-833C-A76861DC1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DAB5-A49E-4ED4-BBFD-5675522FD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8710-8E8E-4494-B860-6AC8627D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042C-D855-41EF-9E10-2A066CC5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8821-6C7B-4D45-91EF-B336F30D6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740C-097B-4081-919A-B15BE908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6AD7-760B-4909-BCF3-889D9C2D5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434E-C1C3-4432-9DBE-B80F21DDE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2F9B-6C1C-4E2C-A9A2-FCE93C5B9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E0C0-C018-47D3-9B1F-505A428A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BA4-E8E0-47A4-817E-1CCA764F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589-EBB1-48F6-93FC-E461A57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CE2-F3B7-4478-857B-BFE63025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54C-51C2-494B-A62C-2217FD63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9928-A3A8-4787-82FA-D62B9134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BA94-241D-46FA-A933-E78A23A3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F0CD-BC3E-4F05-A5C7-F9B5C94E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97C8-FEBB-4CE4-BA55-269596DB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3C43-720B-42A3-B75E-BD8E8548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3487-79C8-432A-A740-DFD6F256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9434-EE25-4C32-A03F-98FB32F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5F0-6A60-4227-9B7A-F2CF1E3E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C884-BE71-41C5-B3B4-AD9544AB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1FFA-7DDF-4BD6-88B8-B8601F1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0AC7-A00B-4B5B-88B2-3B64D4B5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3720-CC03-4F91-B79C-3F88B42D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A0C1-1E70-4488-9AD0-D55A901D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836-6116-4A1E-9420-914D1C44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27E-CF28-4D0E-A871-87D69649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08A-1A1B-42FE-AE5A-EACD1195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0A0-7504-4D82-916C-8927D2A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BEA-F886-418E-BA3C-90F2E497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E63-6DB6-4547-A62F-1B339B6E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807-7ECD-4170-9085-45E7A97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CDEF-A703-4BD3-8BF7-FCFF5E49B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FFA9-C762-4CFE-9A83-5E890510A37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berreview.com/wp-content/uploads/600_transformers_pillows.jpg&amp;imgrefurl=http://www.uberreview.com/2007/09/transformers-pillows-geeky-plushness.htm&amp;usg=__b_ujA2VpHVDG_QK46_W6smSEUdA=&amp;h=430&amp;w=600&amp;sz=45&amp;hl=en&amp;start=270&amp;tbnid=o3Agrr-ll1KqKM:&amp;tbnh=97&amp;tbnw=135&amp;prev=/images?q=transformers&amp;gbv=2&amp;ndsp=21&amp;hl=en&amp;sa=N&amp;start=25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dult Learner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rances Boza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chael Dellerb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athy Malo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cy Sherr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MPj04394530000[1]"/>
          <p:cNvPicPr/>
          <p:nvPr/>
        </p:nvPicPr>
        <p:blipFill>
          <a:blip r:embed="rId1"/>
          <a:stretch/>
        </p:blipFill>
        <p:spPr>
          <a:xfrm>
            <a:off x="5562720" y="990720"/>
            <a:ext cx="3200400" cy="213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oming aware of one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own tacit assumptions and expectations and those of others and assessing their relevance for making an interpretation (Mezirow, 2000, p.4).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600_transformers_pill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724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vides a structure and process through which to better understand adult growth and developmen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6" descr="Structure"/>
          <p:cNvPicPr/>
          <p:nvPr/>
        </p:nvPicPr>
        <p:blipFill>
          <a:blip r:embed="rId1"/>
          <a:stretch/>
        </p:blipFill>
        <p:spPr>
          <a:xfrm>
            <a:off x="37339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follows some variation of the following phases of mean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orienting Dilem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loss of job, divorce, marriage, back to school, or moving to a new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elf-examin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feelings of fear, anger, guilt, or sh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ritical assessment of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gn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discontent and transformation are rel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xploration of op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new roles, relationships and 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ning 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urse of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cquiring knowledge and skil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implementing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ying on new ro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uilding competence and self-confid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new roles and relationshi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integ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o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life on the basis of conditions dictated by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new perspective (Mezirow, 2000, p.2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to teachers helping effect transformative learning in adult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 safe and supportive system of teachers and other significant people may greatly facilitate the student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 willingness to move forward with transformative learning.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6" descr="SafeZone"/>
          <p:cNvPicPr/>
          <p:nvPr/>
        </p:nvPicPr>
        <p:blipFill>
          <a:blip r:embed="rId1"/>
          <a:stretch/>
        </p:blipFill>
        <p:spPr>
          <a:xfrm>
            <a:off x="7391520" y="1219320"/>
            <a:ext cx="150336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-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2971800" y="3124080"/>
            <a:ext cx="3352680" cy="3048120"/>
            <a:chOff x="2971800" y="3124080"/>
            <a:chExt cx="3352680" cy="3048120"/>
          </a:xfrm>
        </p:grpSpPr>
        <p:pic>
          <p:nvPicPr>
            <p:cNvPr id="145" name="Picture 5" descr="MPj04090090000[1]"/>
            <p:cNvPicPr/>
            <p:nvPr/>
          </p:nvPicPr>
          <p:blipFill>
            <a:blip r:embed="rId1"/>
            <a:stretch/>
          </p:blipFill>
          <p:spPr>
            <a:xfrm>
              <a:off x="3352680" y="3505320"/>
              <a:ext cx="26560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6"/>
            <p:cNvSpPr/>
            <p:nvPr/>
          </p:nvSpPr>
          <p:spPr>
            <a:xfrm>
              <a:off x="2971800" y="3124080"/>
              <a:ext cx="33526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0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minute power wri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33520" y="2851200"/>
            <a:ext cx="83055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dentify a piece of valuable information you learned and describe how you can apply it in your prof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: To develop an awareness of adult learning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Du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Seven Adult Learning Principles with application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write ref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7" descr="MCj01975660000[1]"/>
          <p:cNvPicPr/>
          <p:nvPr/>
        </p:nvPicPr>
        <p:blipFill>
          <a:blip r:embed="rId1"/>
          <a:stretch/>
        </p:blipFill>
        <p:spPr>
          <a:xfrm>
            <a:off x="6705720" y="304920"/>
            <a:ext cx="182880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Learning is collaborativ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7" descr="MCBD19801_0000[1]"/>
          <p:cNvPicPr/>
          <p:nvPr/>
        </p:nvPicPr>
        <p:blipFill>
          <a:blip r:embed="rId1"/>
          <a:stretch/>
        </p:blipFill>
        <p:spPr>
          <a:xfrm>
            <a:off x="6248520" y="3886200"/>
            <a:ext cx="2506680" cy="2643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own se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fortabl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 and Tal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 Warm-ups and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Du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Link past to pres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iv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assum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ing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 pictur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ne Squar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MCBD04929_0000[1]"/>
          <p:cNvPicPr/>
          <p:nvPr/>
        </p:nvPicPr>
        <p:blipFill>
          <a:blip r:embed="rId1"/>
          <a:stretch/>
        </p:blipFill>
        <p:spPr>
          <a:xfrm rot="20363400">
            <a:off x="5181120" y="2057400"/>
            <a:ext cx="3732480" cy="2979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447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otions &amp; Stress ca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learnin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2712600"/>
            <a:ext cx="76201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 environment = high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 thinking/crea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ht &amp; Flight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ic, breathing exercises, personal connections, and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MCPE01496_0000[1]"/>
          <p:cNvPicPr/>
          <p:nvPr/>
        </p:nvPicPr>
        <p:blipFill>
          <a:blip r:embed="rId1"/>
          <a:stretch/>
        </p:blipFill>
        <p:spPr>
          <a:xfrm>
            <a:off x="6400800" y="1312920"/>
            <a:ext cx="20397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696080" cy="146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Conscious and  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Unconscious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t brea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aids :  posters, maps and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in breaks every 20 - 30 minutes using strategies from principl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using different mod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4-48-72 Review ses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ames, flash cards, teach a peer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ions: Quick write on first 4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Multiple memory pathw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icit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icit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-48-72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Q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WH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7" descr="MPj04387270000[1]"/>
          <p:cNvPicPr/>
          <p:nvPr/>
        </p:nvPicPr>
        <p:blipFill>
          <a:blip r:embed="rId1"/>
          <a:stretch/>
        </p:blipFill>
        <p:spPr>
          <a:xfrm>
            <a:off x="5181480" y="365760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 Adult brain is u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stops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ll a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ral pathways are created every time we challenge our mi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 Learning Streng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ory, visual, kinesth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MPj04387460000[1]"/>
          <p:cNvPicPr/>
          <p:nvPr/>
        </p:nvPicPr>
        <p:blipFill>
          <a:blip r:embed="rId1"/>
          <a:stretch/>
        </p:blipFill>
        <p:spPr>
          <a:xfrm>
            <a:off x="6781680" y="39625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  Healthy Lifesty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s mental sharp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ily Rout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 up Sit 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MPj04276300000[1]"/>
          <p:cNvPicPr/>
          <p:nvPr/>
        </p:nvPicPr>
        <p:blipFill>
          <a:blip r:embed="rId1"/>
          <a:stretch/>
        </p:blipFill>
        <p:spPr>
          <a:xfrm>
            <a:off x="5105520" y="2971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0:38:08Z</dcterms:created>
  <dc:creator>BSD</dc:creator>
  <dc:description/>
  <dc:language>en-US</dc:language>
  <cp:lastModifiedBy>Gayle Thieman</cp:lastModifiedBy>
  <dcterms:modified xsi:type="dcterms:W3CDTF">2014-05-15T16:17:27Z</dcterms:modified>
  <cp:revision>10</cp:revision>
  <dc:subject/>
  <dc:title>Adult Learners</dc:title>
</cp:coreProperties>
</file>