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D4C6-147D-4BBE-847C-A8820E31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38E5-CA35-4B5E-9233-86E7CFE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7A75-3133-43BC-91E1-3A73993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6E4F-02E0-40BC-8E0B-7D5EA85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13DE-E6BF-4940-B29B-B3649F56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E96-3EC9-466B-A2E0-729EAE16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F21F-BB79-44EF-B931-F989808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3AB-F3F9-43FE-AA7A-1D17C47A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188A-5DD3-4A45-81BB-152E351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E2D-65CE-4457-B034-AC109B34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81E-7F78-4257-BDB6-3A38D88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ADCA-1EF2-4D44-BEFF-C1767DC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3ACE-4ADA-4041-AE86-A3D56BF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7619-92FB-4290-9F48-D6BE61FB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D24F-7469-4D6A-A49C-871B581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548B-1DAC-4AF8-A533-86F04A3E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431D-B178-4902-807F-ACA66B9C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B81B-A227-4E07-8D4F-7AFAE702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DF72-8A99-4151-ACE9-49EBB334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63B9-5E1E-4F99-AAEF-5C07BBD7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D883-07C6-43DD-AC29-C900FBC4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6174-C5D0-4809-B040-7BAF5ED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41F2-3680-4CB0-99E8-6AB3C19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725B-11B2-4B32-B3F0-53C6A664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ACF1-D7EF-4A15-B4CD-0E1847A70D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124-8B4B-44ED-BCC1-72C19F3B51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Lucida Calligraphy"/>
                <a:ea typeface="Times New Roman"/>
              </a:rPr>
              <a:t>P l a n t 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572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.Video “My First Green Video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kids’ guide to ecology &amp; environmental Activities. Based on the Popular “My First “ book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tep by step activities that kids have fun with while making the Earth a greener place to live 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K interactive learning help desk. “Amazing Science Explorer” It is about Answers to tricky questions every child asks. (Internet required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elebrate Seasons. Songs and activities. Offered in French, Spanish, and English. (disc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D-Rom &amp; Teacher’s manual. “Native Americans People of the Forest” (Rainbow Educational Media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udio tape and book: “Jonny Appleseed” by James Howard Kunstl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OOKS: “A Parade of the Plants” by Melissa Stewar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 Tree Is a Plant” by Clyde Robert B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ow Plants Grow” by Malcom Penn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eds and Seedlings” by Elaine Pasco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ife Cycle of a Sunflower” by Jason Coop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ungry Plants” by mary Ba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lants Bite Back” by Richard Plat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hat’s This?” by Caroline Mockf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Giving Tree” by Shel Silverste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71600"/>
          <a:ext cx="4648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648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59960" y="63565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102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Subject &amp; Grade Leve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ife Science:  Benchmark 2, grade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ganisms: Understand the characteristics, structure, and functions of organ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iversity/Interdependence: Understand the relationships among living things and between living things and their environ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Use drawings or models to represent the plant parts and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754400" y="63565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Less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orming the question/hypothesis: formulate and express scientific questions or hypotheses to be investig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esigning the investigation: design safe and ethical scientific investigations to address questions or hypotheses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llecting, organizing, and presenting dat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alyzing and interpreting results, develop and present conclus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745760" y="6203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Essential Question:  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What supports life on Earth?</a:t>
            </a:r>
            <a:br>
              <a:rPr sz="5000"/>
            </a:b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Unit Questions:</a:t>
            </a: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	</a:t>
            </a:r>
            <a:br>
              <a:rPr sz="5000"/>
            </a:br>
            <a:r>
              <a:rPr b="1" i="1" lang="en-US" sz="5000" spc="-1" strike="noStrike">
                <a:solidFill>
                  <a:srgbClr val="008000"/>
                </a:solidFill>
                <a:latin typeface="Lucida Calligraphy"/>
              </a:rPr>
              <a:t>How do plants grow?</a:t>
            </a:r>
            <a:br>
              <a:rPr sz="5000"/>
            </a:b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1: Plants Are Powerful! Intro to plant form and fun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2: How do Plants Grow? Student designs and monitor plant growth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3:  Digging In the Dirt. Intro to the soil layers and inse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4:  Raindrops Keep Falling On My Head: Intro to the water and water cyc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esson 5:  I’m No Coward! I’m Solar-Powered! Intro to sun and electromagnetic spectru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8320" y="1447920"/>
          <a:ext cx="4190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4190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25800" y="64324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rning Objectiv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 will understand and explain basic plant morphology and anatom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mmunicate the role plants play in the enviro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alize animal’s dependent relationship with pla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develop an awareness about plants and their importance to sustaining life on Ear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recognize and understand plant structure and the requirements needed for seed grow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gain information about the conditions contingent for plant growth: water, sunlight, and nutrien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er will conduct a scientific experiment, formulate, and justify predictions as they work cooperatively to achie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on go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756560" y="6432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93840" y="-11160"/>
            <a:ext cx="481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cation of plant parts and functions by creating an art model with leg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a journal with recorded observations, measurements, drawings, graphs, and questions about their journey in learning about pla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participation and presentation of their plant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617220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sson 1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d Shel Silverstein’s book,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he Giving Tre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-assessmen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k the learner, via discussion, what they know about plants in their everyday liv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Divide learner into the following group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oot, Stem, Leaf, Flower, and Se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Direct groups to investigate their part of the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ant using Web quest and draw a poster of their part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 the plant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Have each group share their discovery with the class in the form of informal group 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 Students will create a paper model of their plant with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ge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Lesson 2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roduc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ning song: Leaves Fall Seeds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-Test and Post-Tes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swer a short questionnai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v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investigate the parts of the seed, draw/write a short description in their jour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acher explains what the experiment is about, and divide students in groups based on what variable students want to t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make a prediction and record their experiment data in their journ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udents will present and share their experiment findings with their pe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886520" y="60516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ri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3:45:01Z</dcterms:created>
  <dc:creator>misl</dc:creator>
  <dc:description/>
  <dc:language>en-US</dc:language>
  <cp:lastModifiedBy>Gayle Thieman</cp:lastModifiedBy>
  <dcterms:modified xsi:type="dcterms:W3CDTF">2004-08-10T20:39:19Z</dcterms:modified>
  <cp:revision>16</cp:revision>
  <dc:subject/>
  <dc:title>Adriana Aivazis &amp; Pang Fo Vang Instruction and Technology Elementary Cohort Prof. G. Thiegman</dc:title>
</cp:coreProperties>
</file>