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2E2D-975A-4D2B-848A-48FDACA0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FB3A-EF6A-477E-A837-9129B1B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2A40-88CE-4BF6-97B2-2A624191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FC6B-6EBC-4E9B-BDEF-6E30DC28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F702-E0D1-46E2-9F67-3843C824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FC5-5C2A-4208-8F86-7CD92557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7DE6-041A-4840-B60B-A14A94E8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D04-9BA7-4068-BAD4-FE15C36D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207-7A67-4F9A-AA0C-1B69E80D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D83-C5A0-422C-B54A-C0D54F9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71B-5693-4858-839C-1934650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1AD7-00EA-4452-AE65-A5C1957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5236-FFC5-4978-BAC6-B439248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C97-41FB-49C8-B4FE-0E4155C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6102-7062-4061-BAC7-E34C341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D460-DAE9-498E-AB82-D0158DD9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636-E608-445C-986C-98E8D414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5B13-9026-4694-AEBC-A5922FF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CB97-5D18-47DF-8C29-482A249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4C8F-F68A-4649-BCE4-C20F192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1B62-192F-4F33-B463-3965D67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E593-FEE1-4939-8612-5E2C824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4E8B-F3E3-4F68-9237-D9217FC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97B5-9C4D-4BFD-9254-3217930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6500-9A01-4AF2-849D-5C6E82D77E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A931-335F-4D88-A738-8C2EC21120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Lucida Calligraphy"/>
                <a:ea typeface="Times New Roman"/>
              </a:rPr>
              <a:t>P l a n t 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572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Video “My First Green Video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kids’ guide to ecology &amp; environmental Activities. Based on the Popular “My First “ book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tep by step activities that kids have fun with while making the Earth a greener place to live 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K interactive learning help desk. “Amazing Science Explorer” It is about Answers to tricky questions every child asks. (Internet required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elebrate Seasons. Songs and activities. Offered in French, Spanish, and English. (disc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D-Rom &amp; Teacher’s manual. “Native Americans People of the Forest” (Rainbow Educational Media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udio tape and book: “Jonny Appleseed” by James Howard Kunstl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OOKS: “A Parade of the Plants” by Melissa Stewar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Tree Is a Plant” by Clyde Robert B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w Plants Grow” by Malcom Penn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eds and Seedlings” by Elaine Pasco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ife Cycle of a Sunflower” by Jason Coop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ungry Plants” by mary Ba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lants Bite Back” by Richard Plat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hat’s This?” by Caroline Mockf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Giving Tree” by Shel Silverste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71600"/>
          <a:ext cx="4648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648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59960" y="63565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102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ubject &amp; Grade Leve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ife Science:  Benchmark 2, grade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ganisms: Understand the characteristics, structure, and functions of organ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versity/Interdependence: Understand the relationships among living things and between living things and their environ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Use drawings or models to represent the plant parts and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754400" y="6356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orming the question/hypothesis: formulate and express scientific questions or hypotheses to be investig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signing the investigation: design safe and ethical scientific investigations to address questions or hypothese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llecting, organizing, and presenting dat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alyzing and interpreting results, develop and present conclus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745760" y="6203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Essential Question:  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What supports life on Earth?</a:t>
            </a:r>
            <a:br>
              <a:rPr sz="5000"/>
            </a:b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Unit Questions:</a:t>
            </a: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	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How do plants grow?</a:t>
            </a:r>
            <a:br>
              <a:rPr sz="5000"/>
            </a:b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1: Plants Are Powerful! Intro to plant form and fun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2: How do Plants Grow? Student designs and monitor plant growt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3:  Digging In the Dirt. Intro to the soil layers and inse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4:  Raindrops Keep Falling On My Head: Intro to the water and water cyc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5:  I’m No Coward! I’m Solar-Powered! Intro to sun and electromagnetic spectr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8320" y="1447920"/>
          <a:ext cx="4190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190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25800" y="6432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rning Objectiv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 will understand and explain basic plant morphology and anatom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mmunicate the role plants play in the enviro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alize animal’s dependent relationship with pla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develop an awareness about plants and their importance to sustaining life on Ear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cognize and understand plant structure and the requirements needed for seed grow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gain information about the conditions contingent for plant growth: water, sunlight, and nutri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nduct a scientific experiment, formulate, and justify predictions as they work cooperatively to achie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on go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756560" y="6432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93840" y="-11160"/>
            <a:ext cx="481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 of plant parts and functions by creating an art model with leg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journal with recorded observations, measurements, drawings, graphs, and questions about their journey in learning about pla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participation and presentation of their plant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617220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1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d Shel Silverstein’s book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Giving Tre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-assessmen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k the learner, via discussion, what they know about plants in their everyday liv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Divide learner into the following group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ot, Stem, Leaf, Flower, and Se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Direct groups to investigate their part of the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ant using Web quest and draw a poster of their part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plant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Have each group share their discovery with the class in the form of informal group 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 Students will create a paper model of their plant with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g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Lesson 2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ning song: Leaves Fall Seeds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-Test and Post-Tes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swer a short questionnai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investigate the parts of the seed, draw/write a short description in their jour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acher explains what the experiment is about, and divide students in groups based on what variable students want to t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make a prediction and record their experiment data in their journ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present and share their experiment findings with their pe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86520" y="6051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3:45:01Z</dcterms:created>
  <dc:creator>misl</dc:creator>
  <dc:description/>
  <dc:language>en-US</dc:language>
  <cp:lastModifiedBy>Gayle Thieman</cp:lastModifiedBy>
  <dcterms:modified xsi:type="dcterms:W3CDTF">2004-08-10T20:39:19Z</dcterms:modified>
  <cp:revision>16</cp:revision>
  <dc:subject/>
  <dc:title>Adriana Aivazis &amp; Pang Fo Vang Instruction and Technology Elementary Cohort Prof. G. Thiegman</dc:title>
</cp:coreProperties>
</file>