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9FD8A-3B90-4F3E-8853-12409BDA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53E50-6F28-4FD9-8F4A-548BA4F0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C5DB6-62F2-4E8C-8212-30B9275C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A1D27-847C-4EDB-9059-0D4BB0BA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3194-B0DE-42DC-B060-6F3C06D3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5570-A08C-4A99-86E3-8E02CD85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5FDD-55F9-4409-A862-5479F187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79E0-8FC8-4857-8C24-1DDA22A7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93E2-9F19-4942-BBB8-F75FF432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3A68-E421-4AB4-B9C1-8A64EAC4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3E3A-6DA2-4B99-BDEC-9E834A5C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2C194-207B-44F6-8650-FCEFBE63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9526-F5EF-4ACF-93AA-6AFAC130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8C86-F0FD-45CC-A7E1-4EA3C139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AC58-0BF8-4278-9F4F-6011D09C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1DF0-D9FE-450F-914B-E2597898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D550-E325-4E20-A94B-2C320A42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1017E-79DA-4BF9-BC3B-47EB6847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E9B80-97D6-40C3-9C78-345C5C6C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673CD-FD95-4CDA-9C4B-2D4D6AF3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5C0DE-5A8C-4EDD-A7A3-4D41449B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2DCF6-2C7F-4CD2-8803-F0FEFEA7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461BB-9B33-488F-87CF-4942E868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131E5-32B8-4D73-83DC-8A32C7DC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873B-395B-479E-BF7E-0FCADE319C4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CBA9-9E1A-4B39-840B-2EC371F40CD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Lucida Calligraphy"/>
                <a:ea typeface="Times New Roman"/>
              </a:rPr>
              <a:t>P l a n t 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ferenc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0" y="1295280"/>
            <a:ext cx="45720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.Video “My First Green Video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A kids’ guide to ecology &amp; environmental Activities. Based on the Popular “My First “ book se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tep by step activities that kids have fun with while making the Earth a greener place to live 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K interactive learning help desk. “Amazing Science Explorer” It is about Answers to tricky questions every child asks. (Internet required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elebrate Seasons. Songs and activities. Offered in French, Spanish, and English. (disc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D-Rom &amp; Teacher’s manual. “Native Americans People of the Forest” (Rainbow Educational Media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Audio tape and book: “Jonny Appleseed” by James Howard Kunstle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BOOKS: “A Parade of the Plants” by Melissa Stewar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A Tree Is a Plant” by Clyde Robert Bu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ow Plants Grow” by Malcom Penn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eeds and Seedlings” by Elaine Pasco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Life Cycle of a Sunflower” by Jason Coop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ungry Plants” by mary Bat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lants Bite Back” by Richard Plat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What’s This?” by Caroline Mockfor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he Giving Tree” by Shel Silverste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1371600"/>
          <a:ext cx="464832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46483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7059960" y="635652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Adri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01028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Subject &amp; Grade Level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Life Science:  Benchmark 2, grade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Lesson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Organisms: Understand the characteristics, structure, and functions of organis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Diversity/Interdependence: Understand the relationships among living things and between living things and their environ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Use drawings or models to represent the plant parts and fun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7754400" y="63565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Va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Lesson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Forming the question/hypothesis: formulate and express scientific questions or hypotheses to be investiga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Designing the investigation: design safe and ethical scientific investigations to address questions or hypotheses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Collecting, organizing, and presenting data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Analyzing and interpreting results, develop and present conclus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7745760" y="620388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Adri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8000"/>
                </a:solidFill>
                <a:latin typeface="Lucida Calligraphy"/>
              </a:rPr>
              <a:t>Essential Question:  </a:t>
            </a:r>
            <a:br>
              <a:rPr sz="5000"/>
            </a:br>
            <a:r>
              <a:rPr b="1" i="1" lang="en-US" sz="5000" spc="-1" strike="noStrike">
                <a:solidFill>
                  <a:srgbClr val="008000"/>
                </a:solidFill>
                <a:latin typeface="Lucida Calligraphy"/>
              </a:rPr>
              <a:t>What supports life on Earth?</a:t>
            </a:r>
            <a:br>
              <a:rPr sz="5000"/>
            </a:br>
            <a:br>
              <a:rPr sz="5000"/>
            </a:br>
            <a:r>
              <a:rPr b="1" i="1" lang="en-US" sz="5000" spc="-1" strike="noStrike">
                <a:solidFill>
                  <a:srgbClr val="008000"/>
                </a:solidFill>
                <a:latin typeface="Lucida Calligraphy"/>
              </a:rPr>
              <a:t>Unit Questions:</a:t>
            </a:r>
            <a:r>
              <a:rPr b="1" i="1" lang="en-US" sz="5000" spc="-1" strike="noStrike">
                <a:solidFill>
                  <a:srgbClr val="008000"/>
                </a:solidFill>
                <a:latin typeface="Lucida Calligraphy"/>
              </a:rPr>
              <a:t>	</a:t>
            </a:r>
            <a:br>
              <a:rPr sz="5000"/>
            </a:br>
            <a:r>
              <a:rPr b="1" i="1" lang="en-US" sz="5000" spc="-1" strike="noStrike">
                <a:solidFill>
                  <a:srgbClr val="008000"/>
                </a:solidFill>
                <a:latin typeface="Lucida Calligraphy"/>
              </a:rPr>
              <a:t>How do plants grow?</a:t>
            </a:r>
            <a:br>
              <a:rPr sz="5000"/>
            </a:b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Unit Outli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sson 1: Plants Are Powerful! Intro to plant form and func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sson 2: How do Plants Grow? Student designs and monitor plant growth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sson 3:  Digging In the Dirt. Intro to the soil layers and insect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sson 4:  Raindrops Keep Falling On My Head: Intro to the water and water cycl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sson 5:  I’m No Coward! I’m Solar-Powered! Intro to sun and electromagnetic spectrum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00240" y="1599840"/>
            <a:ext cx="3886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648320" y="1447920"/>
          <a:ext cx="41907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447920"/>
                    <a:ext cx="41907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525800" y="6432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Va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earning Objectiv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udent will understand and explain basic plant morphology and anatom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will communicate the role plants play in the environm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will realize animal’s dependent relationship with plan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will develop an awareness about plants and their importance to sustaining life on Eart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will recognize and understand plant structure and the requirements needed for seed growt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gain information about the conditions contingent for plant growth: water, sunlight, and nutrien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will conduct a scientific experiment, formulate, and justify predictions as they work cooperatively to achie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common go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7756560" y="6432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93840" y="-11160"/>
            <a:ext cx="4816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sson Assess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ication of plant parts and functions by creating an art model with leg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a journal with recorded observations, measurements, drawings, graphs, and questions about their journey in learning about plan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participation and presentation of their plant pro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8001000" y="6172200"/>
            <a:ext cx="114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sson 1 Outli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troduction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ad Shel Silverstein’s book,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The Giving Tre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e-assessmen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sk the learner, via discussion, what they know about plants in their everyday liv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ctivity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. Divide learner into the following group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oot, Stem, Leaf, Flower, and Se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. Direct groups to investigate their part of the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lant using Web quest and draw a poster of their part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f the plant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. Have each group share their discovery with the class in the form of informal group present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.  Students will create a paper model of their plant with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gen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8229600" y="6583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Lesson 2 outli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troduct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pening song: Leaves Fall Seeds F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-Test and Post-Tes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swer a short questionnai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ctivit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udents will investigate the parts of the seed, draw/write a short description in their jour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eacher explains what the experiment is about, and divide students in groups based on what variable students want to tes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udents make a prediction and record their experiment data in their journal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udents will present and share their experiment findings with their pe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886520" y="60516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ri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3:45:01Z</dcterms:created>
  <dc:creator>misl</dc:creator>
  <dc:description/>
  <dc:language>en-US</dc:language>
  <cp:lastModifiedBy>Gayle Thieman</cp:lastModifiedBy>
  <dcterms:modified xsi:type="dcterms:W3CDTF">2004-08-10T20:39:19Z</dcterms:modified>
  <cp:revision>16</cp:revision>
  <dc:subject/>
  <dc:title>Adriana Aivazis &amp; Pang Fo Vang Instruction and Technology Elementary Cohort Prof. G. Thiegman</dc:title>
</cp:coreProperties>
</file>