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png" ContentType="image/png"/>
  <Override PartName="/ppt/media/image21.gif" ContentType="image/gif"/>
  <Override PartName="/ppt/media/image19.gif" ContentType="image/gif"/>
  <Override PartName="/ppt/media/image14.jpeg" ContentType="image/jpeg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7.gif" ContentType="image/gif"/>
  <Override PartName="/ppt/media/image1.jpeg" ContentType="image/jpeg"/>
  <Override PartName="/ppt/media/image10.png" ContentType="image/png"/>
  <Override PartName="/ppt/media/image35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23.gif" ContentType="image/gif"/>
  <Override PartName="/ppt/media/image34.pct" ContentType="image/x-pict"/>
  <Override PartName="/ppt/media/image37.png" ContentType="image/png"/>
  <Override PartName="/ppt/media/image36.pct" ContentType="image/x-pict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49.png" ContentType="image/png"/>
  <Override PartName="/ppt/media/image12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5.jpeg" ContentType="image/jpeg"/>
  <Override PartName="/ppt/media/image40.png" ContentType="image/png"/>
  <Override PartName="/ppt/media/image4.jpeg" ContentType="image/jpeg"/>
  <Override PartName="/ppt/media/image22.gif" ContentType="image/gif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D52F-E624-404D-B49C-3848818D5570}" type="datetime">
              <a:rPr b="0" lang="en-US" sz="1200" spc="-1" strike="noStrike">
                <a:solidFill>
                  <a:srgbClr val="000000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5532-B651-42C2-ACA6-AB7846B03EA3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70C7-72E3-4EB1-8C78-F77ADA528A52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elow, B., Christensen, L., Karp, S., Miner, B., &amp; Peterson, B. (Eds.)  (1994)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thinking Our Classrooms: Teaching for Equity and Justi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Milwaukee: Rethinking Sch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C958-8596-4680-B977-E636FD887A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0C79-EFE9-4D3C-A238-F7CD867211B0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ke (2006a) writes, “In digitized knowledge and networked environments, an understanding of the relations among ideas is as [important] if not more important than mastery of the bare facts.  The conceptual shift here is one 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lle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nne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” (p. 27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8CAC-991D-490A-B282-F51335DF5F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25C1-61ED-4924-AD10-20758C4AB4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0469-64CA-4CA4-9339-04B804FCA1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30A9-51D8-4B99-9AF8-C11924E17F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99A5-EEF6-4D24-88E9-36BC1D2388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FF22-11BF-4E17-949E-84AB8D4767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6BD3-EB20-4C55-8D80-1E3F744B0A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F96F-9DE4-43F3-B5BC-0B986D6FBB9D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AD4F-0494-4A57-9693-5425FD5DBB9F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D2E-4A2C-4A87-BB93-94548915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34C-68F2-4886-BBAD-6097DB50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E31-D812-4092-8EB7-85FDA357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C47-4CF1-4526-8D3B-480C0F7D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49F5-23D1-4F34-AE96-B6E3434E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B771-E412-4EEA-B9E5-7923614D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89EB-9DF2-4B31-B324-AA9F197A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17A0-E8E4-4A2F-8493-8E5ED4A1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C4D5-842C-4FC5-9B09-782D0599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7DAF-723C-45A6-8F5A-FCB72A83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BEE8-44A2-47E9-ACC2-A11BE165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70C-6F12-4B4C-B1D1-CFE5B17F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DDBD-A293-4D27-A00C-6D721F73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2799-F2D2-42EE-BB9D-24AF95DA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4A7C-357D-419A-B1F0-C841E264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3919-9CED-4BD8-A598-07A056CC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A174-D156-45C2-A949-ACDFDAA4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A26D-BCDC-4D33-8900-C1710374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93ED-9B30-42A1-B472-C3C51A04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5F26-B842-4566-A428-656800E3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EBA1E-2054-4D3E-9CB4-1E8A577E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328CC-1064-4D70-B253-2C3840CF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2BE-71F9-43B6-9506-719E1ECE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F5AB-5E72-4556-B460-50BBD2BE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B79B-1B30-4F33-820C-F996CEE1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096E-60F1-4E7B-9C71-132ED168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8EF5-83B0-4C4D-8C56-00B877DC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E225-92AC-4457-9D15-E8D2042B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06FC-3DF3-40A9-8499-BEC208AF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5204-8E4A-4416-B440-518BAB7E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FDC5-9457-4662-B3CD-F67E6DE7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9CEB-7487-4215-90C1-7D918B84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B7DB-5A04-49E8-BFE3-88F63AF5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5FF-BE2C-418E-AE98-168E70A9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35F00-B750-43EE-BB39-8690E51B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DE1BC-376E-4393-A421-7285F413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17D27-FEB8-44FC-8238-7A0B287D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D209F-A20B-4EFD-9809-F348956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B9FD5-93AA-47AB-B799-332509D9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593D-8CD0-453F-8C23-1E38E55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1093-BEC6-4163-A339-5198529C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651E-CCF9-486F-B7AB-9016D55C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36ED-504F-4922-B5E8-9323D97D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69B4E-4F65-42F0-9072-41CB4B3F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E61-198E-4492-BBC9-6114A0C7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EEDB-BDDC-4817-A959-C9CBFDD4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364AC-219F-4327-AE2C-82355340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C243F-ED96-4E87-8CC1-5956B7C3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5020F-E60A-4118-A34C-A4525183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0A9D4-D4CC-45DB-907A-B7E71300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46D15-BFEA-4411-9420-F9C403F0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33773-6FCA-40AD-80F7-57563C67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6B770-01B3-4866-A759-34AB1000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03EAD-4230-4603-B110-B4D434FF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96279-B344-43F7-A266-1A648415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E88-7250-4B6B-BF51-187C59EB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4D521-8FF6-4BF2-83C9-E270AD97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C566-FFA0-47C2-B649-B817E2E2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258AD-63F8-468E-B26B-C3F36C56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4FBB5-75D1-4A09-9CD9-E89C335B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11E82-C7F0-47A6-9169-8AAAAFA7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3F22-4D69-4F0E-9CBB-E91F81E9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82F78-162C-486B-A64C-FF08652F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8AA4E-6DE8-4FBD-AE0A-10A771E2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9B0A1-DB31-40EC-BA61-3311822D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7054-7B44-436E-BFF2-A006F5DD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55F-21F6-4E5E-8FD5-977FFFE3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A4D6D-954C-4C6E-BC52-26DE75DE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0BC85-DB30-4B7E-9BC5-27FEEA87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FE5D0-1341-4812-9B49-A880DFF1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4D7-FD44-4A47-AA2F-895D3DC4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883-AF26-4093-8116-28577607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D031-2396-42E2-AC8A-153A81A3375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E265-8908-4827-A1B2-71DEA32F2F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8826-4044-40BA-BE0D-8AFBD6FF7D3D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B10-FF17-4817-B6EF-89109C8673A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83B5-EF18-4FDC-994B-E17DB7BCB9E6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A57A-A565-4760-A515-E49FDBF7FDD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B8B8-386F-4157-B72D-98210D31E2C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0E2B-DBFA-4990-A3E9-A71B80793BA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3981-81DB-4563-8815-5F0F409004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E7E7-6640-4605-AE39-6A2BC5CBCD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19.gif"/><Relationship Id="rId4" Type="http://schemas.openxmlformats.org/officeDocument/2006/relationships/image" Target="../media/image28.gif"/><Relationship Id="rId5" Type="http://schemas.openxmlformats.org/officeDocument/2006/relationships/image" Target="../media/image20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sus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rcycorps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ocialstudies.org/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pct"/><Relationship Id="rId5" Type="http://schemas.openxmlformats.org/officeDocument/2006/relationships/image" Target="../media/image34.pct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oicethread.com/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logtalkradio.com/" TargetMode="External"/><Relationship Id="rId3" Type="http://schemas.openxmlformats.org/officeDocument/2006/relationships/hyperlink" Target="http://www.sajaforum.org/2008/11/breaking-news-terrorists-attack-mumbai-hotels.html" TargetMode="External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eativecommons.org/" TargetMode="External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chertube.com/index.php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hyperlink" Target="http://www.flickr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Participatory Media and Citizenship Education</a:t>
            </a:r>
            <a:br>
              <a:rPr sz="54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n Opportunity for Social Studies to Help Youth Have Their Say 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ttp://communities.socialstudies.org/communities/technology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28600" y="5257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yle Thieman, Joe O’Brien, John Lee, Elizabeth R. Hind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 Educational Research Associ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l  14, 2009  2:15-3:4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nhart, et al, found that generally civic gaming experiences are related to higher engagement in the real worl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tshorn and Van Fossen (2008) also found that civic gaming experiences positively affect civic engagement. They specifically studied players involved in MMORPG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, civic gaming experiences (experiences involving civic action in virtual worlds) are positively related to civic engagement in the real worl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914400" y="1676520"/>
            <a:ext cx="70866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How  might teachers enlist…young people’s enthusiasm for using digital media in the service of civic engagement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76320" y="68580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d9"/>
                </a:solidFill>
                <a:latin typeface="Arial"/>
              </a:rPr>
              <a:t>Democrac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76320" y="146376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s active citizens participating with many voices, critical inquiries, alternative representations, and dis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Forever Kool"/>
          <p:cNvPicPr/>
          <p:nvPr/>
        </p:nvPicPr>
        <p:blipFill>
          <a:blip r:embed="rId2"/>
          <a:stretch/>
        </p:blipFill>
        <p:spPr>
          <a:xfrm>
            <a:off x="5486400" y="4122720"/>
            <a:ext cx="3657600" cy="2725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BENNETON"/>
          <p:cNvPicPr/>
          <p:nvPr/>
        </p:nvPicPr>
        <p:blipFill>
          <a:blip r:embed="rId3"/>
          <a:stretch/>
        </p:blipFill>
        <p:spPr>
          <a:xfrm>
            <a:off x="2819520" y="3733920"/>
            <a:ext cx="2271600" cy="3124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Nike"/>
          <p:cNvPicPr/>
          <p:nvPr/>
        </p:nvPicPr>
        <p:blipFill>
          <a:blip r:embed="rId4"/>
          <a:stretch/>
        </p:blipFill>
        <p:spPr>
          <a:xfrm>
            <a:off x="4876920" y="3733920"/>
            <a:ext cx="1304640" cy="1209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Dissent-JeffersonSm"/>
          <p:cNvPicPr/>
          <p:nvPr/>
        </p:nvPicPr>
        <p:blipFill>
          <a:blip r:embed="rId5"/>
          <a:srcRect l="0" t="2322" r="0" b="0"/>
          <a:stretch/>
        </p:blipFill>
        <p:spPr>
          <a:xfrm>
            <a:off x="293760" y="3657600"/>
            <a:ext cx="22208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33" name="Picture 8" descr="dissent_j"/>
          <p:cNvPicPr/>
          <p:nvPr/>
        </p:nvPicPr>
        <p:blipFill>
          <a:blip r:embed="rId6"/>
          <a:stretch/>
        </p:blipFill>
        <p:spPr>
          <a:xfrm>
            <a:off x="6319800" y="152280"/>
            <a:ext cx="2824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8,111,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48,-33,-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f we ask the children to critique the world but then fail to encourage them to act, our classrooms can degenerate into factories of cynicism.  While it’s not a teacher’s role to direct students to particular organizations, it is a teacher’s role to suggest that ideas need to be acted upon and to offer students opportunities to do just that.” (p. 5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0" y="655308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igelow, B., Christensen, L., Karp, S., Miner, B., &amp; Peterson, B. (Eds.)  (1994).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Rethinking Our Classrooms: Teaching for Equity and Justi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.  Milwaukee: Rethinking School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2057400" y="89856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dd9"/>
                </a:solidFill>
                <a:latin typeface="Arial"/>
                <a:ea typeface="Arial"/>
              </a:rPr>
              <a:t>Civic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Computer-Kid"/>
          <p:cNvPicPr/>
          <p:nvPr/>
        </p:nvPicPr>
        <p:blipFill>
          <a:blip r:embed="rId2"/>
          <a:stretch/>
        </p:blipFill>
        <p:spPr>
          <a:xfrm>
            <a:off x="6400800" y="5638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Duck-painter"/>
          <p:cNvPicPr/>
          <p:nvPr/>
        </p:nvPicPr>
        <p:blipFill>
          <a:blip r:embed="rId3"/>
          <a:stretch/>
        </p:blipFill>
        <p:spPr>
          <a:xfrm>
            <a:off x="7848720" y="228600"/>
            <a:ext cx="952560" cy="971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MAIL3"/>
          <p:cNvPicPr/>
          <p:nvPr/>
        </p:nvPicPr>
        <p:blipFill>
          <a:blip r:embed="rId4"/>
          <a:stretch/>
        </p:blipFill>
        <p:spPr>
          <a:xfrm>
            <a:off x="2057400" y="569592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2_computers"/>
          <p:cNvPicPr/>
          <p:nvPr/>
        </p:nvPicPr>
        <p:blipFill>
          <a:blip r:embed="rId5"/>
          <a:stretch/>
        </p:blipFill>
        <p:spPr>
          <a:xfrm>
            <a:off x="5076720" y="228600"/>
            <a:ext cx="1019160" cy="333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Music"/>
          <p:cNvPicPr/>
          <p:nvPr/>
        </p:nvPicPr>
        <p:blipFill>
          <a:blip r:embed="rId6"/>
          <a:stretch/>
        </p:blipFill>
        <p:spPr>
          <a:xfrm>
            <a:off x="380880" y="304920"/>
            <a:ext cx="1295640" cy="1217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cameraguy1"/>
          <p:cNvPicPr/>
          <p:nvPr/>
        </p:nvPicPr>
        <p:blipFill>
          <a:blip r:embed="rId7"/>
          <a:stretch/>
        </p:blipFill>
        <p:spPr>
          <a:xfrm>
            <a:off x="8001000" y="5334120"/>
            <a:ext cx="890640" cy="890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1" descr="Constitution_signed"/>
          <p:cNvPicPr/>
          <p:nvPr/>
        </p:nvPicPr>
        <p:blipFill>
          <a:blip r:embed="rId8"/>
          <a:stretch/>
        </p:blipFill>
        <p:spPr>
          <a:xfrm>
            <a:off x="3733920" y="5581800"/>
            <a:ext cx="1523880" cy="819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2" descr="Photographer_4"/>
          <p:cNvPicPr/>
          <p:nvPr/>
        </p:nvPicPr>
        <p:blipFill>
          <a:blip r:embed="rId9"/>
          <a:stretch/>
        </p:blipFill>
        <p:spPr>
          <a:xfrm>
            <a:off x="533520" y="5486400"/>
            <a:ext cx="476280" cy="36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artnership for 21st Century Skill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ttp://www.21stcenturyskills.or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ivity and  Inno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itical Thinking and Problem Solv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tion Lite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T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81480" y="365724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c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, Economic, 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ware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5486400" y="2133720"/>
            <a:ext cx="3328560" cy="2861640"/>
            <a:chOff x="5486400" y="2133720"/>
            <a:chExt cx="3328560" cy="2861640"/>
          </a:xfrm>
        </p:grpSpPr>
        <p:pic>
          <p:nvPicPr>
            <p:cNvPr id="349" name="Picture 7" descr=""/>
            <p:cNvPicPr/>
            <p:nvPr/>
          </p:nvPicPr>
          <p:blipFill>
            <a:blip r:embed="rId2"/>
            <a:stretch/>
          </p:blipFill>
          <p:spPr>
            <a:xfrm>
              <a:off x="5609880" y="2133720"/>
              <a:ext cx="3205080" cy="20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8"/>
            <p:cNvSpPr/>
            <p:nvPr/>
          </p:nvSpPr>
          <p:spPr>
            <a:xfrm>
              <a:off x="5486400" y="4471560"/>
              <a:ext cx="32652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852b7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704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21</a:t>
            </a:r>
            <a:r>
              <a:rPr b="1" lang="en-US" sz="40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Century Skills Map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CSS &amp; Partnership for 21</a:t>
            </a:r>
            <a:r>
              <a:rPr b="1" lang="en-US" sz="40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 Century Skil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923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86868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914400" y="2941560"/>
            <a:ext cx="7315200" cy="2163600"/>
            <a:chOff x="914400" y="2941560"/>
            <a:chExt cx="7315200" cy="2163600"/>
          </a:xfrm>
        </p:grpSpPr>
        <p:sp>
          <p:nvSpPr>
            <p:cNvPr id="355" name="Rectangle 3"/>
            <p:cNvSpPr/>
            <p:nvPr/>
          </p:nvSpPr>
          <p:spPr>
            <a:xfrm>
              <a:off x="914400" y="2941560"/>
              <a:ext cx="7315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5dfd0"/>
                  </a:solidFill>
                  <a:latin typeface="Constantia"/>
                  <a:ea typeface="Arial"/>
                </a:rPr>
                <a:t>expands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the notion of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reading and writ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to include images, sounds, advertising, and popular culture, as well as prin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4"/>
            <p:cNvSpPr/>
            <p:nvPr/>
          </p:nvSpPr>
          <p:spPr>
            <a:xfrm>
              <a:off x="1291320" y="4679280"/>
              <a:ext cx="6711840" cy="425880"/>
            </a:xfrm>
            <a:prstGeom prst="leftRightArrow">
              <a:avLst>
                <a:gd name="adj1" fmla="val 50000"/>
                <a:gd name="adj2" fmla="val 313739"/>
              </a:avLst>
            </a:prstGeom>
            <a:solidFill>
              <a:srgbClr val="85df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304920" y="2438280"/>
            <a:ext cx="8610480" cy="4185000"/>
            <a:chOff x="304920" y="2438280"/>
            <a:chExt cx="8610480" cy="4185000"/>
          </a:xfrm>
        </p:grpSpPr>
        <p:sp>
          <p:nvSpPr>
            <p:cNvPr id="358" name="Rectangle 6"/>
            <p:cNvSpPr/>
            <p:nvPr/>
          </p:nvSpPr>
          <p:spPr>
            <a:xfrm>
              <a:off x="914400" y="5249520"/>
              <a:ext cx="7315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5dfd0"/>
                  </a:solidFill>
                  <a:latin typeface="Constantia"/>
                  <a:ea typeface="Arial"/>
                </a:rPr>
                <a:t>deepens</a:t>
              </a:r>
              <a:r>
                <a:rPr b="1" lang="en-US" sz="2800" spc="-1" strike="noStrike">
                  <a:solidFill>
                    <a:srgbClr val="000000"/>
                  </a:solidFill>
                  <a:latin typeface="Constantia"/>
                </a:rPr>
                <a:t> the ability to critically analyze the relationships between knowledge and power in societ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7"/>
            <p:cNvGrpSpPr/>
            <p:nvPr/>
          </p:nvGrpSpPr>
          <p:grpSpPr>
            <a:xfrm>
              <a:off x="304920" y="2438280"/>
              <a:ext cx="8610480" cy="3871440"/>
              <a:chOff x="304920" y="2438280"/>
              <a:chExt cx="8610480" cy="3871440"/>
            </a:xfrm>
          </p:grpSpPr>
          <p:sp>
            <p:nvSpPr>
              <p:cNvPr id="360" name="AutoShape 8"/>
              <p:cNvSpPr/>
              <p:nvPr/>
            </p:nvSpPr>
            <p:spPr>
              <a:xfrm>
                <a:off x="8534520" y="2438280"/>
                <a:ext cx="380880" cy="3871440"/>
              </a:xfrm>
              <a:prstGeom prst="downArrow">
                <a:avLst>
                  <a:gd name="adj1" fmla="val 50000"/>
                  <a:gd name="adj2" fmla="val 254112"/>
                </a:avLst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9"/>
              <p:cNvSpPr/>
              <p:nvPr/>
            </p:nvSpPr>
            <p:spPr>
              <a:xfrm>
                <a:off x="304920" y="2438280"/>
                <a:ext cx="380880" cy="3871440"/>
              </a:xfrm>
              <a:prstGeom prst="downArrow">
                <a:avLst>
                  <a:gd name="adj1" fmla="val 50000"/>
                  <a:gd name="adj2" fmla="val 254112"/>
                </a:avLst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Text Box 10"/>
          <p:cNvSpPr/>
          <p:nvPr/>
        </p:nvSpPr>
        <p:spPr>
          <a:xfrm>
            <a:off x="0" y="777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dd9"/>
                </a:solidFill>
                <a:latin typeface="Calibri"/>
              </a:rPr>
              <a:t>Media Literacy is                         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new understanding of </a:t>
            </a: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literacy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that 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1" descr="Flipping_channels"/>
          <p:cNvPicPr/>
          <p:nvPr/>
        </p:nvPicPr>
        <p:blipFill>
          <a:blip r:embed="rId2"/>
          <a:stretch/>
        </p:blipFill>
        <p:spPr>
          <a:xfrm>
            <a:off x="990720" y="2209680"/>
            <a:ext cx="685800" cy="660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2" descr="2_computers"/>
          <p:cNvPicPr/>
          <p:nvPr/>
        </p:nvPicPr>
        <p:blipFill>
          <a:blip r:embed="rId3"/>
          <a:stretch/>
        </p:blipFill>
        <p:spPr>
          <a:xfrm>
            <a:off x="3657600" y="2286000"/>
            <a:ext cx="1324080" cy="433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BOOK_ANM"/>
          <p:cNvPicPr/>
          <p:nvPr/>
        </p:nvPicPr>
        <p:blipFill>
          <a:blip r:embed="rId4"/>
          <a:stretch/>
        </p:blipFill>
        <p:spPr>
          <a:xfrm>
            <a:off x="7772400" y="4221000"/>
            <a:ext cx="628560" cy="503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4" descr="Music"/>
          <p:cNvPicPr/>
          <p:nvPr/>
        </p:nvPicPr>
        <p:blipFill>
          <a:blip r:embed="rId5"/>
          <a:stretch/>
        </p:blipFill>
        <p:spPr>
          <a:xfrm>
            <a:off x="723960" y="4048200"/>
            <a:ext cx="799920" cy="752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5" descr="CAMERA"/>
          <p:cNvPicPr/>
          <p:nvPr/>
        </p:nvPicPr>
        <p:blipFill>
          <a:blip r:embed="rId6"/>
          <a:stretch/>
        </p:blipFill>
        <p:spPr>
          <a:xfrm>
            <a:off x="6934320" y="2286000"/>
            <a:ext cx="7617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685800" y="19051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primarily focusing on the </a:t>
            </a:r>
            <a:r>
              <a:rPr b="1" lang="en-US" sz="3200" spc="-1" strike="noStrike">
                <a:solidFill>
                  <a:srgbClr val="009dd9"/>
                </a:solidFill>
                <a:latin typeface="Arial"/>
              </a:rPr>
              <a:t>colle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information and fac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76320" y="609480"/>
            <a:ext cx="906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9dd9"/>
                </a:solidFill>
                <a:latin typeface="Calibri"/>
              </a:rPr>
              <a:t>Education must move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066680" y="335268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concentrating more on the </a:t>
            </a:r>
            <a:r>
              <a:rPr b="1" lang="en-US" sz="3200" spc="-1" strike="noStrike">
                <a:solidFill>
                  <a:srgbClr val="009dd9"/>
                </a:solidFill>
                <a:latin typeface="Arial"/>
              </a:rPr>
              <a:t>connec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people and information and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095880" y="5089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men Luk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>
            <a:off x="533520" y="4191120"/>
            <a:ext cx="15238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533520" y="2666880"/>
            <a:ext cx="0" cy="1524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org07"/>
          <p:cNvPicPr/>
          <p:nvPr/>
        </p:nvPicPr>
        <p:blipFill>
          <a:blip r:embed="rId2"/>
          <a:stretch/>
        </p:blipFill>
        <p:spPr>
          <a:xfrm>
            <a:off x="380880" y="5124600"/>
            <a:ext cx="5181840" cy="135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reativity and Inno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students create a simulation, role play, or  webquest on a current or historic event (e.g., global climate change).  Product can be presented to a local school with analysis of most creative and innovative elements in each of the produc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7" name="Picture 12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365640" cy="41655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3"/>
          <p:cNvSpPr/>
          <p:nvPr/>
        </p:nvSpPr>
        <p:spPr>
          <a:xfrm>
            <a:off x="4572000" y="58672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4648320" y="58672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ke Schlotterback, Fisheye Phot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ritical Thinking and 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use online databases (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www.census.go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determine immigration patterns and compare to changes in community demograph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students use county voting patterns, demographic &amp; socio-economic data from 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sus bureau to predict outcomes of upcoming election. Display  election projection &amp; supporting information on a digital map. Create a podcast that suggests election strategies that political parties might use for their candidates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6-5-Salas-First Grade3"/>
          <p:cNvPicPr/>
          <p:nvPr/>
        </p:nvPicPr>
        <p:blipFill>
          <a:blip r:embed="rId2"/>
          <a:stretch/>
        </p:blipFill>
        <p:spPr>
          <a:xfrm>
            <a:off x="3998880" y="0"/>
            <a:ext cx="514512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305" name="Picture 3" descr="6-5-Salas-First Grade"/>
          <p:cNvPicPr/>
          <p:nvPr/>
        </p:nvPicPr>
        <p:blipFill>
          <a:blip r:embed="rId3">
            <a:lum contrast="-6000"/>
          </a:blip>
          <a:stretch/>
        </p:blipFill>
        <p:spPr>
          <a:xfrm rot="20793600">
            <a:off x="0" y="228600"/>
            <a:ext cx="4191120" cy="35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6" name="Picture 4" descr="Schullo-3rd grade"/>
          <p:cNvPicPr/>
          <p:nvPr/>
        </p:nvPicPr>
        <p:blipFill>
          <a:blip r:embed="rId4"/>
          <a:stretch/>
        </p:blipFill>
        <p:spPr>
          <a:xfrm>
            <a:off x="1066680" y="3733920"/>
            <a:ext cx="217188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ommun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ementary students choose an area from state history, organize a storyboard on the person, place, or event and use digital tools to create  a presentation to share with other students and community memb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5" name="Picture 9" descr=""/>
          <p:cNvPicPr/>
          <p:nvPr/>
        </p:nvPicPr>
        <p:blipFill>
          <a:blip r:embed="rId2"/>
          <a:stretch/>
        </p:blipFill>
        <p:spPr>
          <a:xfrm>
            <a:off x="685800" y="2698920"/>
            <a:ext cx="3809880" cy="267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ollabo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S or HS students watch documentary video of historic event and read online first-hand accounts (e.g. Israel-Palestine conflict in Gaz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s use collaboration list serve or Skype Video Chat , or asynchronous discussion forum (Blackboard, Moodle) to discuss and compare their findings with students in other parts of the US, Israel, and Palestine.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www.mercycorps.or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s reflect on experiences in small group discussions (on or off lin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formation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ary students use online survey tool to collect data about local attractions their family likes to visi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spreadsheet, evaluate, use graphing tools to display their findings, and use digital images to illustrate favorite pla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analyze digital information about how transportation systems have changed over time (digital photos, aerial photos, satellite images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onnection to demographic changes and historic ev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Media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students analyze how media format influences media mess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history websites &amp; primary sources to compare &amp; contrast historic &amp; current presidential election campaig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hesize how 19th &amp; 21st century media influence political campaig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2"/>
              </a:rPr>
              <a:t>http://www.socialstudies.or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3"/>
          <a:stretch/>
        </p:blipFill>
        <p:spPr>
          <a:xfrm>
            <a:off x="5181480" y="304920"/>
            <a:ext cx="3409920" cy="33591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4"/>
          <a:stretch/>
        </p:blipFill>
        <p:spPr>
          <a:xfrm>
            <a:off x="0" y="2705040"/>
            <a:ext cx="30924360" cy="1447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0" y="2705040"/>
            <a:ext cx="30924360" cy="1447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3657600" cy="2414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CT Litera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ary students examine interaction of human beings &amp; physical environment, land use, towns, local ecosystem changes (e.g., mining in Lead, SD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dated aerial photos of the local community to recent satellite imag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and evaluate the chan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31226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4827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5" descr=""/>
          <p:cNvPicPr/>
          <p:nvPr/>
        </p:nvPicPr>
        <p:blipFill>
          <a:blip r:embed="rId2"/>
          <a:stretch/>
        </p:blipFill>
        <p:spPr>
          <a:xfrm>
            <a:off x="426960" y="847800"/>
            <a:ext cx="8339040" cy="847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effects of news sites and search engines’ use of algorithms that favor popularity over quality or diversity on user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different approaches to a recommender system for participatory sites and the implications/effects of ea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2"/>
          <a:stretch/>
        </p:blipFill>
        <p:spPr>
          <a:xfrm>
            <a:off x="530280" y="987480"/>
            <a:ext cx="7858080" cy="1170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78548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an increasingly participatory global media culture in a multicultural society, what are the effects on student understanding  …  (Mark Duez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Journalism, v 7 , 2006.)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hat are the effects on student understanding of various religions in the U.S. as they engage with relevant religious and ethnic media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140080" y="1459080"/>
            <a:ext cx="3816360" cy="4930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9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dd9"/>
                </a:solidFill>
                <a:latin typeface="Calibri"/>
              </a:rPr>
              <a:t>How is technology making their world different from ours? 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009dd9"/>
                </a:solidFill>
                <a:latin typeface="Calibri"/>
              </a:rPr>
              <a:t>Why should this matter to social studies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504960" cy="4778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58080" cy="11955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effect of participating in an online civic MMPORG (Massively-Multiplayer Online Roleplaying Game) on students’ understanding of an ethnic group?  (“Digital Games &amp; Young Black Men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,” Games &amp; Culture, 2008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effect of participating in an online environment on the formation of young people’s civic , cultural and social identity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89ca3"/>
                </a:solidFill>
                <a:latin typeface="Calibri"/>
              </a:rPr>
              <a:t>Question…Round I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relation between youth’s widespread use of participatory media outside of school &amp; their socialization in schoo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emerging/existing social norms of an online environ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are they alike and different from those in an offline environment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…Round 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implications of a shift from a consumer orientation toward media and its content to a producer oriented online one where users have a worldwide audience? (i.e. my going to a movie made by others to making my own &amp; uploading to YouTub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implications of an online “public commons” operated by the private sector? (YouTube, TeacherTub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relation between users/content producers and service providers/”publishers” of users’ cont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…Round V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effect does maturation in an age of continuous instantaneous connectivity have on young people’s sense of place &amp; time, and their formation of their personal identity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What are the most critical questions that we as social studies researchers ought to address to best serve the field and K-16 social studies learners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pturing student voices just got a lot easier.  Digital storytelling made easi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Voice Thre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Blog Talk Radi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Making on the scene reporting more access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2" name="Content Placeholder 8" descr="btrbetalogo.gif"/>
          <p:cNvPicPr/>
          <p:nvPr/>
        </p:nvPicPr>
        <p:blipFill>
          <a:blip r:embed="rId4"/>
          <a:stretch/>
        </p:blipFill>
        <p:spPr>
          <a:xfrm>
            <a:off x="649440" y="3002040"/>
            <a:ext cx="3657600" cy="825480"/>
          </a:xfrm>
          <a:prstGeom prst="rect">
            <a:avLst/>
          </a:prstGeom>
          <a:ln w="0">
            <a:noFill/>
          </a:ln>
        </p:spPr>
      </p:pic>
      <p:pic>
        <p:nvPicPr>
          <p:cNvPr id="423" name="Content Placeholder 16" descr="taj.gif"/>
          <p:cNvPicPr/>
          <p:nvPr/>
        </p:nvPicPr>
        <p:blipFill>
          <a:blip r:embed="rId5"/>
          <a:stretch/>
        </p:blipFill>
        <p:spPr>
          <a:xfrm>
            <a:off x="5656320" y="2405160"/>
            <a:ext cx="201924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Creative Comm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427" name="Content Placeholder 7" descr="james-boyle-the-public-domain-smallcover.jpg"/>
          <p:cNvPicPr/>
          <p:nvPr/>
        </p:nvPicPr>
        <p:blipFill>
          <a:blip r:embed="rId3"/>
          <a:stretch/>
        </p:blipFill>
        <p:spPr>
          <a:xfrm>
            <a:off x="1143000" y="2438280"/>
            <a:ext cx="2349360" cy="3619800"/>
          </a:xfrm>
          <a:prstGeom prst="rect">
            <a:avLst/>
          </a:prstGeom>
          <a:ln w="0">
            <a:noFill/>
          </a:ln>
        </p:spPr>
      </p:pic>
      <p:pic>
        <p:nvPicPr>
          <p:cNvPr id="428" name="Content Placeholder 6" descr="home_photo_ende.jpg"/>
          <p:cNvPicPr/>
          <p:nvPr/>
        </p:nvPicPr>
        <p:blipFill>
          <a:blip r:embed="rId4"/>
          <a:stretch/>
        </p:blipFill>
        <p:spPr>
          <a:xfrm>
            <a:off x="4645080" y="2070000"/>
            <a:ext cx="4041720" cy="2691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Teacher Tub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432" name="Content Placeholder 8" descr="imgad.jpeg"/>
          <p:cNvPicPr/>
          <p:nvPr/>
        </p:nvPicPr>
        <p:blipFill>
          <a:blip r:embed="rId3"/>
          <a:stretch/>
        </p:blipFill>
        <p:spPr>
          <a:xfrm>
            <a:off x="573120" y="1897200"/>
            <a:ext cx="3809880" cy="303516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9" descr="logo.gif"/>
          <p:cNvPicPr/>
          <p:nvPr/>
        </p:nvPicPr>
        <p:blipFill>
          <a:blip r:embed="rId4"/>
          <a:stretch/>
        </p:blipFill>
        <p:spPr>
          <a:xfrm>
            <a:off x="5389560" y="2881440"/>
            <a:ext cx="25527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Content Placeholder 8" descr="logo_home.png.v2.png"/>
          <p:cNvPicPr/>
          <p:nvPr/>
        </p:nvPicPr>
        <p:blipFill>
          <a:blip r:embed="rId2"/>
          <a:stretch/>
        </p:blipFill>
        <p:spPr>
          <a:xfrm>
            <a:off x="1523880" y="2057400"/>
            <a:ext cx="5943600" cy="20937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Flick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118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 the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entury Skills and Social Studies Map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nstrate map’s potential to bridge the digital disconnect and transform classroom i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gage participants in a discussion of challenges and opportunities for integrating technology into social studies instru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uss the implications for pre-service and in-service teacher professional development and public polic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ggest a research agenda on the use of participatory media to support youth civic engagemen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fer participants the opportunity to post comments on implementation of the map in their practi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Digital Divide vs. Digital Disconnec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33520" y="19807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s cite K-12 students’ lack of technology at home as a barrier to incorporating technology into their less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48320" y="1934640"/>
            <a:ext cx="40384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et more students are coming to school with cell phones, media players, game devices, and lapto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762120" y="5029200"/>
            <a:ext cx="8001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need to learn how to use multiple technologies as tools for learning, communication, and participation, both locally and glob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1176120"/>
            <a:ext cx="2212920" cy="37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ducators may be the most out of touch with the  shifting citizen identity patterns of youth.”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Bennett, 2008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Picture Placeholder 4" descr="YouthRally.jpg"/>
          <p:cNvPicPr/>
          <p:nvPr/>
        </p:nvPicPr>
        <p:blipFill>
          <a:blip r:embed="rId2"/>
          <a:srcRect l="0" t="-12826" r="0" b="-1282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5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15280" cy="619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CSS Members sup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re attention to studying controversial issues, multicultural and global issu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eater emphasis on integrating technology into the curriculu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onger linkages of social studies learning to social responsibility and civic a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NCSS Curriculum Standards Revision Committee hearings, NCSS, Houston, 2008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earch indicates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ny districts and teachers do not address controversial issues in the classroo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udents do not develop participatory skills relating to civic action and do not learn how to engage in civic a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Torney-Purta &amp; Lopez, 2006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8:17:38Z</dcterms:created>
  <dc:creator>Pamela Stiles</dc:creator>
  <dc:description/>
  <dc:language>en-US</dc:language>
  <cp:lastModifiedBy>Gayle Thieman</cp:lastModifiedBy>
  <dcterms:modified xsi:type="dcterms:W3CDTF">2009-04-14T21:18:53Z</dcterms:modified>
  <cp:revision>90</cp:revision>
  <dc:subject/>
  <dc:title>Polls &amp; Surveys</dc:title>
</cp:coreProperties>
</file>