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png" ContentType="image/png"/>
  <Override PartName="/ppt/media/image21.gif" ContentType="image/gif"/>
  <Override PartName="/ppt/media/image19.gif" ContentType="image/gif"/>
  <Override PartName="/ppt/media/image14.jpeg" ContentType="image/jpeg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7.gif" ContentType="image/gif"/>
  <Override PartName="/ppt/media/image1.jpeg" ContentType="image/jpeg"/>
  <Override PartName="/ppt/media/image10.png" ContentType="image/png"/>
  <Override PartName="/ppt/media/image35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23.gif" ContentType="image/gif"/>
  <Override PartName="/ppt/media/image34.pct" ContentType="image/x-pict"/>
  <Override PartName="/ppt/media/image37.png" ContentType="image/png"/>
  <Override PartName="/ppt/media/image36.pct" ContentType="image/x-pict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49.png" ContentType="image/png"/>
  <Override PartName="/ppt/media/image12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5.jpeg" ContentType="image/jpeg"/>
  <Override PartName="/ppt/media/image40.png" ContentType="image/png"/>
  <Override PartName="/ppt/media/image4.jpeg" ContentType="image/jpeg"/>
  <Override PartName="/ppt/media/image22.gif" ContentType="image/gif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EAEF-D0C4-439F-AE8D-BB5160817CBE}" type="datetime">
              <a:rPr b="0" lang="en-US" sz="1200" spc="-1" strike="noStrike">
                <a:solidFill>
                  <a:srgbClr val="000000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4D1A-2018-4B70-A1BF-A970992F423D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EEA5-1EC6-4FC9-8331-D99954F73DBB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elow, B., Christensen, L., Karp, S., Miner, B., &amp; Peterson, B. (Eds.)  (1994)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thinking Our Classrooms: Teaching for Equity and Justi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Milwaukee: Rethinking Sch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0C0B-AE71-4C41-A74A-21A4115044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0F42-48AF-4E58-834F-FE1E561726E0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ke (2006a) writes, “In digitized knowledge and networked environments, an understanding of the relations among ideas is as [important] if not more important than mastery of the bare facts.  The conceptual shift here is one 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lle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nn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” (p. 27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EA61-6959-4782-B2FE-9A4969A207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E029-C8FE-44A9-980C-D786CFD80B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C110-C7C8-422D-B589-51D2C4C334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6D4C-5E7A-4A2C-9054-B21A4FC29D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2695-CF36-4483-85A0-867B265B83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577B-89D5-4CA8-AF53-7E0FFF1304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FE93-9071-4819-8BD2-ADAF914F8B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4E78-61CB-4333-A13C-B56FA09C1B78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7A8A-9DD2-4045-AFBE-985EF90317E3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F30-EE9A-441C-B147-08A43CAE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7BA-B69A-4C17-B2BE-ABB93141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077-0818-404E-A398-BEA986E1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C90-0CE2-4336-97B4-52C0741C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481E-ACB8-497A-94C4-2283C7DA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FB59-41A8-457C-A8D0-92057BF5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ACFB-27E3-4BB0-AD44-C3100DF5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0D82-CC5F-4B42-BE64-459F160C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AE83-44C9-4A22-B934-BEC109EF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E610-356A-417E-81F7-DD1F356D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64E7-C96D-445F-9C23-577D1FFA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AE8-0AC5-42D1-8BB8-8A693AA1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23C2-B6D7-4AB1-A10B-B88F669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DEC6-B1BD-4AA4-AC34-196A859D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49B9-4F5D-4CAA-9934-FB7D7E79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7F31-8B47-4F49-8C93-E69A57CD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D72A-AEF2-4FC3-961C-3D4B03D5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FC14-CBDD-4740-B07B-636836A5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EE0F8-85D6-44E1-BF55-2337CEC0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2C0A-8170-48EE-8808-8FDB581D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99EE-E9D8-4443-B39E-09905A13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AB12-3D11-4D9C-BA94-4E2D35CC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3B1-E97F-4FEF-972F-380F9246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E816C-DA39-4CA4-9AAE-CC814160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FC21-3876-40AE-97AB-EE228AEE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6DBE3-2921-4212-AD87-22FE767F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10EA-2E29-4A1D-8422-CED4E76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1F3C6-5108-422F-9041-98AB3813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C795-AC24-4DC8-8565-ABA76B4F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5815-56CD-4D05-83E0-2D13EEF3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A0300-BBDA-4BB2-B9D0-7DF0B95A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AE4F-C492-41ED-82BF-BA5021ED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F964-68C0-4F01-9661-3D853420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D40-E125-42AD-9982-DB2AE3A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9B343-42C8-439D-B101-DA6B8D1F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5919D-2321-4C23-A6D0-DBC6E509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BB48-0AB2-4870-98BB-66A7D57B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E583-619A-4934-8B2A-891614D6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92C84-8CC1-4E1F-A5BA-1D08761E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7D4D-133E-4683-92BA-55D6ED7F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F196-D62A-491F-9D93-DF292D75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4A46-48F6-47D1-85E9-05D97024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0E5B-CCB4-4010-A5EE-592114FA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A4A70-EB1D-41B4-A600-DF633310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DCF-9B0D-4115-8C92-C5E7593A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4B85-7EF1-4DFF-8D5D-802D4E34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BF127-59CA-409A-AFF5-139403C6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E80FF-C8B6-4367-A57D-40F3A305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B9D30-C0A2-4C3E-A644-A38A3621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B8F62-B6F7-431F-9236-AF7B4B1F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764E4-3247-43DB-BAFD-8E633FAC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E366-BC73-4011-8071-F85202B3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E6004-CDF2-401E-9082-5D9BE31E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8BDBF-CB92-464C-8947-DC681D1D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267D1-2AB6-4577-AD16-907994EF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B48-955F-47A8-A38C-8CD80D0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11AFB-0594-46E7-AAA3-CDCB3185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C4685-13A1-4817-BFDF-BFE0A35A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26E0C-12FA-4C76-9348-BB42E175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606A8-4670-42EF-8D4A-DF8BA8CD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7290E-AB89-4338-9E86-6167E858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C8160-BA17-4A1B-8706-E2317AD1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D61AC-2195-47A2-8FEA-C357E28C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DD5DA-BA57-4D69-B375-303A36F9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993E4-3B04-40DC-A763-814A3CE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E7313-7FF4-493A-BEFE-586A40B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B60-1CB1-4DAC-8C6D-9380CB40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37D64-99A1-419A-ADDB-52E13F79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FCF58-8796-4B44-93C6-4D644898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EDD6D-E956-4047-84E6-BF44ADE2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CE6-06FE-4437-81D3-7F6DE881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4E7-8E7B-4F7E-AA29-189B723F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F209-B1E2-47BF-8919-02AA21B1BF5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5FAB-E324-46CD-8D6F-75B68317A10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825A-A379-4D49-8F99-C17052AD396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7C7D-014B-4583-9666-409C399B9BA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2DCE-97EE-4CC5-838E-ECE860B2DDD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F2D3-AB0F-4FA3-BC32-EC91E5AFF54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B634-58AC-40CC-90CB-2ACD40735E0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347A-71E6-4A23-BD5C-F02F7FF5EC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79B9-D334-4670-AB50-54B83F8AF44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5F4C-9805-4864-BF97-90C8ABD120C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19.gif"/><Relationship Id="rId4" Type="http://schemas.openxmlformats.org/officeDocument/2006/relationships/image" Target="../media/image28.gif"/><Relationship Id="rId5" Type="http://schemas.openxmlformats.org/officeDocument/2006/relationships/image" Target="../media/image20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sus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rcycorps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ocialstudies.org/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pct"/><Relationship Id="rId5" Type="http://schemas.openxmlformats.org/officeDocument/2006/relationships/image" Target="../media/image34.pct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oicethread.com/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logtalkradio.com/" TargetMode="External"/><Relationship Id="rId3" Type="http://schemas.openxmlformats.org/officeDocument/2006/relationships/hyperlink" Target="http://www.sajaforum.org/2008/11/breaking-news-terrorists-attack-mumbai-hotels.html" TargetMode="External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eativecommons.org/" TargetMode="External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chertube.com/index.php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hyperlink" Target="http://www.flickr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Participatory Media and Citizenship Education</a:t>
            </a:r>
            <a:br>
              <a:rPr sz="54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n Opportunity for Social Studies to Help Youth Have Their Say 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ttp://communities.socialstudies.org/communities/technology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28600" y="5257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yle Thieman, Joe O’Brien, John Lee, Elizabeth R. Hind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 Educational Research Associ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l  14, 2009  2:15-3:4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nhart, et al, found that generally civic gaming experiences are related to higher engagement in the real worl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tshorn and Van Fossen (2008) also found that civic gaming experiences positively affect civic engagement. They specifically studied players involved in MMORPG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, civic gaming experiences (experiences involving civic action in virtual worlds) are positively related to civic engagement in the real worl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914400" y="1676520"/>
            <a:ext cx="70866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How  might teachers enlist…young people’s enthusiasm for using digital media in the service of civic engagement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76320" y="68580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d9"/>
                </a:solidFill>
                <a:latin typeface="Arial"/>
              </a:rPr>
              <a:t>Democrac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76320" y="146376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s active citizens participating with many voices, critical inquiries, alternative representations, and dis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Forever Kool"/>
          <p:cNvPicPr/>
          <p:nvPr/>
        </p:nvPicPr>
        <p:blipFill>
          <a:blip r:embed="rId2"/>
          <a:stretch/>
        </p:blipFill>
        <p:spPr>
          <a:xfrm>
            <a:off x="5486400" y="4122720"/>
            <a:ext cx="3657600" cy="2725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BENNETON"/>
          <p:cNvPicPr/>
          <p:nvPr/>
        </p:nvPicPr>
        <p:blipFill>
          <a:blip r:embed="rId3"/>
          <a:stretch/>
        </p:blipFill>
        <p:spPr>
          <a:xfrm>
            <a:off x="2819520" y="3733920"/>
            <a:ext cx="2271600" cy="3124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Nike"/>
          <p:cNvPicPr/>
          <p:nvPr/>
        </p:nvPicPr>
        <p:blipFill>
          <a:blip r:embed="rId4"/>
          <a:stretch/>
        </p:blipFill>
        <p:spPr>
          <a:xfrm>
            <a:off x="4876920" y="3733920"/>
            <a:ext cx="1304640" cy="1209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Dissent-JeffersonSm"/>
          <p:cNvPicPr/>
          <p:nvPr/>
        </p:nvPicPr>
        <p:blipFill>
          <a:blip r:embed="rId5"/>
          <a:srcRect l="0" t="2322" r="0" b="0"/>
          <a:stretch/>
        </p:blipFill>
        <p:spPr>
          <a:xfrm>
            <a:off x="293760" y="3657600"/>
            <a:ext cx="22208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33" name="Picture 8" descr="dissent_j"/>
          <p:cNvPicPr/>
          <p:nvPr/>
        </p:nvPicPr>
        <p:blipFill>
          <a:blip r:embed="rId6"/>
          <a:stretch/>
        </p:blipFill>
        <p:spPr>
          <a:xfrm>
            <a:off x="6319800" y="152280"/>
            <a:ext cx="2824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8,111,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-33,-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f we ask the children to critique the world but then fail to encourage them to act, our classrooms can degenerate into factories of cynicism.  While it’s not a teacher’s role to direct students to particular organizations, it is a teacher’s role to suggest that ideas need to be acted upon and to offer students opportunities to do just that.” (p. 5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0" y="65530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igelow, B., Christensen, L., Karp, S., Miner, B., &amp; Peterson, B. (Eds.)  (1994).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Rethinking Our Classrooms: Teaching for Equity and Justi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  Milwaukee: Rethinking School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2057400" y="89856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dd9"/>
                </a:solidFill>
                <a:latin typeface="Arial"/>
                <a:ea typeface="Arial"/>
              </a:rPr>
              <a:t>Civic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Computer-Kid"/>
          <p:cNvPicPr/>
          <p:nvPr/>
        </p:nvPicPr>
        <p:blipFill>
          <a:blip r:embed="rId2"/>
          <a:stretch/>
        </p:blipFill>
        <p:spPr>
          <a:xfrm>
            <a:off x="6400800" y="5638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Duck-painter"/>
          <p:cNvPicPr/>
          <p:nvPr/>
        </p:nvPicPr>
        <p:blipFill>
          <a:blip r:embed="rId3"/>
          <a:stretch/>
        </p:blipFill>
        <p:spPr>
          <a:xfrm>
            <a:off x="7848720" y="2286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MAIL3"/>
          <p:cNvPicPr/>
          <p:nvPr/>
        </p:nvPicPr>
        <p:blipFill>
          <a:blip r:embed="rId4"/>
          <a:stretch/>
        </p:blipFill>
        <p:spPr>
          <a:xfrm>
            <a:off x="2057400" y="569592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2_computers"/>
          <p:cNvPicPr/>
          <p:nvPr/>
        </p:nvPicPr>
        <p:blipFill>
          <a:blip r:embed="rId5"/>
          <a:stretch/>
        </p:blipFill>
        <p:spPr>
          <a:xfrm>
            <a:off x="5076720" y="228600"/>
            <a:ext cx="1019160" cy="333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Music"/>
          <p:cNvPicPr/>
          <p:nvPr/>
        </p:nvPicPr>
        <p:blipFill>
          <a:blip r:embed="rId6"/>
          <a:stretch/>
        </p:blipFill>
        <p:spPr>
          <a:xfrm>
            <a:off x="380880" y="304920"/>
            <a:ext cx="1295640" cy="1217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cameraguy1"/>
          <p:cNvPicPr/>
          <p:nvPr/>
        </p:nvPicPr>
        <p:blipFill>
          <a:blip r:embed="rId7"/>
          <a:stretch/>
        </p:blipFill>
        <p:spPr>
          <a:xfrm>
            <a:off x="8001000" y="533412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1" descr="Constitution_signed"/>
          <p:cNvPicPr/>
          <p:nvPr/>
        </p:nvPicPr>
        <p:blipFill>
          <a:blip r:embed="rId8"/>
          <a:stretch/>
        </p:blipFill>
        <p:spPr>
          <a:xfrm>
            <a:off x="3733920" y="5581800"/>
            <a:ext cx="1523880" cy="819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2" descr="Photographer_4"/>
          <p:cNvPicPr/>
          <p:nvPr/>
        </p:nvPicPr>
        <p:blipFill>
          <a:blip r:embed="rId9"/>
          <a:stretch/>
        </p:blipFill>
        <p:spPr>
          <a:xfrm>
            <a:off x="533520" y="54864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artnership for 21st Century Skill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ttp://www.21stcenturyskills.or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ivity and  Inno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itical Thinking and Problem Solv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tion Lite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T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81480" y="365724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c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, Economic,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ware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5486400" y="2133720"/>
            <a:ext cx="3328560" cy="2861640"/>
            <a:chOff x="5486400" y="2133720"/>
            <a:chExt cx="3328560" cy="2861640"/>
          </a:xfrm>
        </p:grpSpPr>
        <p:pic>
          <p:nvPicPr>
            <p:cNvPr id="349" name="Picture 7" descr=""/>
            <p:cNvPicPr/>
            <p:nvPr/>
          </p:nvPicPr>
          <p:blipFill>
            <a:blip r:embed="rId2"/>
            <a:stretch/>
          </p:blipFill>
          <p:spPr>
            <a:xfrm>
              <a:off x="5609880" y="2133720"/>
              <a:ext cx="3205080" cy="20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8"/>
            <p:cNvSpPr/>
            <p:nvPr/>
          </p:nvSpPr>
          <p:spPr>
            <a:xfrm>
              <a:off x="5486400" y="4471560"/>
              <a:ext cx="32652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852b7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704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21</a:t>
            </a:r>
            <a:r>
              <a:rPr b="1" lang="en-US" sz="40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Century Skills Map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CSS &amp; Partnership for 21</a:t>
            </a:r>
            <a:r>
              <a:rPr b="1" lang="en-US" sz="40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Century Skil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923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86868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914400" y="2941560"/>
            <a:ext cx="7315200" cy="2163600"/>
            <a:chOff x="914400" y="2941560"/>
            <a:chExt cx="7315200" cy="2163600"/>
          </a:xfrm>
        </p:grpSpPr>
        <p:sp>
          <p:nvSpPr>
            <p:cNvPr id="355" name="Rectangle 3"/>
            <p:cNvSpPr/>
            <p:nvPr/>
          </p:nvSpPr>
          <p:spPr>
            <a:xfrm>
              <a:off x="914400" y="2941560"/>
              <a:ext cx="7315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5dfd0"/>
                  </a:solidFill>
                  <a:latin typeface="Constantia"/>
                  <a:ea typeface="Arial"/>
                </a:rPr>
                <a:t>expands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the notion of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reading and writ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to include images, sounds, advertising, and popular culture, as well as prin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4"/>
            <p:cNvSpPr/>
            <p:nvPr/>
          </p:nvSpPr>
          <p:spPr>
            <a:xfrm>
              <a:off x="1291320" y="4679280"/>
              <a:ext cx="6711840" cy="425880"/>
            </a:xfrm>
            <a:prstGeom prst="leftRightArrow">
              <a:avLst>
                <a:gd name="adj1" fmla="val 50000"/>
                <a:gd name="adj2" fmla="val 313739"/>
              </a:avLst>
            </a:prstGeom>
            <a:solidFill>
              <a:srgbClr val="85df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304920" y="2438280"/>
            <a:ext cx="8610480" cy="4185000"/>
            <a:chOff x="304920" y="2438280"/>
            <a:chExt cx="8610480" cy="4185000"/>
          </a:xfrm>
        </p:grpSpPr>
        <p:sp>
          <p:nvSpPr>
            <p:cNvPr id="358" name="Rectangle 6"/>
            <p:cNvSpPr/>
            <p:nvPr/>
          </p:nvSpPr>
          <p:spPr>
            <a:xfrm>
              <a:off x="914400" y="5249520"/>
              <a:ext cx="7315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5dfd0"/>
                  </a:solidFill>
                  <a:latin typeface="Constantia"/>
                  <a:ea typeface="Arial"/>
                </a:rPr>
                <a:t>deepens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 the ability to critically analyze the relationships between knowledge and power in societ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7"/>
            <p:cNvGrpSpPr/>
            <p:nvPr/>
          </p:nvGrpSpPr>
          <p:grpSpPr>
            <a:xfrm>
              <a:off x="304920" y="2438280"/>
              <a:ext cx="8610480" cy="3871440"/>
              <a:chOff x="304920" y="2438280"/>
              <a:chExt cx="8610480" cy="3871440"/>
            </a:xfrm>
          </p:grpSpPr>
          <p:sp>
            <p:nvSpPr>
              <p:cNvPr id="360" name="AutoShape 8"/>
              <p:cNvSpPr/>
              <p:nvPr/>
            </p:nvSpPr>
            <p:spPr>
              <a:xfrm>
                <a:off x="8534520" y="2438280"/>
                <a:ext cx="380880" cy="3871440"/>
              </a:xfrm>
              <a:prstGeom prst="downArrow">
                <a:avLst>
                  <a:gd name="adj1" fmla="val 50000"/>
                  <a:gd name="adj2" fmla="val 254112"/>
                </a:avLst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9"/>
              <p:cNvSpPr/>
              <p:nvPr/>
            </p:nvSpPr>
            <p:spPr>
              <a:xfrm>
                <a:off x="304920" y="2438280"/>
                <a:ext cx="380880" cy="3871440"/>
              </a:xfrm>
              <a:prstGeom prst="downArrow">
                <a:avLst>
                  <a:gd name="adj1" fmla="val 50000"/>
                  <a:gd name="adj2" fmla="val 254112"/>
                </a:avLst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Text Box 10"/>
          <p:cNvSpPr/>
          <p:nvPr/>
        </p:nvSpPr>
        <p:spPr>
          <a:xfrm>
            <a:off x="0" y="777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dd9"/>
                </a:solidFill>
                <a:latin typeface="Calibri"/>
              </a:rPr>
              <a:t>Media Literacy is                         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new understanding of </a:t>
            </a: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literacy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that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1" descr="Flipping_channels"/>
          <p:cNvPicPr/>
          <p:nvPr/>
        </p:nvPicPr>
        <p:blipFill>
          <a:blip r:embed="rId2"/>
          <a:stretch/>
        </p:blipFill>
        <p:spPr>
          <a:xfrm>
            <a:off x="990720" y="2209680"/>
            <a:ext cx="685800" cy="660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2" descr="2_computers"/>
          <p:cNvPicPr/>
          <p:nvPr/>
        </p:nvPicPr>
        <p:blipFill>
          <a:blip r:embed="rId3"/>
          <a:stretch/>
        </p:blipFill>
        <p:spPr>
          <a:xfrm>
            <a:off x="3657600" y="2286000"/>
            <a:ext cx="1324080" cy="433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BOOK_ANM"/>
          <p:cNvPicPr/>
          <p:nvPr/>
        </p:nvPicPr>
        <p:blipFill>
          <a:blip r:embed="rId4"/>
          <a:stretch/>
        </p:blipFill>
        <p:spPr>
          <a:xfrm>
            <a:off x="7772400" y="4221000"/>
            <a:ext cx="628560" cy="503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4" descr="Music"/>
          <p:cNvPicPr/>
          <p:nvPr/>
        </p:nvPicPr>
        <p:blipFill>
          <a:blip r:embed="rId5"/>
          <a:stretch/>
        </p:blipFill>
        <p:spPr>
          <a:xfrm>
            <a:off x="723960" y="4048200"/>
            <a:ext cx="799920" cy="752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5" descr="CAMERA"/>
          <p:cNvPicPr/>
          <p:nvPr/>
        </p:nvPicPr>
        <p:blipFill>
          <a:blip r:embed="rId6"/>
          <a:stretch/>
        </p:blipFill>
        <p:spPr>
          <a:xfrm>
            <a:off x="6934320" y="2286000"/>
            <a:ext cx="7617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685800" y="19051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primarily focusing on the </a:t>
            </a:r>
            <a:r>
              <a:rPr b="1" lang="en-US" sz="3200" spc="-1" strike="noStrike">
                <a:solidFill>
                  <a:srgbClr val="009dd9"/>
                </a:solidFill>
                <a:latin typeface="Arial"/>
              </a:rPr>
              <a:t>colle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information and fac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76320" y="609480"/>
            <a:ext cx="906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9dd9"/>
                </a:solidFill>
                <a:latin typeface="Calibri"/>
              </a:rPr>
              <a:t>Education must move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066680" y="335268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concentrating more on the </a:t>
            </a:r>
            <a:r>
              <a:rPr b="1" lang="en-US" sz="3200" spc="-1" strike="noStrike">
                <a:solidFill>
                  <a:srgbClr val="009dd9"/>
                </a:solidFill>
                <a:latin typeface="Arial"/>
              </a:rPr>
              <a:t>connec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people and information and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095880" y="5089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men Luk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533520" y="4191120"/>
            <a:ext cx="15238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533520" y="2666880"/>
            <a:ext cx="0" cy="1524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org07"/>
          <p:cNvPicPr/>
          <p:nvPr/>
        </p:nvPicPr>
        <p:blipFill>
          <a:blip r:embed="rId2"/>
          <a:stretch/>
        </p:blipFill>
        <p:spPr>
          <a:xfrm>
            <a:off x="380880" y="5124600"/>
            <a:ext cx="5181840" cy="135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reativity and Inno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students create a simulation, role play, or  webquest on a current or historic event (e.g., global climate change).  Product can be presented to a local school with analysis of most creative and innovative elements in each of the produc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7" name="Picture 12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365640" cy="41655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3"/>
          <p:cNvSpPr/>
          <p:nvPr/>
        </p:nvSpPr>
        <p:spPr>
          <a:xfrm>
            <a:off x="4572000" y="58672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4648320" y="58672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ke Schlotterback, Fisheye Phot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ritical Thinking and 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use online databases (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www.census.go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determine immigration patterns and compare to changes in community demograph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students use county voting patterns, demographic &amp; socio-economic data from 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sus bureau to predict outcomes of upcoming election. Display  election projection &amp; supporting information on a digital map. Create a podcast that suggests election strategies that political parties might use for their candidates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6-5-Salas-First Grade3"/>
          <p:cNvPicPr/>
          <p:nvPr/>
        </p:nvPicPr>
        <p:blipFill>
          <a:blip r:embed="rId2"/>
          <a:stretch/>
        </p:blipFill>
        <p:spPr>
          <a:xfrm>
            <a:off x="3998880" y="0"/>
            <a:ext cx="514512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305" name="Picture 3" descr="6-5-Salas-First Grade"/>
          <p:cNvPicPr/>
          <p:nvPr/>
        </p:nvPicPr>
        <p:blipFill>
          <a:blip r:embed="rId3">
            <a:lum contrast="-6000"/>
          </a:blip>
          <a:stretch/>
        </p:blipFill>
        <p:spPr>
          <a:xfrm rot="20793600">
            <a:off x="0" y="228600"/>
            <a:ext cx="4191120" cy="35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6" name="Picture 4" descr="Schullo-3rd grade"/>
          <p:cNvPicPr/>
          <p:nvPr/>
        </p:nvPicPr>
        <p:blipFill>
          <a:blip r:embed="rId4"/>
          <a:stretch/>
        </p:blipFill>
        <p:spPr>
          <a:xfrm>
            <a:off x="1066680" y="3733920"/>
            <a:ext cx="217188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ommun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ementary students choose an area from state history, organize a storyboard on the person, place, or event and use digital tools to create  a presentation to share with other students and community memb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2"/>
          <a:stretch/>
        </p:blipFill>
        <p:spPr>
          <a:xfrm>
            <a:off x="685800" y="2698920"/>
            <a:ext cx="3809880" cy="267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ollabo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S or HS students watch documentary video of historic event and read online first-hand accounts (e.g. Israel-Palestine conflict in Gaz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s use collaboration list serve or Skype Video Chat , or asynchronous discussion forum (Blackboard, Moodle) to discuss and compare their findings with students in other parts of the US, Israel, and Palestine.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www.mercycorps.or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s reflect on experiences in small group discussions (on or off lin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formation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ary students use online survey tool to collect data about local attractions their family likes to visi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spreadsheet, evaluate, use graphing tools to display their findings, and use digital images to illustrate favorite pla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analyze digital information about how transportation systems have changed over time (digital photos, aerial photos, satellite images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onnection to demographic changes and historic ev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Media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analyze how media format influences media mess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history websites &amp; primary sources to compare &amp; contrast historic &amp; current presidential election campaig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hesize how 19th &amp; 21st century media influence political campaig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www.socialstudies.or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3"/>
          <a:stretch/>
        </p:blipFill>
        <p:spPr>
          <a:xfrm>
            <a:off x="5181480" y="304920"/>
            <a:ext cx="3409920" cy="33591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4"/>
          <a:stretch/>
        </p:blipFill>
        <p:spPr>
          <a:xfrm>
            <a:off x="0" y="2705040"/>
            <a:ext cx="30924360" cy="1447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0" y="2705040"/>
            <a:ext cx="30924360" cy="1447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3657600" cy="2414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CT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ary students examine interaction of human beings &amp; physical environment, land use, towns, local ecosystem changes (e.g., mining in Lead, SD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dated aerial photos of the local community to recent satellite imag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d evaluate the chan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31226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4827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5" descr=""/>
          <p:cNvPicPr/>
          <p:nvPr/>
        </p:nvPicPr>
        <p:blipFill>
          <a:blip r:embed="rId2"/>
          <a:stretch/>
        </p:blipFill>
        <p:spPr>
          <a:xfrm>
            <a:off x="426960" y="847800"/>
            <a:ext cx="8339040" cy="847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effects of news sites and search engines’ use of algorithms that favor popularity over quality or diversity on user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different approaches to a recommender system for participatory sites and the implications/effects of ea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2"/>
          <a:stretch/>
        </p:blipFill>
        <p:spPr>
          <a:xfrm>
            <a:off x="530280" y="987480"/>
            <a:ext cx="7858080" cy="1170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78548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an increasingly participatory global media culture in a multicultural society, what are the effects on student understanding  …  (Mark Duez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Journalism, v 7 , 2006.)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hat are the effects on student understanding of various religions in the U.S. as they engage with relevant religious and ethnic media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140080" y="1459080"/>
            <a:ext cx="3816360" cy="4930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9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dd9"/>
                </a:solidFill>
                <a:latin typeface="Calibri"/>
              </a:rPr>
              <a:t>How is technology making their world different from ours? 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9dd9"/>
                </a:solidFill>
                <a:latin typeface="Calibri"/>
              </a:rPr>
              <a:t>Why should this matter to social studies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504960" cy="4778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58080" cy="11955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effect of participating in an online civic MMPORG (Massively-Multiplayer Online Roleplaying Game) on students’ understanding of an ethnic group?  (“Digital Games &amp; Young Black Men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,” Games &amp; Culture, 2008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effect of participating in an online environment on the formation of young people’s civic , cultural and social identity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89ca3"/>
                </a:solidFill>
                <a:latin typeface="Calibri"/>
              </a:rPr>
              <a:t>Question…Round I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relation between youth’s widespread use of participatory media outside of school &amp; their socialization in schoo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emerging/existing social norms of an online environ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are they alike and different from those in an offline environment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…Round 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implications of a shift from a consumer orientation toward media and its content to a producer oriented online one where users have a worldwide audience? (i.e. my going to a movie made by others to making my own &amp; uploading to YouTub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implications of an online “public commons” operated by the private sector? (YouTube, TeacherTub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relation between users/content producers and service providers/”publishers” of users’ cont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…Round V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effect does maturation in an age of continuous instantaneous connectivity have on young people’s sense of place &amp; time, and their formation of their personal identity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What are the most critical questions that we as social studies researchers ought to address to best serve the field and K-16 social studies learners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pturing student voices just got a lot easier.  Digital storytelling made easi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Voice Thre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Blog Talk Rad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Making on the scene reporting more access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2" name="Content Placeholder 8" descr="btrbetalogo.gif"/>
          <p:cNvPicPr/>
          <p:nvPr/>
        </p:nvPicPr>
        <p:blipFill>
          <a:blip r:embed="rId4"/>
          <a:stretch/>
        </p:blipFill>
        <p:spPr>
          <a:xfrm>
            <a:off x="649440" y="3002040"/>
            <a:ext cx="3657600" cy="825480"/>
          </a:xfrm>
          <a:prstGeom prst="rect">
            <a:avLst/>
          </a:prstGeom>
          <a:ln w="0">
            <a:noFill/>
          </a:ln>
        </p:spPr>
      </p:pic>
      <p:pic>
        <p:nvPicPr>
          <p:cNvPr id="423" name="Content Placeholder 16" descr="taj.gif"/>
          <p:cNvPicPr/>
          <p:nvPr/>
        </p:nvPicPr>
        <p:blipFill>
          <a:blip r:embed="rId5"/>
          <a:stretch/>
        </p:blipFill>
        <p:spPr>
          <a:xfrm>
            <a:off x="5656320" y="2405160"/>
            <a:ext cx="201924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Creative Comm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427" name="Content Placeholder 7" descr="james-boyle-the-public-domain-smallcover.jpg"/>
          <p:cNvPicPr/>
          <p:nvPr/>
        </p:nvPicPr>
        <p:blipFill>
          <a:blip r:embed="rId3"/>
          <a:stretch/>
        </p:blipFill>
        <p:spPr>
          <a:xfrm>
            <a:off x="1143000" y="2438280"/>
            <a:ext cx="2349360" cy="3619800"/>
          </a:xfrm>
          <a:prstGeom prst="rect">
            <a:avLst/>
          </a:prstGeom>
          <a:ln w="0">
            <a:noFill/>
          </a:ln>
        </p:spPr>
      </p:pic>
      <p:pic>
        <p:nvPicPr>
          <p:cNvPr id="428" name="Content Placeholder 6" descr="home_photo_ende.jpg"/>
          <p:cNvPicPr/>
          <p:nvPr/>
        </p:nvPicPr>
        <p:blipFill>
          <a:blip r:embed="rId4"/>
          <a:stretch/>
        </p:blipFill>
        <p:spPr>
          <a:xfrm>
            <a:off x="4645080" y="2070000"/>
            <a:ext cx="4041720" cy="269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Teacher Tub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432" name="Content Placeholder 8" descr="imgad.jpeg"/>
          <p:cNvPicPr/>
          <p:nvPr/>
        </p:nvPicPr>
        <p:blipFill>
          <a:blip r:embed="rId3"/>
          <a:stretch/>
        </p:blipFill>
        <p:spPr>
          <a:xfrm>
            <a:off x="573120" y="1897200"/>
            <a:ext cx="3809880" cy="303516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9" descr="logo.gif"/>
          <p:cNvPicPr/>
          <p:nvPr/>
        </p:nvPicPr>
        <p:blipFill>
          <a:blip r:embed="rId4"/>
          <a:stretch/>
        </p:blipFill>
        <p:spPr>
          <a:xfrm>
            <a:off x="5389560" y="2881440"/>
            <a:ext cx="25527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Content Placeholder 8" descr="logo_home.png.v2.png"/>
          <p:cNvPicPr/>
          <p:nvPr/>
        </p:nvPicPr>
        <p:blipFill>
          <a:blip r:embed="rId2"/>
          <a:stretch/>
        </p:blipFill>
        <p:spPr>
          <a:xfrm>
            <a:off x="1523880" y="2057400"/>
            <a:ext cx="5943600" cy="20937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Flick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118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the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entury Skills and Social Studies Ma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nstrate map’s potential to bridge the digital disconnect and transform classroom i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gage participants in a discussion of challenges and opportunities for integrating technology into social studies i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 the implications for pre-service and in-service teacher professional development and public polic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ggest a research agenda on the use of participatory media to support youth civic engagemen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er participants the opportunity to post comments on implementation of the map in their practi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Digital Divide vs. Digital Disconnec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33520" y="19807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s cite K-12 students’ lack of technology at home as a barrier to incorporating technology into their less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48320" y="1934640"/>
            <a:ext cx="40384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et more students are coming to school with cell phones, media players, game devices, and lapto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762120" y="5029200"/>
            <a:ext cx="8001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need to learn how to use multiple technologies as tools for learning, communication, and participation, both locally and glob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1176120"/>
            <a:ext cx="2212920" cy="37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ducators may be the most out of touch with the  shifting citizen identity patterns of youth.”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Bennett, 2008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Picture Placeholder 4" descr="YouthRally.jpg"/>
          <p:cNvPicPr/>
          <p:nvPr/>
        </p:nvPicPr>
        <p:blipFill>
          <a:blip r:embed="rId2"/>
          <a:srcRect l="0" t="-12826" r="0" b="-1282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5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619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CSS Members sup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re attention to studying controversial issues, multicultural and global issu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eater emphasis on integrating technology into the curriculu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onger linkages of social studies learning to social responsibility and civic a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NCSS Curriculum Standards Revision Committee hearings, NCSS, Houston, 2008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earch indicate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ny districts and teachers do not address controversial issues in the classroo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udents do not develop participatory skills relating to civic action and do not learn how to engage in civic a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Torney-Purta &amp; Lopez, 2006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8:17:38Z</dcterms:created>
  <dc:creator>Pamela Stiles</dc:creator>
  <dc:description/>
  <dc:language>en-US</dc:language>
  <cp:lastModifiedBy>Gayle Thieman</cp:lastModifiedBy>
  <dcterms:modified xsi:type="dcterms:W3CDTF">2009-04-14T21:18:53Z</dcterms:modified>
  <cp:revision>90</cp:revision>
  <dc:subject/>
  <dc:title>Polls &amp; Surveys</dc:title>
</cp:coreProperties>
</file>