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png" ContentType="image/png"/>
  <Override PartName="/ppt/media/image21.gif" ContentType="image/gif"/>
  <Override PartName="/ppt/media/image19.gif" ContentType="image/gif"/>
  <Override PartName="/ppt/media/image14.jpeg" ContentType="image/jpeg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7.gif" ContentType="image/gif"/>
  <Override PartName="/ppt/media/image1.jpeg" ContentType="image/jpeg"/>
  <Override PartName="/ppt/media/image10.png" ContentType="image/png"/>
  <Override PartName="/ppt/media/image35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23.gif" ContentType="image/gif"/>
  <Override PartName="/ppt/media/image34.pct" ContentType="image/x-pict"/>
  <Override PartName="/ppt/media/image37.png" ContentType="image/png"/>
  <Override PartName="/ppt/media/image36.pct" ContentType="image/x-pict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49.png" ContentType="image/png"/>
  <Override PartName="/ppt/media/image12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5.jpeg" ContentType="image/jpeg"/>
  <Override PartName="/ppt/media/image40.png" ContentType="image/png"/>
  <Override PartName="/ppt/media/image4.jpeg" ContentType="image/jpeg"/>
  <Override PartName="/ppt/media/image22.gif" ContentType="image/gif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1BA3-0484-4B3D-AD37-16FE0F5DC48F}" type="datetime">
              <a:rPr b="0" lang="en-US" sz="1200" spc="-1" strike="noStrike">
                <a:solidFill>
                  <a:srgbClr val="000000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9922-7491-4B65-A1EC-BF86941F3C4B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AFB3-3679-4AFD-9148-44A9991F6D5B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elow, B., Christensen, L., Karp, S., Miner, B., &amp; Peterson, B. (Eds.)  (1994)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thinking Our Classrooms: Teaching for Equity and Justi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Milwaukee: Rethinking Sch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4E97-45A1-4330-92BA-E24B8E9C23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47A0-7E48-4688-8C22-45831E7771BA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ke (2006a) writes, “In digitized knowledge and networked environments, an understanding of the relations among ideas is as [important] if not more important than mastery of the bare facts.  The conceptual shift here is one 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lle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nn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” (p. 27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A4E9-2D9A-4692-AD8D-71766BD929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BFF6-7A60-48F9-B31D-CF4A45C56C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A9F0-43F6-4EFE-B2E9-7A784722EB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2BD4-530B-47A9-BFE8-792B5687E6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CB09-1D88-424B-91DD-D3F67AD8B4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17F-DFAC-41D9-87B2-4D894B03B5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1B42-AADA-4929-A772-641E1E8C81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4FCD-28AF-4BBD-98C3-A90BE53BB0E0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8CD3-B9E7-4D3A-A7F9-638EE6B7B0FC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E2F-061B-49C4-AC5B-6A071A20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2AE-399C-4080-B08A-A412D4D6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A66-14DF-4798-A0A3-0A6D8188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82A-E30F-43DF-B71D-E5A69437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8EB0-9ABB-4446-8648-0ED4858C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B98E-CFDC-46CC-A6A7-D1489240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E62D-AF10-4D66-82C0-B68B605A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CBAC-5F08-43E6-8B51-4E578FA8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2656-7E93-4102-8C72-04CCAA39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D80D-6CE1-4C76-B2B3-E3542F47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44E5-0620-4631-ADFD-A4214FF2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198-B456-451E-9B10-698D3495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25B5-32FF-4ED3-BAE0-365C898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A94F-82D7-4CEE-8543-7CC69709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9A17-0CDF-4F2C-B0BF-97BF30D1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130A-CF16-4AA1-8145-737973BC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3922-D058-4031-822E-8DBB8826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5D30-01B9-4537-B5B2-1C358DAF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3DC4-5886-450F-98A1-5CC4B9DC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C5A98-8B4A-4FA2-9E78-F27E1F78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7924-579D-48B8-9463-042058D3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79CF-0AEF-444A-8372-7BB10B9B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550-91C1-47D2-A6D2-6577BA09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A854-D0EF-4542-84AF-D095D4EE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A320-CCA1-4F77-BD57-CB598608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31B0C-4C26-45F9-9871-B6686CDA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D9C8A-E35B-4235-807D-CBA54F67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B977-B823-49C6-8983-34C18B84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13CA-F17D-4255-8816-CB993DE4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751A-A1B5-4A26-B124-E9F14B4D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406B-27B0-4B7C-8702-FBCCC34D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DED8-7791-4827-9C9F-FB11CE99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0CF6-4B1B-4B4B-9238-49F1065C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7D8-844E-49EE-A05C-BFC83AA8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DE5D-99B9-4479-87CC-96628AC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E80EA-C9DA-4585-B087-DB997A75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6C61-DF12-4619-A2A9-55BD243B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ED38-020A-4E2B-A808-0159430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42F09-51EF-445A-919B-33DBB1DC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2DB4-56EF-4D7B-8F6C-45923F6E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5C6B6-6BEA-431D-981B-958AF89C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D9D56-2996-4BF5-813B-E3CB4132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E5BC-5983-41AF-95AB-A8C1ADB1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543A0-7086-4758-81BC-1DDD1CF8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921-F0B5-48D8-8D67-A7BF6776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27CEF-D873-490E-8C61-28A0FC87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485F5-D26C-41F0-97EE-52FDFE82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30A26-6A12-47E4-A256-F6F33EAB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9CA83-2B59-4BD1-8803-238647EF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675DA-E9E7-46E9-80A3-514036E2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637B-61E6-4A13-A6FC-5D2593B2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5152A-E20E-43BA-8714-035BC431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212C5-F035-4505-9110-D7CBAA0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DF43C-63E6-4988-BB00-B1FA4BEE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9B7BF-4F55-4421-A8B4-7110F17E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7AB-81D8-418D-B698-87976CCC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AC0B7-CBB6-402F-B1AA-1F7BB71F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8D78F-916C-4028-A95D-9D3CE7D9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E6A1B-6D9E-42B8-B040-EA6B95AA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411C3-EA47-4D39-8117-FC60BCC9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DE8F0-D498-4C31-B277-65319A4F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A1FE0-CED6-4C51-81D1-536472A1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93346-E504-41EC-9FB7-B702DDEB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4AD30-DCA1-45CD-BEA9-3053A110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7C192-0024-4AEE-A460-F6224131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2BDC2-CC21-4B4A-8C48-39E85A26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B36-58E2-488F-B65C-850AEFAA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E9B42-8F4F-4FF6-B05E-7CE57559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4FFF2-CAEA-4436-975E-F33AFF9A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0E102-37DA-4056-BA51-23BEC904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0FF-99B6-42EA-B986-F79FE439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743-0066-4A6C-9D0A-DCB02B2A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BEB7-1AD8-45A1-9A6F-0E94CD34D756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D572-317A-49C4-8CF0-4B9FEBEBF6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499C-9043-4BCD-A83E-5B8CEDFC91A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CBE8-00D6-495F-A8D5-D1FD8B4D431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7C6F-9D57-4593-9CA1-AAB62C4C546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0339-020E-4B3B-A3B9-0AF4935E232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0F13-AA1B-451C-8964-E930720B44B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C7E5-79A5-4696-9C85-372AE911D49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85EF-5FA1-4ABC-8593-07C665D635C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EE4F-BD5D-4171-837E-EAA59C7F0B0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19.gif"/><Relationship Id="rId4" Type="http://schemas.openxmlformats.org/officeDocument/2006/relationships/image" Target="../media/image28.gif"/><Relationship Id="rId5" Type="http://schemas.openxmlformats.org/officeDocument/2006/relationships/image" Target="../media/image20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sus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rcycorps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ocialstudies.org/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pct"/><Relationship Id="rId5" Type="http://schemas.openxmlformats.org/officeDocument/2006/relationships/image" Target="../media/image34.pct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oicethread.com/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logtalkradio.com/" TargetMode="External"/><Relationship Id="rId3" Type="http://schemas.openxmlformats.org/officeDocument/2006/relationships/hyperlink" Target="http://www.sajaforum.org/2008/11/breaking-news-terrorists-attack-mumbai-hotels.html" TargetMode="External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eativecommons.org/" TargetMode="External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chertube.com/index.php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hyperlink" Target="http://www.flickr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Participatory Media and Citizenship Education</a:t>
            </a:r>
            <a:br>
              <a:rPr sz="54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n Opportunity for Social Studies to Help Youth Have Their Say 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ttp://communities.socialstudies.org/communities/technology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28600" y="5257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yle Thieman, Joe O’Brien, John Lee, Elizabeth R. Hind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 Educational Research Associ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l  14, 2009  2:15-3:4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nhart, et al, found that generally civic gaming experiences are related to higher engagement in the real worl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tshorn and Van Fossen (2008) also found that civic gaming experiences positively affect civic engagement. They specifically studied players involved in MMORPG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, civic gaming experiences (experiences involving civic action in virtual worlds) are positively related to civic engagement in the real worl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914400" y="1676520"/>
            <a:ext cx="70866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How  might teachers enlist…young people’s enthusiasm for using digital media in the service of civic engagement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76320" y="68580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d9"/>
                </a:solidFill>
                <a:latin typeface="Arial"/>
              </a:rPr>
              <a:t>Democrac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76320" y="146376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s active citizens participating with many voices, critical inquiries, alternative representations, and dis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Forever Kool"/>
          <p:cNvPicPr/>
          <p:nvPr/>
        </p:nvPicPr>
        <p:blipFill>
          <a:blip r:embed="rId2"/>
          <a:stretch/>
        </p:blipFill>
        <p:spPr>
          <a:xfrm>
            <a:off x="5486400" y="4122720"/>
            <a:ext cx="3657600" cy="2725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BENNETON"/>
          <p:cNvPicPr/>
          <p:nvPr/>
        </p:nvPicPr>
        <p:blipFill>
          <a:blip r:embed="rId3"/>
          <a:stretch/>
        </p:blipFill>
        <p:spPr>
          <a:xfrm>
            <a:off x="2819520" y="3733920"/>
            <a:ext cx="2271600" cy="3124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Nike"/>
          <p:cNvPicPr/>
          <p:nvPr/>
        </p:nvPicPr>
        <p:blipFill>
          <a:blip r:embed="rId4"/>
          <a:stretch/>
        </p:blipFill>
        <p:spPr>
          <a:xfrm>
            <a:off x="4876920" y="3733920"/>
            <a:ext cx="1304640" cy="1209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Dissent-JeffersonSm"/>
          <p:cNvPicPr/>
          <p:nvPr/>
        </p:nvPicPr>
        <p:blipFill>
          <a:blip r:embed="rId5"/>
          <a:srcRect l="0" t="2322" r="0" b="0"/>
          <a:stretch/>
        </p:blipFill>
        <p:spPr>
          <a:xfrm>
            <a:off x="293760" y="3657600"/>
            <a:ext cx="22208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33" name="Picture 8" descr="dissent_j"/>
          <p:cNvPicPr/>
          <p:nvPr/>
        </p:nvPicPr>
        <p:blipFill>
          <a:blip r:embed="rId6"/>
          <a:stretch/>
        </p:blipFill>
        <p:spPr>
          <a:xfrm>
            <a:off x="6319800" y="152280"/>
            <a:ext cx="2824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8,111,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-33,-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f we ask the children to critique the world but then fail to encourage them to act, our classrooms can degenerate into factories of cynicism.  While it’s not a teacher’s role to direct students to particular organizations, it is a teacher’s role to suggest that ideas need to be acted upon and to offer students opportunities to do just that.” (p. 5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0" y="65530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igelow, B., Christensen, L., Karp, S., Miner, B., &amp; Peterson, B. (Eds.)  (1994).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Rethinking Our Classrooms: Teaching for Equity and Justi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  Milwaukee: Rethinking School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2057400" y="89856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dd9"/>
                </a:solidFill>
                <a:latin typeface="Arial"/>
                <a:ea typeface="Arial"/>
              </a:rPr>
              <a:t>Civic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Computer-Kid"/>
          <p:cNvPicPr/>
          <p:nvPr/>
        </p:nvPicPr>
        <p:blipFill>
          <a:blip r:embed="rId2"/>
          <a:stretch/>
        </p:blipFill>
        <p:spPr>
          <a:xfrm>
            <a:off x="6400800" y="5638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Duck-painter"/>
          <p:cNvPicPr/>
          <p:nvPr/>
        </p:nvPicPr>
        <p:blipFill>
          <a:blip r:embed="rId3"/>
          <a:stretch/>
        </p:blipFill>
        <p:spPr>
          <a:xfrm>
            <a:off x="7848720" y="2286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MAIL3"/>
          <p:cNvPicPr/>
          <p:nvPr/>
        </p:nvPicPr>
        <p:blipFill>
          <a:blip r:embed="rId4"/>
          <a:stretch/>
        </p:blipFill>
        <p:spPr>
          <a:xfrm>
            <a:off x="2057400" y="569592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2_computers"/>
          <p:cNvPicPr/>
          <p:nvPr/>
        </p:nvPicPr>
        <p:blipFill>
          <a:blip r:embed="rId5"/>
          <a:stretch/>
        </p:blipFill>
        <p:spPr>
          <a:xfrm>
            <a:off x="5076720" y="228600"/>
            <a:ext cx="1019160" cy="333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Music"/>
          <p:cNvPicPr/>
          <p:nvPr/>
        </p:nvPicPr>
        <p:blipFill>
          <a:blip r:embed="rId6"/>
          <a:stretch/>
        </p:blipFill>
        <p:spPr>
          <a:xfrm>
            <a:off x="380880" y="304920"/>
            <a:ext cx="1295640" cy="1217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cameraguy1"/>
          <p:cNvPicPr/>
          <p:nvPr/>
        </p:nvPicPr>
        <p:blipFill>
          <a:blip r:embed="rId7"/>
          <a:stretch/>
        </p:blipFill>
        <p:spPr>
          <a:xfrm>
            <a:off x="8001000" y="533412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1" descr="Constitution_signed"/>
          <p:cNvPicPr/>
          <p:nvPr/>
        </p:nvPicPr>
        <p:blipFill>
          <a:blip r:embed="rId8"/>
          <a:stretch/>
        </p:blipFill>
        <p:spPr>
          <a:xfrm>
            <a:off x="3733920" y="5581800"/>
            <a:ext cx="1523880" cy="819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2" descr="Photographer_4"/>
          <p:cNvPicPr/>
          <p:nvPr/>
        </p:nvPicPr>
        <p:blipFill>
          <a:blip r:embed="rId9"/>
          <a:stretch/>
        </p:blipFill>
        <p:spPr>
          <a:xfrm>
            <a:off x="533520" y="54864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artnership for 21st Century Skill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ttp://www.21stcenturyskills.or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ivity and  Inno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itical Thinking and Problem Solv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tion Lite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T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81480" y="365724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c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, Economic,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ware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5486400" y="2133720"/>
            <a:ext cx="3328560" cy="2861640"/>
            <a:chOff x="5486400" y="2133720"/>
            <a:chExt cx="3328560" cy="2861640"/>
          </a:xfrm>
        </p:grpSpPr>
        <p:pic>
          <p:nvPicPr>
            <p:cNvPr id="349" name="Picture 7" descr=""/>
            <p:cNvPicPr/>
            <p:nvPr/>
          </p:nvPicPr>
          <p:blipFill>
            <a:blip r:embed="rId2"/>
            <a:stretch/>
          </p:blipFill>
          <p:spPr>
            <a:xfrm>
              <a:off x="5609880" y="2133720"/>
              <a:ext cx="3205080" cy="20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8"/>
            <p:cNvSpPr/>
            <p:nvPr/>
          </p:nvSpPr>
          <p:spPr>
            <a:xfrm>
              <a:off x="5486400" y="4471560"/>
              <a:ext cx="32652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852b7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704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21</a:t>
            </a:r>
            <a:r>
              <a:rPr b="1" lang="en-US" sz="40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Century Skills Map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CSS &amp; Partnership for 21</a:t>
            </a:r>
            <a:r>
              <a:rPr b="1" lang="en-US" sz="40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Century Skil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923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86868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914400" y="2941560"/>
            <a:ext cx="7315200" cy="2163600"/>
            <a:chOff x="914400" y="2941560"/>
            <a:chExt cx="7315200" cy="2163600"/>
          </a:xfrm>
        </p:grpSpPr>
        <p:sp>
          <p:nvSpPr>
            <p:cNvPr id="355" name="Rectangle 3"/>
            <p:cNvSpPr/>
            <p:nvPr/>
          </p:nvSpPr>
          <p:spPr>
            <a:xfrm>
              <a:off x="914400" y="2941560"/>
              <a:ext cx="7315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5dfd0"/>
                  </a:solidFill>
                  <a:latin typeface="Constantia"/>
                  <a:ea typeface="Arial"/>
                </a:rPr>
                <a:t>expands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the notion of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reading and writ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to include images, sounds, advertising, and popular culture, as well as prin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4"/>
            <p:cNvSpPr/>
            <p:nvPr/>
          </p:nvSpPr>
          <p:spPr>
            <a:xfrm>
              <a:off x="1291320" y="4679280"/>
              <a:ext cx="6711840" cy="425880"/>
            </a:xfrm>
            <a:prstGeom prst="leftRightArrow">
              <a:avLst>
                <a:gd name="adj1" fmla="val 50000"/>
                <a:gd name="adj2" fmla="val 313739"/>
              </a:avLst>
            </a:prstGeom>
            <a:solidFill>
              <a:srgbClr val="85df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304920" y="2438280"/>
            <a:ext cx="8610480" cy="4185000"/>
            <a:chOff x="304920" y="2438280"/>
            <a:chExt cx="8610480" cy="4185000"/>
          </a:xfrm>
        </p:grpSpPr>
        <p:sp>
          <p:nvSpPr>
            <p:cNvPr id="358" name="Rectangle 6"/>
            <p:cNvSpPr/>
            <p:nvPr/>
          </p:nvSpPr>
          <p:spPr>
            <a:xfrm>
              <a:off x="914400" y="5249520"/>
              <a:ext cx="7315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5dfd0"/>
                  </a:solidFill>
                  <a:latin typeface="Constantia"/>
                  <a:ea typeface="Arial"/>
                </a:rPr>
                <a:t>deepens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 the ability to critically analyze the relationships between knowledge and power in societ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7"/>
            <p:cNvGrpSpPr/>
            <p:nvPr/>
          </p:nvGrpSpPr>
          <p:grpSpPr>
            <a:xfrm>
              <a:off x="304920" y="2438280"/>
              <a:ext cx="8610480" cy="3871440"/>
              <a:chOff x="304920" y="2438280"/>
              <a:chExt cx="8610480" cy="3871440"/>
            </a:xfrm>
          </p:grpSpPr>
          <p:sp>
            <p:nvSpPr>
              <p:cNvPr id="360" name="AutoShape 8"/>
              <p:cNvSpPr/>
              <p:nvPr/>
            </p:nvSpPr>
            <p:spPr>
              <a:xfrm>
                <a:off x="8534520" y="2438280"/>
                <a:ext cx="380880" cy="3871440"/>
              </a:xfrm>
              <a:prstGeom prst="downArrow">
                <a:avLst>
                  <a:gd name="adj1" fmla="val 50000"/>
                  <a:gd name="adj2" fmla="val 254112"/>
                </a:avLst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9"/>
              <p:cNvSpPr/>
              <p:nvPr/>
            </p:nvSpPr>
            <p:spPr>
              <a:xfrm>
                <a:off x="304920" y="2438280"/>
                <a:ext cx="380880" cy="3871440"/>
              </a:xfrm>
              <a:prstGeom prst="downArrow">
                <a:avLst>
                  <a:gd name="adj1" fmla="val 50000"/>
                  <a:gd name="adj2" fmla="val 254112"/>
                </a:avLst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Text Box 10"/>
          <p:cNvSpPr/>
          <p:nvPr/>
        </p:nvSpPr>
        <p:spPr>
          <a:xfrm>
            <a:off x="0" y="777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dd9"/>
                </a:solidFill>
                <a:latin typeface="Calibri"/>
              </a:rPr>
              <a:t>Media Literacy is                         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new understanding of </a:t>
            </a: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literacy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that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1" descr="Flipping_channels"/>
          <p:cNvPicPr/>
          <p:nvPr/>
        </p:nvPicPr>
        <p:blipFill>
          <a:blip r:embed="rId2"/>
          <a:stretch/>
        </p:blipFill>
        <p:spPr>
          <a:xfrm>
            <a:off x="990720" y="2209680"/>
            <a:ext cx="685800" cy="660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2" descr="2_computers"/>
          <p:cNvPicPr/>
          <p:nvPr/>
        </p:nvPicPr>
        <p:blipFill>
          <a:blip r:embed="rId3"/>
          <a:stretch/>
        </p:blipFill>
        <p:spPr>
          <a:xfrm>
            <a:off x="3657600" y="2286000"/>
            <a:ext cx="1324080" cy="433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BOOK_ANM"/>
          <p:cNvPicPr/>
          <p:nvPr/>
        </p:nvPicPr>
        <p:blipFill>
          <a:blip r:embed="rId4"/>
          <a:stretch/>
        </p:blipFill>
        <p:spPr>
          <a:xfrm>
            <a:off x="7772400" y="4221000"/>
            <a:ext cx="628560" cy="503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4" descr="Music"/>
          <p:cNvPicPr/>
          <p:nvPr/>
        </p:nvPicPr>
        <p:blipFill>
          <a:blip r:embed="rId5"/>
          <a:stretch/>
        </p:blipFill>
        <p:spPr>
          <a:xfrm>
            <a:off x="723960" y="4048200"/>
            <a:ext cx="799920" cy="752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5" descr="CAMERA"/>
          <p:cNvPicPr/>
          <p:nvPr/>
        </p:nvPicPr>
        <p:blipFill>
          <a:blip r:embed="rId6"/>
          <a:stretch/>
        </p:blipFill>
        <p:spPr>
          <a:xfrm>
            <a:off x="6934320" y="2286000"/>
            <a:ext cx="7617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685800" y="19051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primarily focusing on the </a:t>
            </a:r>
            <a:r>
              <a:rPr b="1" lang="en-US" sz="3200" spc="-1" strike="noStrike">
                <a:solidFill>
                  <a:srgbClr val="009dd9"/>
                </a:solidFill>
                <a:latin typeface="Arial"/>
              </a:rPr>
              <a:t>colle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information and fac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76320" y="609480"/>
            <a:ext cx="906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9dd9"/>
                </a:solidFill>
                <a:latin typeface="Calibri"/>
              </a:rPr>
              <a:t>Education must move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066680" y="335268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concentrating more on the </a:t>
            </a:r>
            <a:r>
              <a:rPr b="1" lang="en-US" sz="3200" spc="-1" strike="noStrike">
                <a:solidFill>
                  <a:srgbClr val="009dd9"/>
                </a:solidFill>
                <a:latin typeface="Arial"/>
              </a:rPr>
              <a:t>connec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people and information and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095880" y="5089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men Luk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533520" y="4191120"/>
            <a:ext cx="15238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533520" y="2666880"/>
            <a:ext cx="0" cy="1524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org07"/>
          <p:cNvPicPr/>
          <p:nvPr/>
        </p:nvPicPr>
        <p:blipFill>
          <a:blip r:embed="rId2"/>
          <a:stretch/>
        </p:blipFill>
        <p:spPr>
          <a:xfrm>
            <a:off x="380880" y="5124600"/>
            <a:ext cx="5181840" cy="135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reativity and Inno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students create a simulation, role play, or  webquest on a current or historic event (e.g., global climate change).  Product can be presented to a local school with analysis of most creative and innovative elements in each of the produc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7" name="Picture 12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365640" cy="41655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3"/>
          <p:cNvSpPr/>
          <p:nvPr/>
        </p:nvSpPr>
        <p:spPr>
          <a:xfrm>
            <a:off x="4572000" y="58672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4648320" y="58672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ke Schlotterback, Fisheye Phot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ritical Thinking and 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use online databases (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www.census.go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determine immigration patterns and compare to changes in community demograph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students use county voting patterns, demographic &amp; socio-economic data from 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sus bureau to predict outcomes of upcoming election. Display  election projection &amp; supporting information on a digital map. Create a podcast that suggests election strategies that political parties might use for their candidates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6-5-Salas-First Grade3"/>
          <p:cNvPicPr/>
          <p:nvPr/>
        </p:nvPicPr>
        <p:blipFill>
          <a:blip r:embed="rId2"/>
          <a:stretch/>
        </p:blipFill>
        <p:spPr>
          <a:xfrm>
            <a:off x="3998880" y="0"/>
            <a:ext cx="514512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305" name="Picture 3" descr="6-5-Salas-First Grade"/>
          <p:cNvPicPr/>
          <p:nvPr/>
        </p:nvPicPr>
        <p:blipFill>
          <a:blip r:embed="rId3">
            <a:lum contrast="-6000"/>
          </a:blip>
          <a:stretch/>
        </p:blipFill>
        <p:spPr>
          <a:xfrm rot="20793600">
            <a:off x="0" y="228600"/>
            <a:ext cx="4191120" cy="35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6" name="Picture 4" descr="Schullo-3rd grade"/>
          <p:cNvPicPr/>
          <p:nvPr/>
        </p:nvPicPr>
        <p:blipFill>
          <a:blip r:embed="rId4"/>
          <a:stretch/>
        </p:blipFill>
        <p:spPr>
          <a:xfrm>
            <a:off x="1066680" y="3733920"/>
            <a:ext cx="217188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ommun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ementary students choose an area from state history, organize a storyboard on the person, place, or event and use digital tools to create  a presentation to share with other students and community memb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2"/>
          <a:stretch/>
        </p:blipFill>
        <p:spPr>
          <a:xfrm>
            <a:off x="685800" y="2698920"/>
            <a:ext cx="3809880" cy="267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ollabo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S or HS students watch documentary video of historic event and read online first-hand accounts (e.g. Israel-Palestine conflict in Gaz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s use collaboration list serve or Skype Video Chat , or asynchronous discussion forum (Blackboard, Moodle) to discuss and compare their findings with students in other parts of the US, Israel, and Palestine.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www.mercycorps.or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s reflect on experiences in small group discussions (on or off lin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formation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ary students use online survey tool to collect data about local attractions their family likes to visi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spreadsheet, evaluate, use graphing tools to display their findings, and use digital images to illustrate favorite pla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analyze digital information about how transportation systems have changed over time (digital photos, aerial photos, satellite images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onnection to demographic changes and historic ev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Media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analyze how media format influences media mess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history websites &amp; primary sources to compare &amp; contrast historic &amp; current presidential election campaig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hesize how 19th &amp; 21st century media influence political campaig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www.socialstudies.or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3"/>
          <a:stretch/>
        </p:blipFill>
        <p:spPr>
          <a:xfrm>
            <a:off x="5181480" y="304920"/>
            <a:ext cx="3409920" cy="33591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4"/>
          <a:stretch/>
        </p:blipFill>
        <p:spPr>
          <a:xfrm>
            <a:off x="0" y="2705040"/>
            <a:ext cx="30924360" cy="1447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0" y="2705040"/>
            <a:ext cx="30924360" cy="1447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3657600" cy="2414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CT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ary students examine interaction of human beings &amp; physical environment, land use, towns, local ecosystem changes (e.g., mining in Lead, SD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dated aerial photos of the local community to recent satellite imag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d evaluate the chan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31226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4827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5" descr=""/>
          <p:cNvPicPr/>
          <p:nvPr/>
        </p:nvPicPr>
        <p:blipFill>
          <a:blip r:embed="rId2"/>
          <a:stretch/>
        </p:blipFill>
        <p:spPr>
          <a:xfrm>
            <a:off x="426960" y="847800"/>
            <a:ext cx="8339040" cy="847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effects of news sites and search engines’ use of algorithms that favor popularity over quality or diversity on user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different approaches to a recommender system for participatory sites and the implications/effects of ea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2"/>
          <a:stretch/>
        </p:blipFill>
        <p:spPr>
          <a:xfrm>
            <a:off x="530280" y="987480"/>
            <a:ext cx="7858080" cy="1170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78548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an increasingly participatory global media culture in a multicultural society, what are the effects on student understanding  …  (Mark Duez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Journalism, v 7 , 2006.)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hat are the effects on student understanding of various religions in the U.S. as they engage with relevant religious and ethnic media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140080" y="1459080"/>
            <a:ext cx="3816360" cy="4930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9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dd9"/>
                </a:solidFill>
                <a:latin typeface="Calibri"/>
              </a:rPr>
              <a:t>How is technology making their world different from ours? 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9dd9"/>
                </a:solidFill>
                <a:latin typeface="Calibri"/>
              </a:rPr>
              <a:t>Why should this matter to social studies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504960" cy="4778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58080" cy="11955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effect of participating in an online civic MMPORG (Massively-Multiplayer Online Roleplaying Game) on students’ understanding of an ethnic group?  (“Digital Games &amp; Young Black Men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,” Games &amp; Culture, 2008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effect of participating in an online environment on the formation of young people’s civic , cultural and social identity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89ca3"/>
                </a:solidFill>
                <a:latin typeface="Calibri"/>
              </a:rPr>
              <a:t>Question…Round I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relation between youth’s widespread use of participatory media outside of school &amp; their socialization in schoo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emerging/existing social norms of an online environ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are they alike and different from those in an offline environment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…Round 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implications of a shift from a consumer orientation toward media and its content to a producer oriented online one where users have a worldwide audience? (i.e. my going to a movie made by others to making my own &amp; uploading to YouTub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implications of an online “public commons” operated by the private sector? (YouTube, TeacherTub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relation between users/content producers and service providers/”publishers” of users’ cont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…Round V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effect does maturation in an age of continuous instantaneous connectivity have on young people’s sense of place &amp; time, and their formation of their personal identity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What are the most critical questions that we as social studies researchers ought to address to best serve the field and K-16 social studies learners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pturing student voices just got a lot easier.  Digital storytelling made easi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Voice Thre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Blog Talk Rad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Making on the scene reporting more access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2" name="Content Placeholder 8" descr="btrbetalogo.gif"/>
          <p:cNvPicPr/>
          <p:nvPr/>
        </p:nvPicPr>
        <p:blipFill>
          <a:blip r:embed="rId4"/>
          <a:stretch/>
        </p:blipFill>
        <p:spPr>
          <a:xfrm>
            <a:off x="649440" y="3002040"/>
            <a:ext cx="3657600" cy="825480"/>
          </a:xfrm>
          <a:prstGeom prst="rect">
            <a:avLst/>
          </a:prstGeom>
          <a:ln w="0">
            <a:noFill/>
          </a:ln>
        </p:spPr>
      </p:pic>
      <p:pic>
        <p:nvPicPr>
          <p:cNvPr id="423" name="Content Placeholder 16" descr="taj.gif"/>
          <p:cNvPicPr/>
          <p:nvPr/>
        </p:nvPicPr>
        <p:blipFill>
          <a:blip r:embed="rId5"/>
          <a:stretch/>
        </p:blipFill>
        <p:spPr>
          <a:xfrm>
            <a:off x="5656320" y="2405160"/>
            <a:ext cx="201924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Creative Comm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427" name="Content Placeholder 7" descr="james-boyle-the-public-domain-smallcover.jpg"/>
          <p:cNvPicPr/>
          <p:nvPr/>
        </p:nvPicPr>
        <p:blipFill>
          <a:blip r:embed="rId3"/>
          <a:stretch/>
        </p:blipFill>
        <p:spPr>
          <a:xfrm>
            <a:off x="1143000" y="2438280"/>
            <a:ext cx="2349360" cy="3619800"/>
          </a:xfrm>
          <a:prstGeom prst="rect">
            <a:avLst/>
          </a:prstGeom>
          <a:ln w="0">
            <a:noFill/>
          </a:ln>
        </p:spPr>
      </p:pic>
      <p:pic>
        <p:nvPicPr>
          <p:cNvPr id="428" name="Content Placeholder 6" descr="home_photo_ende.jpg"/>
          <p:cNvPicPr/>
          <p:nvPr/>
        </p:nvPicPr>
        <p:blipFill>
          <a:blip r:embed="rId4"/>
          <a:stretch/>
        </p:blipFill>
        <p:spPr>
          <a:xfrm>
            <a:off x="4645080" y="2070000"/>
            <a:ext cx="4041720" cy="269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Teacher Tub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432" name="Content Placeholder 8" descr="imgad.jpeg"/>
          <p:cNvPicPr/>
          <p:nvPr/>
        </p:nvPicPr>
        <p:blipFill>
          <a:blip r:embed="rId3"/>
          <a:stretch/>
        </p:blipFill>
        <p:spPr>
          <a:xfrm>
            <a:off x="573120" y="1897200"/>
            <a:ext cx="3809880" cy="303516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9" descr="logo.gif"/>
          <p:cNvPicPr/>
          <p:nvPr/>
        </p:nvPicPr>
        <p:blipFill>
          <a:blip r:embed="rId4"/>
          <a:stretch/>
        </p:blipFill>
        <p:spPr>
          <a:xfrm>
            <a:off x="5389560" y="2881440"/>
            <a:ext cx="25527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Content Placeholder 8" descr="logo_home.png.v2.png"/>
          <p:cNvPicPr/>
          <p:nvPr/>
        </p:nvPicPr>
        <p:blipFill>
          <a:blip r:embed="rId2"/>
          <a:stretch/>
        </p:blipFill>
        <p:spPr>
          <a:xfrm>
            <a:off x="1523880" y="2057400"/>
            <a:ext cx="5943600" cy="20937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Flick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118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the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entury Skills and Social Studies Ma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nstrate map’s potential to bridge the digital disconnect and transform classroom i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gage participants in a discussion of challenges and opportunities for integrating technology into social studies i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 the implications for pre-service and in-service teacher professional development and public polic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ggest a research agenda on the use of participatory media to support youth civic engagemen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er participants the opportunity to post comments on implementation of the map in their practi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Digital Divide vs. Digital Disconnec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33520" y="19807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s cite K-12 students’ lack of technology at home as a barrier to incorporating technology into their less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48320" y="1934640"/>
            <a:ext cx="40384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et more students are coming to school with cell phones, media players, game devices, and lapto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762120" y="5029200"/>
            <a:ext cx="8001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need to learn how to use multiple technologies as tools for learning, communication, and participation, both locally and glob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1176120"/>
            <a:ext cx="2212920" cy="37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ducators may be the most out of touch with the  shifting citizen identity patterns of youth.”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Bennett, 2008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Picture Placeholder 4" descr="YouthRally.jpg"/>
          <p:cNvPicPr/>
          <p:nvPr/>
        </p:nvPicPr>
        <p:blipFill>
          <a:blip r:embed="rId2"/>
          <a:srcRect l="0" t="-12826" r="0" b="-1282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5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619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CSS Members sup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re attention to studying controversial issues, multicultural and global issu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eater emphasis on integrating technology into the curriculu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onger linkages of social studies learning to social responsibility and civic a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NCSS Curriculum Standards Revision Committee hearings, NCSS, Houston, 2008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earch indicate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ny districts and teachers do not address controversial issues in the classroo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udents do not develop participatory skills relating to civic action and do not learn how to engage in civic a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Torney-Purta &amp; Lopez, 2006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8:17:38Z</dcterms:created>
  <dc:creator>Pamela Stiles</dc:creator>
  <dc:description/>
  <dc:language>en-US</dc:language>
  <cp:lastModifiedBy>Gayle Thieman</cp:lastModifiedBy>
  <dcterms:modified xsi:type="dcterms:W3CDTF">2009-04-14T21:18:53Z</dcterms:modified>
  <cp:revision>90</cp:revision>
  <dc:subject/>
  <dc:title>Polls &amp; Surveys</dc:title>
</cp:coreProperties>
</file>