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0C2-9AD8-48E0-B4DE-65E528B0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2C2-54FE-4C72-B4F2-EF348A89C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F3D-5943-4F02-9187-DE50D3D7D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2D9E-6B52-4A55-A0BC-C087FC2F0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B9F9-097F-42C9-BBAF-64C4F3832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1BFA-D3D1-45E0-B46C-57A8825C7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719E-FB91-4839-AAFF-E9BBC07AD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3BF5-EC1E-4058-B8C1-72388D449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30EB-AFEA-48AC-A457-761F614E2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20B7-F958-44F4-AEBF-110649949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BE69-A007-44E5-8FD1-B08F7250F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6679-C99F-4D74-8281-55D7A7903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F1BE-5AC5-4D5F-93DF-9BF8CAEFC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9F20-89A5-49A6-ADE0-194027206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7076-7BB4-4673-B3D5-F6E19DD67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024-D1B3-42CC-B2FA-0E1793ED55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BEC0-2840-4EC7-A8BC-2295526D020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B960-2B50-4C3D-A505-8A1966F520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1AB4-F126-48E6-97B9-2904CAC053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C51E-9CCC-4CF1-88BC-4C1511FFF3B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6C1-F66D-47D0-8263-FE754865738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EDC-B50F-45D9-BF17-5296342D2DD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1B3A-9C10-4EE0-9B81-CB8A7D4BFB3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B797-F3C4-4B4F-9914-CAC467FCA5F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7D0-75C6-41E0-9B29-29629AC55CE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0C14-A401-4447-B11D-9577FCBB5CC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238-7257-47D0-87DF-5AE708F724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791-A9D9-4E49-996A-5C4F0B6BA17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A8ED-D01F-4095-8520-EB28F74516F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0ED1-6A4C-4CF3-A3D9-50221D75D2C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5D6-6252-46FD-958E-F14824F360B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E75-3A81-4D6D-837F-F48BF068F1D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14F3-F536-4F48-8CE1-A9CB76F4C6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7:43:59Z</dcterms:modified>
  <cp:revision>291</cp:revision>
  <dc:subject/>
  <dc:title>Copyright Chaos</dc:title>
</cp:coreProperties>
</file>