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6FE-B8A0-42A0-83EB-9FC434DD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A9D7-235E-4AF2-ADFF-2EA25A84BB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C2AB-D616-4074-A9A9-312938C54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DF43-EAAF-4B59-BC11-FEA1535EF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B635-2FE9-4E2D-A17B-550E4018B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4E71-1745-4622-84F4-FA89B54A8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8DCD-9CBC-4AD4-8901-A0592AFE2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F14E-C3A2-4E9E-A76C-5890076A3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D483-AAE6-4020-95F5-6AF5DF0A0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C092-40FC-4E1F-82E7-E3EC43DF6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3494-4B94-4B98-98D7-E2C96B43C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8598-9311-4593-9418-2E8E86C0D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4E8C-A384-473F-A51D-0B4D204A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3737-3F86-4276-A8E0-E8B2788D8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E00F-2D58-4A94-8D29-AEED1C0A1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BF7-6379-42C7-A4FB-70DE57D467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234-EA2D-4088-93E3-1BC1BC815FA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271-E0B2-4BFD-A8F0-CC7E1B3FEC3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009C-5C19-472A-919F-012760D08CB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DD65-2A85-41D8-A526-496946BB06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E004-1DF7-43A6-B67B-B8A4761B120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8576-B9BC-43DA-8831-8CCCAEDCE68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F22-75E1-478A-BF57-33959140180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DAFC-31BA-430A-86B9-46B5BFEB0C1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D184-22C6-4F72-8F0F-EBE82893459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EC0-4CFC-4480-B333-361C4A45425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F70-7E81-46DD-9E0E-647122984CD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1BC-5B7A-4705-AE6B-B3B2B1CCE5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6482-39B7-4881-93B6-D09DD0ED29F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695-851F-41EF-BA9F-0E8A2F848F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500A-9235-404A-A15D-879047104F9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3F9-45BF-4A8C-A523-C05B714FB3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7FC-AC59-418C-95DC-57716CE17D2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5T17:43:59Z</dcterms:modified>
  <cp:revision>291</cp:revision>
  <dc:subject/>
  <dc:title>Copyright Chaos</dc:title>
</cp:coreProperties>
</file>