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FF76-28A8-4AC0-9715-7C3E1DDE5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FC7C-AF5F-46F5-A1E6-06E8821632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A1A2-CBA5-4D40-B9D8-87E06764B8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A3C15-81F0-481B-9D19-0FE4E04DCF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AA109-0331-4EC1-8C31-2735389EF6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BA218-513D-470E-AAB9-D81B19C6D2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A9204-0629-4F5C-9B2A-EEA3415CED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CAC9A-9478-4122-983B-A9B8E1EDEA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977A8-4B51-4C1A-9507-1F0FA90016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A6CD6-B071-4C1D-8030-1C4E34284F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C9CAB-0618-47E7-9846-8ACA7F41E6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75505-0AC5-43E5-B9B6-1107A2395A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C6232-95B8-4531-B207-FEDE98B30A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86FC8-4F76-4821-B0D3-17D087F800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404E0-8ABF-4765-A0C0-1CDE1519CC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E257-07B8-41DD-B8ED-71168A38B17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Picture 9" descr="intelEDU_wht_lrg [Converted]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5" name="Text Box 12"/>
          <p:cNvSpPr/>
          <p:nvPr/>
        </p:nvSpPr>
        <p:spPr>
          <a:xfrm>
            <a:off x="939960" y="637236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intelEDU_wht_lrg [Converted]"/>
          <p:cNvPicPr/>
          <p:nvPr/>
        </p:nvPicPr>
        <p:blipFill>
          <a:blip r:embed="rId2"/>
          <a:stretch/>
        </p:blipFill>
        <p:spPr>
          <a:xfrm>
            <a:off x="6478560" y="28404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457200" y="653904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utsystem.edu/ogc/intellectualproperty/ccmcguid.htm" TargetMode="External"/><Relationship Id="rId2" Type="http://schemas.openxmlformats.org/officeDocument/2006/relationships/hyperlink" Target="http://www.utsystem.edu/OGC/IntellectualProperty/copypol2.htm" TargetMode="External"/><Relationship Id="rId3" Type="http://schemas.openxmlformats.org/officeDocument/2006/relationships/hyperlink" Target="http://www.copyright.gov/circs/circ1.html" TargetMode="External"/><Relationship Id="rId4" Type="http://schemas.openxmlformats.org/officeDocument/2006/relationships/hyperlink" Target="http://www.benedict.com/" TargetMode="External"/><Relationship Id="rId5" Type="http://schemas.openxmlformats.org/officeDocument/2006/relationships/hyperlink" Target="http://www.utsystem.edu/OGC/IntellectualProperty/faculty.htm" TargetMode="Externa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templetons.com/brad/copymyths.html" TargetMode="External"/><Relationship Id="rId2" Type="http://schemas.openxmlformats.org/officeDocument/2006/relationships/hyperlink" Target="http://www.duhaime.org/diction.htm" TargetMode="External"/><Relationship Id="rId3" Type="http://schemas.openxmlformats.org/officeDocument/2006/relationships/hyperlink" Target="http://www.copyright.cornell.edu/training/Hirtle_Public_Domain.htm" TargetMode="External"/><Relationship Id="rId4" Type="http://schemas.openxmlformats.org/officeDocument/2006/relationships/hyperlink" Target="http://www.utsystem.edu/ogc/intellectualproperty/copypol2.htm#mm&#x0d;" TargetMode="Externa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utsystem.edu/ogc/intellectualproperty/copypol2.htm#course" TargetMode="External"/><Relationship Id="rId2" Type="http://schemas.openxmlformats.org/officeDocument/2006/relationships/hyperlink" Target="http://www.utsystem.edu/OGC/IntellectualProperty/imagguid.htm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71600" y="4419360"/>
            <a:ext cx="640080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opyright Chao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ubTitle"/>
          </p:nvPr>
        </p:nvSpPr>
        <p:spPr>
          <a:xfrm>
            <a:off x="2666880" y="3429000"/>
            <a:ext cx="60199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Educator's Guide to Copyright Law and “Fair Use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resentation created for th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0" lang="en-US" sz="12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ABCD-17F8-415F-BA3B-341EE78CC79D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ttribution and Acknowledgemen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lvl="1" marL="221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redit your sources and display the copyright notic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21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© and copyright ownership informatio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21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21400" indent="-220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rediting the sourc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14440" indent="-291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ive a full bibliographic description with the information that is available (including author, title, publisher, and place and date of publication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21400" indent="-220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play copyright notic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14440" indent="-291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nder pictures, add the copyright ownership information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652680" indent="-136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© (the copyright notice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652680" indent="-136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ear of first public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652680" indent="-136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ame of the copyright hold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022760" indent="-368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ample: © 2001 Company/Person’s Nam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902E-3858-499C-951F-BF01C398E5B8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uture Uses Beyond Fair Us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f there is a possibility that a project could result in broader dissemination (for instance, publication on the Internet): obtain permissions when you create it, rather than waiting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228960" indent="-227520"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ample permission letters are available on the Curriculum Resource C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31360" indent="-301320">
              <a:spcBef>
                <a:spcPts val="10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Resource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lder,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Copyright Resourc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674280" indent="-141480">
              <a:spcBef>
                <a:spcPts val="10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ermission letters to copyright own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674280" indent="-141480">
              <a:spcBef>
                <a:spcPts val="10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ermission letters to parents to publish student wor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674280" indent="-141480">
              <a:spcBef>
                <a:spcPts val="10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n example letter to use in this cour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D377-0D61-4C02-8122-9D619CEFA010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Guidelin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Remember... these are guidelines, not law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However, the further you venture from these guidelines, the more likely you are to be outside of “fair use.”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1F3F-DB67-40CE-87FE-B122A7FAC8EB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ftware Copyrigh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What about software?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of software does not fall under fair use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nless you have specific permission from the copyright owner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t is illegal to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urchase a single user license and load it onto multiple computers or a server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ownload copyrighted software from the Internet or bulletin boar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oad the software your school purchased onto your computer at hom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1522-2B4A-47CE-8580-A92B9BB50527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lvl="1" marL="238680" indent="-23724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dditional resources to help you and your students understand and follow copyright law and fair use guidelines are located in the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Resources, Copyright Resource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folder on the Curriculum Resource CD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-23724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Guidelines For Educational Multimedia”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repared by the Educational Multimedia Fair Use Guidelines Development Committee, July 17, 1996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utsystem.edu/ogc/intellectualproperty/ccmcguid.htm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-23724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Of Copyrighted Materials” by Georgia Harper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utsystem.edu/OGC/IntellectualProperty/copypol2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-23724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Basics” by the U.S. Copyright Office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3"/>
              </a:rPr>
              <a:t>www.copyright.gov/circs/circ1.html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-23724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e Copyright Website” by Benedict O’Mahoney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4"/>
              </a:rPr>
              <a:t>www.benedict.co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-23724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Law in the Electronic Environment”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5"/>
              </a:rPr>
              <a:t>www.utsystem.edu/OGC/IntellectualProperty/faculty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1E13-E765-4D2B-B42F-FA98534D9108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10 Big Myths about Copyright Explained” by Brad Templeton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templetons.com/brad/copymyths.htm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uhaime's Legal Dictionary” by Lloyd Duhaime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duhaime.org/diction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Term and the Public Domain in the United States” by Peter B. Hirtle, Cornell Institute for Digital Collectio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3"/>
              </a:rPr>
              <a:t>www.copyright.cornell.edu/training/Hirtle_Public_Domain.htm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Rules Of Thumb For Digitizing And Using Others' Works In Multimedia Materials For Educational Purpose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”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4"/>
              </a:rPr>
              <a:t>www.utsystem.edu/ogc/intellectualproperty/copypol2.htm#m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22E0-3936-4003-A148-72DA2B82B082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lvl="1" marL="236160" indent="-23472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Rules Of Thumb For Coursepack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utsystem.edu/ogc/intellectualproperty/copypol2.htm#cours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6160" indent="-23472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 Proposal For Educational Fair Use Guidelines For Digital Images”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utsystem.edu/OGC/IntellectualProperty/imagguid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6160" indent="-23472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ist of Links to Other Copyright Sites by Georgia Harper, University of Texas www.utsystem.edu/OGC/IntellectualProperty/offsite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6160" indent="-234720"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Guidelines for Multimedia” by Intel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Education www.intel.com/education/newtotech/fair_use_multimedia.htm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88D8-C9B5-464B-8E45-8F847CA4D64E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Information on Software Copyrigh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ct Sheet on School Software Use”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by Software &amp; Information Industry Association (SIIA)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www.siia.net/piracy/pubs/SchoolSoftwareUse.pdf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igital Anarchy: Part One of an Analysis of Software Piracy”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by David Laprad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ww.avault.com/articles/getarticle.asp?name=warez1&amp;page=1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e Federation Against Software Theft (FAST)” (United Kingdom organization) www.fast.org.u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nti-Piracy FAQ” by Software &amp; Information Industry Association (SIIA)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www.siia.net/piracy/faq.asp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ermissible Copying of Software” by Georgia Harper, University of Texas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Verdana"/>
              </a:rPr>
              <a:t>www.utsystem.edu/OGC/IntellectualProperty/mono2.htm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A696-E655-452C-A8D8-8B1EC42E7C87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Use of this Presentatio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is presentation is copyrighted by Intel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t may be used, with copyright notices intact, for not-for-profit, educational purpose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intelEDU_wht_lrg [Converted]"/>
          <p:cNvPicPr/>
          <p:nvPr/>
        </p:nvPicPr>
        <p:blipFill>
          <a:blip r:embed="rId1"/>
          <a:stretch/>
        </p:blipFill>
        <p:spPr>
          <a:xfrm>
            <a:off x="2217600" y="1908000"/>
            <a:ext cx="4953240" cy="2475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457200" y="653904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E063-F9F0-411E-9485-287558448785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opyrigh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What is copyright?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e exclusive right to produce or reproduce (copy), to perform in public, or to publish an original literary or artistic work.”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spcBef>
                <a:spcPts val="64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Duhaime's Law Dictionary 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lmost everything created privately and originally after March 1, 1989 is copyrighted and protected whether it has a notice or not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AD9A-9E61-40F6-B2F9-4E8FE3ADA1DE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Items Not Copyrighted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lvl="1" marL="233640" indent="-2325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amples of what are not protected by copyright la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orks that have not been written or record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deas, procedures, methods, discoveries, etc. as distinguished from a description, explanation, or illustr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orks consisting entirely of common information or compilations (for example: standard calendars, tape measures and rulers, telephone book, etc.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tems in the public domain (all works created before 1923 and most between 1923-1963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st U.S. government materials (some items created by contractors for the government might be copyrighted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a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33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C378-A705-4746-961E-B3458EF92E93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air Use Claus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air use is a part of the United States Copyright law. It allows people to use and make copies of copyrighted works if they are using them for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riticis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mm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ews report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ach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cholarshi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searc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Sec. 107 of the Fair Use Provision of the Copyright Act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13D9-E8E8-49AA-97C2-5BBAAAF77A5E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our Factors Help Determine Fair Us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4520" indent="-343080">
              <a:spcBef>
                <a:spcPts val="799"/>
              </a:spcBef>
              <a:buClr>
                <a:srgbClr val="f5e647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e647"/>
                </a:solidFill>
                <a:latin typeface="Verdana"/>
              </a:rPr>
              <a:t>The purpose and character of the use, including whether such use is of a commercial nature or is for nonprofit educational purpos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You must be using it for educational use, not just using it in a school environmen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-343080">
              <a:spcBef>
                <a:spcPts val="799"/>
              </a:spcBef>
              <a:buClr>
                <a:srgbClr val="f5e647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e647"/>
                </a:solidFill>
                <a:latin typeface="Verdana"/>
              </a:rPr>
              <a:t>The nature of the copyrighted work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air use applies more narrowly to highly creative works—in comparison to those that are mostly fact-based in natu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-343080">
              <a:spcBef>
                <a:spcPts val="799"/>
              </a:spcBef>
              <a:buClr>
                <a:srgbClr val="f5e647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e647"/>
                </a:solidFill>
                <a:latin typeface="Verdana"/>
              </a:rPr>
              <a:t>The amount and substantiality of the portion used in relation to the copyrighted work as a whol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nsideration of quantity &amp; quality...using only what is 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necessary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and not the  “heart” of the work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-343080">
              <a:spcBef>
                <a:spcPts val="799"/>
              </a:spcBef>
              <a:buClr>
                <a:srgbClr val="f5e647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e647"/>
                </a:solidFill>
                <a:latin typeface="Verdana"/>
              </a:rPr>
              <a:t>The effect of the use upon the potential market for or value of the copyrighted wor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he copying should not harm the market for the original work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pying materials from “consumables,” such as workbooks, weigh heavily against fair use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06E4-1726-4792-8EA7-A3D6C429BE38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air Use Guidelin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0" i="1" lang="en-US" sz="2600" spc="-1" strike="noStrike">
                <a:solidFill>
                  <a:srgbClr val="ffffff"/>
                </a:solidFill>
                <a:latin typeface="Verdana"/>
              </a:rPr>
              <a:t>Fair Use Guidelines for Educational Multimedia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was created to provide guidance on what actually falls within fair us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However, it i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Not a legal docume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Only an interpretation of the law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Only applies to educators who produce multimedi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8F50-3D13-4C75-817B-75F94E96E751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Guidelines for Student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udents and educators have separate guideline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udents may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corporate portions of lawfully acquired copyrighted works when producing their own educational multimedia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jects for a specific course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erform and display their own projects in the cours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r which they were created; an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etain them in their own portfolio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as examples of their academic work for later personal uses such as job and school interview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94DF-DCE3-454A-A10B-9134B6A1AFFD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Educator Guidelin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ducators may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26440" indent="-2250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corporate portions of lawfully acquired copyrighted works when producing educational multimedia projects to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upport their teaching nee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26440" indent="-2250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etain their projects indefinitely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r the following purpose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25600" indent="-298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 perform or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isplay in presentations to their peer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, for example, at workshops and conferenc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25600" indent="-298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etain in their personal portfolio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for personal uses such as promotion or job interview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26440" indent="-2250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their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jects for teaching, for a period of up to two year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after the first instructional use with a clas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25600" indent="-298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structional use beyond that time period requires permission for each copyrighted portion incorporated in the production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80D1-6196-4649-8482-DE3169DB9873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Guidelines In Order to Stay Within Fair Us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5760" y="1371600"/>
          <a:ext cx="8237520" cy="4343400"/>
        </p:xfrm>
        <a:graphic>
          <a:graphicData uri="http://schemas.openxmlformats.org/drawingml/2006/table">
            <a:tbl>
              <a:tblPr/>
              <a:tblGrid>
                <a:gridCol w="2947680"/>
                <a:gridCol w="5289840"/>
              </a:tblGrid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tion Med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or 3 minu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or 1000 word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et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0 words; no more than 3 poems by same author; no more than five poems from any single antholog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sic, Lyrics, Vide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or 30 second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hotos &amp; Illustra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 images from one author; Not more than 10% or 15 images from a single published collected wor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umerical Data Se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of 2500 fields or cel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Text Box 26"/>
          <p:cNvSpPr/>
          <p:nvPr/>
        </p:nvSpPr>
        <p:spPr>
          <a:xfrm>
            <a:off x="457200" y="9144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f the copyrighted work, use the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mallest amount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of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1T04:12:48Z</dcterms:created>
  <dc:creator>Judi Edman</dc:creator>
  <dc:description/>
  <dc:language>en-US</dc:language>
  <cp:lastModifiedBy>Gayle Thieman</cp:lastModifiedBy>
  <dcterms:modified xsi:type="dcterms:W3CDTF">2010-07-25T17:43:59Z</dcterms:modified>
  <cp:revision>291</cp:revision>
  <dc:subject/>
  <dc:title>Copyright Chaos</dc:title>
</cp:coreProperties>
</file>