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7039-AAA0-4BD8-ACEE-B6D661F7A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2476-0491-42E5-81BD-C405FD3E3A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65C5-FE69-43F2-BCA5-2FCBDEBBB4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5C360-F995-405A-A16B-BA98A3B0FB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7F552-FF5C-4283-8358-20A1CB83B8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B5E74-00BC-4275-BAD4-27F8F8A8F6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EDAAC-1F7D-4DD6-BA7A-0BAD2A6DB0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4997D-EAD0-4A19-98F2-F83DBAFEBC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415A5-FABF-4F25-BB0D-0468F4116E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7B19B-963F-4026-8B7A-5B3E7F2C9E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505FF-9DE4-42B5-A066-0CF4226B9A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7F4D4-5856-4B77-AC99-FFBE45AD31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A383D-6E67-412E-A5EC-94602CC6A1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CA1A4-63DF-45DD-A887-2CDF298508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BFE22-0EDC-4E40-ABC8-EA6B37ADC3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A296-E7C6-4C96-AE68-BA4C0371EEE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Picture 9" descr="intelEDU_wht_lrg [Converted]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5" name="Text Box 12"/>
          <p:cNvSpPr/>
          <p:nvPr/>
        </p:nvSpPr>
        <p:spPr>
          <a:xfrm>
            <a:off x="939960" y="637236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intelEDU_wht_lrg [Converted]"/>
          <p:cNvPicPr/>
          <p:nvPr/>
        </p:nvPicPr>
        <p:blipFill>
          <a:blip r:embed="rId2"/>
          <a:stretch/>
        </p:blipFill>
        <p:spPr>
          <a:xfrm>
            <a:off x="6478560" y="28404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457200" y="653904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utsystem.edu/ogc/intellectualproperty/ccmcguid.htm" TargetMode="External"/><Relationship Id="rId2" Type="http://schemas.openxmlformats.org/officeDocument/2006/relationships/hyperlink" Target="http://www.utsystem.edu/OGC/IntellectualProperty/copypol2.htm" TargetMode="External"/><Relationship Id="rId3" Type="http://schemas.openxmlformats.org/officeDocument/2006/relationships/hyperlink" Target="http://www.copyright.gov/circs/circ1.html" TargetMode="External"/><Relationship Id="rId4" Type="http://schemas.openxmlformats.org/officeDocument/2006/relationships/hyperlink" Target="http://www.benedict.com/" TargetMode="External"/><Relationship Id="rId5" Type="http://schemas.openxmlformats.org/officeDocument/2006/relationships/hyperlink" Target="http://www.utsystem.edu/OGC/IntellectualProperty/faculty.htm" TargetMode="Externa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templetons.com/brad/copymyths.html" TargetMode="External"/><Relationship Id="rId2" Type="http://schemas.openxmlformats.org/officeDocument/2006/relationships/hyperlink" Target="http://www.duhaime.org/diction.htm" TargetMode="External"/><Relationship Id="rId3" Type="http://schemas.openxmlformats.org/officeDocument/2006/relationships/hyperlink" Target="http://www.copyright.cornell.edu/training/Hirtle_Public_Domain.htm" TargetMode="External"/><Relationship Id="rId4" Type="http://schemas.openxmlformats.org/officeDocument/2006/relationships/hyperlink" Target="http://www.utsystem.edu/ogc/intellectualproperty/copypol2.htm#mm&#x0d;" TargetMode="Externa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utsystem.edu/ogc/intellectualproperty/copypol2.htm#course" TargetMode="External"/><Relationship Id="rId2" Type="http://schemas.openxmlformats.org/officeDocument/2006/relationships/hyperlink" Target="http://www.utsystem.edu/OGC/IntellectualProperty/imagguid.htm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71600" y="4419360"/>
            <a:ext cx="640080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opyright Chao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ubTitle"/>
          </p:nvPr>
        </p:nvSpPr>
        <p:spPr>
          <a:xfrm>
            <a:off x="2666880" y="3429000"/>
            <a:ext cx="60199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Educator's Guide to Copyright Law and “Fair Use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resentation created for th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0" lang="en-US" sz="12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489B-1C53-4CA9-893B-EAA765B784E7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ttribution and Acknowledgemen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lvl="1" marL="221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redit your sources and display the copyright notic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21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© and copyright ownership informatio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21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21400" indent="-220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rediting the sourc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14440" indent="-291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ive a full bibliographic description with the information that is available (including author, title, publisher, and place and date of publication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21400" indent="-220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play copyright notic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14440" indent="-291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nder pictures, add the copyright ownership information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652680" indent="-136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© (the copyright notice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652680" indent="-136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ear of first public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652680" indent="-136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ame of the copyright hold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022760" indent="-368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ample: © 2001 Company/Person’s Nam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3B32-0A3F-4D13-917B-2406D6E5877F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uture Uses Beyond Fair Us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f there is a possibility that a project could result in broader dissemination (for instance, publication on the Internet): obtain permissions when you create it, rather than waiting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228960" indent="-227520"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ample permission letters are available on the Curriculum Resource C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31360" indent="-301320">
              <a:spcBef>
                <a:spcPts val="10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Resource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lder,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Copyright Resourc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674280" indent="-141480">
              <a:spcBef>
                <a:spcPts val="10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ermission letters to copyright own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674280" indent="-141480">
              <a:spcBef>
                <a:spcPts val="10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ermission letters to parents to publish student wor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674280" indent="-141480">
              <a:spcBef>
                <a:spcPts val="10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n example letter to use in this cour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27A9-1A04-4F98-B18B-2F547CAFFD00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Guidelin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Remember... these are guidelines, not law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However, the further you venture from these guidelines, the more likely you are to be outside of “fair use.”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A715-E930-48A5-AF1A-B1497FD62CBD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ftware Copyrigh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What about software?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of software does not fall under fair use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nless you have specific permission from the copyright owner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t is illegal to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urchase a single user license and load it onto multiple computers or a server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ownload copyrighted software from the Internet or bulletin boar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oad the software your school purchased onto your computer at hom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EE08-CFBB-43F4-BBB8-03875F7FDA1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lvl="1" marL="238680" indent="-23724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dditional resources to help you and your students understand and follow copyright law and fair use guidelines are located in the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Resources, Copyright Resource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folder on the Curriculum Resource CD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-23724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Guidelines For Educational Multimedia”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repared by the Educational Multimedia Fair Use Guidelines Development Committee, July 17, 1996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utsystem.edu/ogc/intellectualproperty/ccmcguid.htm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-23724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Of Copyrighted Materials” by Georgia Harper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utsystem.edu/OGC/IntellectualProperty/copypol2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-23724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Basics” by the U.S. Copyright Office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3"/>
              </a:rPr>
              <a:t>www.copyright.gov/circs/circ1.html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-23724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e Copyright Website” by Benedict O’Mahoney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4"/>
              </a:rPr>
              <a:t>www.benedict.co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-23724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Law in the Electronic Environment”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5"/>
              </a:rPr>
              <a:t>www.utsystem.edu/OGC/IntellectualProperty/faculty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0786-2DAD-4469-AD65-92D28286EBA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10 Big Myths about Copyright Explained” by Brad Templeton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templetons.com/brad/copymyths.htm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uhaime's Legal Dictionary” by Lloyd Duhaime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duhaime.org/diction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Term and the Public Domain in the United States” by Peter B. Hirtle, Cornell Institute for Digital Collectio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3"/>
              </a:rPr>
              <a:t>www.copyright.cornell.edu/training/Hirtle_Public_Domain.htm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Rules Of Thumb For Digitizing And Using Others' Works In Multimedia Materials For Educational Purpose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”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4"/>
              </a:rPr>
              <a:t>www.utsystem.edu/ogc/intellectualproperty/copypol2.htm#m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0E4F-3161-4C10-9155-4E92A3099F30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lvl="1" marL="236160" indent="-23472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Rules Of Thumb For Coursepack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utsystem.edu/ogc/intellectualproperty/copypol2.htm#cours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6160" indent="-23472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 Proposal For Educational Fair Use Guidelines For Digital Images”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utsystem.edu/OGC/IntellectualProperty/imagguid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6160" indent="-23472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ist of Links to Other Copyright Sites by Georgia Harper, University of Texas www.utsystem.edu/OGC/IntellectualProperty/offsite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6160" indent="-234720"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Guidelines for Multimedia” by Intel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Education www.intel.com/education/newtotech/fair_use_multimedia.htm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C1C5-0B89-4086-901F-7745A010C7C7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Information on Software Copyrigh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ct Sheet on School Software Use”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by Software &amp; Information Industry Association (SIIA)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www.siia.net/piracy/pubs/SchoolSoftwareUse.pdf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igital Anarchy: Part One of an Analysis of Software Piracy”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by David Laprad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ww.avault.com/articles/getarticle.asp?name=warez1&amp;page=1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e Federation Against Software Theft (FAST)” (United Kingdom organization) www.fast.org.u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nti-Piracy FAQ” by Software &amp; Information Industry Association (SIIA)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www.siia.net/piracy/faq.asp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ermissible Copying of Software” by Georgia Harper, University of Texas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Verdana"/>
              </a:rPr>
              <a:t>www.utsystem.edu/OGC/IntellectualProperty/mono2.htm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9901-5468-4899-BDDB-325DD075D1F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Use of this Presentatio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is presentation is copyrighted by Intel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t may be used, with copyright notices intact, for not-for-profit, educational purpose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intelEDU_wht_lrg [Converted]"/>
          <p:cNvPicPr/>
          <p:nvPr/>
        </p:nvPicPr>
        <p:blipFill>
          <a:blip r:embed="rId1"/>
          <a:stretch/>
        </p:blipFill>
        <p:spPr>
          <a:xfrm>
            <a:off x="2217600" y="1908000"/>
            <a:ext cx="4953240" cy="2475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457200" y="653904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ECDB-72C5-4D08-959D-6E5F55640528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opyrigh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What is copyright?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e exclusive right to produce or reproduce (copy), to perform in public, or to publish an original literary or artistic work.”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spcBef>
                <a:spcPts val="64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Duhaime's Law Dictionary 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lmost everything created privately and originally after March 1, 1989 is copyrighted and protected whether it has a notice or not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C050-83FC-485A-A83D-05F30D5C8C92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Items Not Copyrighted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lvl="1" marL="233640" indent="-2325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amples of what are not protected by copyright la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orks that have not been written or record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deas, procedures, methods, discoveries, etc. as distinguished from a description, explanation, or illustr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orks consisting entirely of common information or compilations (for example: standard calendars, tape measures and rulers, telephone book, etc.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tems in the public domain (all works created before 1923 and most between 1923-1963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st U.S. government materials (some items created by contractors for the government might be copyrighted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a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33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0C0A-0228-4305-9AC4-460B56B9758E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air Use Claus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air use is a part of the United States Copyright law. It allows people to use and make copies of copyrighted works if they are using them for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riticis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mm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ews report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ach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cholarshi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searc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Sec. 107 of the Fair Use Provision of the Copyright Act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2FC2-8C29-46B2-A3E5-2DE58431EC31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our Factors Help Determine Fair Us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4520" indent="-343080">
              <a:spcBef>
                <a:spcPts val="799"/>
              </a:spcBef>
              <a:buClr>
                <a:srgbClr val="f5e647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e647"/>
                </a:solidFill>
                <a:latin typeface="Verdana"/>
              </a:rPr>
              <a:t>The purpose and character of the use, including whether such use is of a commercial nature or is for nonprofit educational purpos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You must be using it for educational use, not just using it in a school environmen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-343080">
              <a:spcBef>
                <a:spcPts val="799"/>
              </a:spcBef>
              <a:buClr>
                <a:srgbClr val="f5e647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e647"/>
                </a:solidFill>
                <a:latin typeface="Verdana"/>
              </a:rPr>
              <a:t>The nature of the copyrighted work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air use applies more narrowly to highly creative works—in comparison to those that are mostly fact-based in natu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-343080">
              <a:spcBef>
                <a:spcPts val="799"/>
              </a:spcBef>
              <a:buClr>
                <a:srgbClr val="f5e647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e647"/>
                </a:solidFill>
                <a:latin typeface="Verdana"/>
              </a:rPr>
              <a:t>The amount and substantiality of the portion used in relation to the copyrighted work as a whol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nsideration of quantity &amp; quality...using only what is 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necessary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and not the  “heart” of the work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-343080">
              <a:spcBef>
                <a:spcPts val="799"/>
              </a:spcBef>
              <a:buClr>
                <a:srgbClr val="f5e647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e647"/>
                </a:solidFill>
                <a:latin typeface="Verdana"/>
              </a:rPr>
              <a:t>The effect of the use upon the potential market for or value of the copyrighted wor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he copying should not harm the market for the original work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pying materials from “consumables,” such as workbooks, weigh heavily against fair use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D8C5-AA61-44B7-B638-7EB4A4483A3A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air Use Guidelin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0" i="1" lang="en-US" sz="2600" spc="-1" strike="noStrike">
                <a:solidFill>
                  <a:srgbClr val="ffffff"/>
                </a:solidFill>
                <a:latin typeface="Verdana"/>
              </a:rPr>
              <a:t>Fair Use Guidelines for Educational Multimedia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was created to provide guidance on what actually falls within fair us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However, it i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Not a legal docume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Only an interpretation of the law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Only applies to educators who produce multimedi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D451-FC18-4006-8AF0-D52FC598F718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Guidelines for Student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udents and educators have separate guideline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udents may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corporate portions of lawfully acquired copyrighted works when producing their own educational multimedia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jects for a specific course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erform and display their own projects in the cours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r which they were created; an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etain them in their own portfolio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as examples of their academic work for later personal uses such as job and school interview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E658-9FAC-4C42-844E-DD0DA17776CA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Educator Guidelin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ducators may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26440" indent="-2250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corporate portions of lawfully acquired copyrighted works when producing educational multimedia projects to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upport their teaching nee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26440" indent="-2250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etain their projects indefinitely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r the following purpose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25600" indent="-298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 perform or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isplay in presentations to their peer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, for example, at workshops and conferenc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25600" indent="-298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etain in their personal portfolio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for personal uses such as promotion or job interview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26440" indent="-2250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their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jects for teaching, for a period of up to two year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after the first instructional use with a clas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25600" indent="-298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structional use beyond that time period requires permission for each copyrighted portion incorporated in the production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6307-62C6-4F12-8A0E-8084B1AE6C71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Guidelines In Order to Stay Within Fair Us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5760" y="1371600"/>
          <a:ext cx="8237520" cy="4343400"/>
        </p:xfrm>
        <a:graphic>
          <a:graphicData uri="http://schemas.openxmlformats.org/drawingml/2006/table">
            <a:tbl>
              <a:tblPr/>
              <a:tblGrid>
                <a:gridCol w="2947680"/>
                <a:gridCol w="5289840"/>
              </a:tblGrid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tion Med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or 3 minu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or 1000 word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et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0 words; no more than 3 poems by same author; no more than five poems from any single antholog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sic, Lyrics, Vide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or 30 second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hotos &amp; Illustra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 images from one author; Not more than 10% or 15 images from a single published collected wor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umerical Data Se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of 2500 fields or cel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Text Box 26"/>
          <p:cNvSpPr/>
          <p:nvPr/>
        </p:nvSpPr>
        <p:spPr>
          <a:xfrm>
            <a:off x="457200" y="9144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f the copyrighted work, use the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mallest amount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of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1T04:12:48Z</dcterms:created>
  <dc:creator>Judi Edman</dc:creator>
  <dc:description/>
  <dc:language>en-US</dc:language>
  <cp:lastModifiedBy>Gayle Thieman</cp:lastModifiedBy>
  <dcterms:modified xsi:type="dcterms:W3CDTF">2010-07-25T17:43:59Z</dcterms:modified>
  <cp:revision>291</cp:revision>
  <dc:subject/>
  <dc:title>Copyright Chaos</dc:title>
</cp:coreProperties>
</file>